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008813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2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008840" cy="922320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24">
                <a:moveTo>
                  <a:pt x="4" y="0"/>
                </a:moveTo>
                <a:arcTo wR="4" hR="4" stAng="16200000" swAng="-5400000"/>
                <a:lnTo>
                  <a:pt x="0" y="28420"/>
                </a:lnTo>
                <a:arcTo wR="4" hR="4" stAng="10800000" swAng="-5400000"/>
                <a:lnTo>
                  <a:pt x="21596" y="28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98080" y="690120"/>
            <a:ext cx="4611960" cy="34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3900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3971880" y="8760960"/>
            <a:ext cx="30369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66A05-311A-4D2A-8C57-60CF854C3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I can pretty much read this one straight through and provide details in following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3918CD-34D1-47B6-886D-199FCA4020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B77256-E46D-477D-B6AD-80C22CABDE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DE4A00-8D6B-4920-A29C-0ECA078CE5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965583-EF49-47E1-8AC4-64C61205C0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2365E8-67DF-4862-8B11-2F2B0C4510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9D3C04-977B-437E-9209-CD26A0CEE5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B71B80-86F4-4783-9E71-7D49F3FD6B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52B4D1-16C4-4BC9-B0F5-E426DA7993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4BBEDF-4ED3-4EA9-99B1-0EC4CD4D71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C93AAA-F09A-4D81-B954-B70537B0B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0A8440-3072-4DB0-BAA2-86A765BD6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I can pretty much read this one straight through and provide details in following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9BAF31-E9BA-4A0C-BBB1-7462497BF9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E3C729-312E-4B8E-93AE-E477413B24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6A7BA-5E11-4CCD-B759-5BF28E090A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5774FB-1720-4A38-A934-FD3AB789AD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61017F-51F2-4004-B05C-5733CE6DEC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72B500-E8FC-4C36-BB22-FFE625D3C6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DF1F9-A7B0-450C-B936-13F1280ACB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D8DF59-143F-4CC4-8484-69FDD8154C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AEDE6A-D3A4-45F2-8AC5-A096A4C28F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FB628-66A3-43D8-BE0D-70E645B4AB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C4A2E7-B1BD-497B-9FE3-88255ECBDF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B43A2D-4210-4A3C-BFD9-AE5FD38F04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ADEC6-38B8-4319-BB69-6FDE3078AF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E67165-9C90-40D2-9F57-31042A89E3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312A48-6C54-435A-B493-36246F6CBF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4CDBF-C4CE-45EB-ADD8-659A3B4D7C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95CA38-3FA6-40AB-80FD-04358B6DCD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9A4D2-78C8-4D7F-B501-9232D1B737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BCD523-7874-4003-B902-90CC772A1B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8689B9-5B53-4CCA-9433-96A986C338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A6EEF-8161-44AC-86DC-CD53BA0FD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FF2CE6-B627-407D-88B9-E4055A4A66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663A0D-9191-4CEF-884E-36D557F336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078DF5-955D-4C30-BB9A-749E58DC76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EC1490-51A4-47D8-94B4-9053B246FF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C4FB2-162B-4CA5-8FB6-BBFC6572AB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8440" y="690480"/>
            <a:ext cx="4613400" cy="3459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381200"/>
            <a:ext cx="5140440" cy="4151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Since economies of scale are in play, larger DC is in favor. So the HW blocks can be enum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How do you design for best performan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71880" y="876132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04567-C1FE-46E8-9CDC-A9FE12F238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25E9-0450-49FD-AF14-110BA2E76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83CE-77E7-46A9-8F48-CF66BC63D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601D-4E46-46E8-98B6-1C7C31B9B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52B5-F6DC-40A5-B3A8-3A94659E6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0DC1-613A-45D9-A8A8-6F22033893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3679-4013-48A5-8DD4-8A0442E778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91A0-E4E1-4C16-8C43-5E5F14C4EC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8E5B-05C3-4CAA-91AE-EA840E78A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9E7A-2700-4EA3-9A15-0250E5506D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FBEA1-7001-4D32-85CB-C998676019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B776-8F7E-4960-9F18-DC9F40966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1690-8FC7-45A8-A031-5905C6215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9FA8-1F88-4031-AE5D-3C09DB0753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E4819-8468-479E-9898-7C99EE1CE1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E35BA-5C01-452D-913D-D6FC475A5C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F507-AE40-4143-931E-3377078B08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288E-C67E-4D43-A00C-7E156B7BA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515A-0497-43C3-B242-839B36AAD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5D3B-FB64-4C2D-88CA-93B977D31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A8FF-F2B7-493F-8779-1FA462249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8FC7-DA4E-41E8-A5B9-B95D2E4EF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75D4-C3D4-4207-B4D6-A6834A6A7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A335-9ED1-4460-8CB4-A58B302E1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4E67-2AB1-415C-A153-99F0E1B7C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D469C4-29AB-4745-8800-1A56BD4F240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D94393-2C99-48C8-A867-92209143661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ites.google.com/site/sitenam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SaaS? Why Sa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aS vs PaaS and I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aS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SaaS Services Abstraction for different Business S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Customer Relationship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Human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Fina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Collab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Backup &amp;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Industry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92FDC-0D11-4C17-AFA0-01A2076C8F3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57200"/>
            <a:ext cx="808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818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144792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Moving from on-premise software to SaaS requires paradigm shift in the following three area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2EF0A2-F1DF-4A65-9B81-9722B8725B5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37228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Application Architecture: SaaS Maturity Model: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B7F35-24E1-4AA4-B409-AA9C88A85D4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315200" cy="44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4479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Level-1: Ad Hoc/Custom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8F25EF-1E94-45A4-A47B-AF8DE0BFAFBF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1881360"/>
            <a:ext cx="3962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Similar to ASP mod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Each customer has its own customized version of the hosted application, and runs its own instance of the application on the host’s serv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This level offers very few of the benefits of a fully mature SaaS sol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3306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1447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Level-2: Configurable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C055E5-2E63-4086-91D2-98E6D96BD6DB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1576440"/>
            <a:ext cx="396216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Vendor hosts a separate instance of the application for each ten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Same code, no need to maintain customized application code ba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Easier to support/maintain since only single instance needs to be upda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More expensive than level-1 in terms of effort requi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34797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14479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Level-3: Configurable &amp; Multi-tenant Efficient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CA9651-BC63-4BF5-ABCC-C48B3ECBFF1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2209680"/>
            <a:ext cx="396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Single instance that serve every customer, with configurable meta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Authorization &amp; Security policies ensure that each customer data is kept priv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Eliminate the need to provide server space for as many instances as the vendor has custom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54348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Level-4: Scalable, Configurable &amp; Multi-tenant Efficient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A5250-E50B-4D25-88A0-9AA61A92B15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209680"/>
            <a:ext cx="396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Vendor hosts multiple customers on a load-balanced farm of identical insta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Scalable because servers can be added on-dem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PMingLiU"/>
              </a:rPr>
              <a:t>Changes or fixes can be rolled-out to thousands of tena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Business Model: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926472-895D-4EC6-909B-384051537E8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1523880"/>
            <a:ext cx="5029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Shifting the ownership of the software from the customer to an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Reallocating responsibility for the technology infrastructure and Mgmt from the customer to the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38280" y="1943280"/>
            <a:ext cx="2562120" cy="1866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57243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Business Model: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7C6B22-A1DC-4003-8285-3B1153CB0A6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1523880"/>
            <a:ext cx="5029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Reducing the cost of providing software services, through specialization and economy-of-sc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SaaS Hardware costs get shared by all tenants resulting in economy-of-sc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562120" cy="1866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451476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Operational Structure: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7EFE84-15C1-433C-8BC4-815118A8668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1905120"/>
            <a:ext cx="4267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SaaS providers not only have to be experts in building software and bringing it to market, they must also become expert in operating &amp; managing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PMingLiU"/>
              </a:rPr>
              <a:t>Monitoring SaaS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315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o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3156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3051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It is hard to provide any abstraction to SaaS services or to classify them based on the technology or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They are typically diverse and can be based on any web-based tools to implement the application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Below we will cover an overview of the types of software they represent, the range of business sectors they span, and the functionality they can deliver and scale-on-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5648EA-19F5-49B9-B488-337CCEA4CA5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SaaS? Why Sa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aS vs PaaS and I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aS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SaaS Services Abstraction for different Business S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Customer Relationship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Human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Fina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Collab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Backup &amp;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34920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Noto Sans CJK SC"/>
              </a:rPr>
              <a:t>Industry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AACE61-1820-4B87-90B5-0957BA8403E9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57200"/>
            <a:ext cx="808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818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7200" y="1600200"/>
            <a:ext cx="84582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cc00cc"/>
                </a:solidFill>
                <a:uFillTx/>
                <a:latin typeface="Arial"/>
                <a:ea typeface="PMingLiU"/>
              </a:rPr>
              <a:t>CRM examples include</a:t>
            </a: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Arial"/>
                <a:ea typeface="PMingLiU"/>
              </a:rPr>
              <a:t>Salesforce.co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 which includes account management, opportunity tracking, and marketing campaing 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Arial"/>
                <a:ea typeface="PMingLiU"/>
              </a:rPr>
              <a:t>NetSuit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provides set of services including: NetSuite, NetSuite CRM+, NetSuite Global CRM, Dedicated Server Options, OpenAir, and Payro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Arial"/>
                <a:ea typeface="PMingLiU"/>
              </a:rPr>
              <a:t>SugarCRM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s an open source software solution based on LAMP (Linux, Apache, MySQL, and PHP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Salesforce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Best known SaaS offering consists of the following modules: Sales, Service &amp; Support, Partner Relationship Mgmt, Marketing and Leads, Content, Ideas and Analy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t is available in 20 languages and can be accessed from any Internet device including mobile platforms like Blackberry, iPhone, and Windows Mobi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5A1D92-6E38-43D7-B4BB-4AC9CE41593E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1523880"/>
            <a:ext cx="815328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Users can customize their CRM applications and can add user-defined custom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Salesforce.c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provides a Web Services API for data manipulation (e.g., SELECT, INSERT, UPDATE, DE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NetSu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Best known SaaS offering consists of the following modu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Sales,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Primary featur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ipeline and opportun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rd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dvanced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ncentiv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Upsel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ccoun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336E2-E451-47C4-9753-4FFBF62BEE1E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SugarC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s not an on-demand service; it is an open source based on 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s attractive from SaaS perspective as it is for free and downlo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ncludes sales-force automation, marketing campaigns and customer support, and collaboration and reporting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re are many pre-packaged machines that have SugarCRM with a base configuration ready for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Sugar Data Center Edition (DC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supplement SaaS with a set of tools for provisioning, monitoring and reporting, as well as the ability to manage/deploy multiple instances from a central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C195A8-20CF-4B52-BB3C-8F40593FB82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Human Resources (HR) or Human Capital Management (HCM) includes administration processes to support personnel functions (e.g., recruiting, developing, and retaining employ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Due to the confidential nature, some companies would be worried placing such information outside their fire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Workda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Provides features lik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Absence (accrued vacation), Compensation (salary, equity), Benefits (medical, dental, vision), Staffing (headcount, position management, etc.), Development (business performance through talent management), and Performance management (performance revie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C3902D-D6B0-4894-8532-CA2C97A20E1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Tale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Another SaaS provider in the HR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Provides features like: Recruitment, Performance Management, Employee lifecycle, Career Management, and Succession Plann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aleo exposes a SOAP-based Web Services API that developers can leverage to integrate HR functions and data in other applica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199604-14D5-4EBE-A7F7-6B9075C0B2C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1652760"/>
            <a:ext cx="838188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Financial services ranges from accounting, procurement and inventory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Workda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n addition to human capital Mgmt, financial related services include: Payroll, Worker Spend Mgmt, Financial Accounts, Supplier Accounts, Cash Mgmt, and Procur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Netsui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Supports back-office operations and business processes including: Financial Mgmt, Financial Planning, Inventory and Supply Chain, Order Mgmt, Service Resource Planning, and Human Capital Mgmt (HCM) and BI &amp; Analy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Intu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s a software company that develops financial and Tax preparation software known for Quicken and Turbo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CC7362-AA69-42C6-B449-4235E80432DF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652760"/>
            <a:ext cx="815328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Since collaboration involves establishing connectivity between people, it is natural to be based on networking and utilizing common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Web 2.0 services are almost exclusively delivered over the Interne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 Cloud candidate.  Some traditional applications, such as desktop productivity and conferencing, are also candidate to leverage Cloud Compu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Google Ap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PMingLiU"/>
              </a:rPr>
              <a:t>Google Mail (Gmai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s a web mail service supporting thread-structured and search-oriente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At the Back/End, Gmail runs on Google Servlet Engine &amp; Linux-based Google GFE/1.3, and supports POP3 &amp; IMAP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4C3D2C-0627-45E2-92F5-4C0BBF8BB18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1600200"/>
            <a:ext cx="815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Extensive use of Asynchronous Javascript &amp; XML (AJAX) to pre-fetch and pre-send information w/o user refresh; dramatically better respon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Gmail supports spam filtering; when user marks an email as spam, Gmail leverages this information to identify similar future messages for all Gmai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Google Calen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s an AJAX-driven time management web application; viewing, adding, and modifying entries. The AJAX interface allows drag-and-drop events from one date to another w/o reloading th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ncludes also offline support and to-do lists. Multiple calendars can be shown in single view. Calendars can be shared with appropriate access control, i.e., Read-Only or Full Contro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B88724-FE80-47D3-BA8D-31C88381FED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Google Talk (Gtalk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s a Windows web-based instant messaging and Internet telephony. Instant Messaging uses the standard eXtensible Messaging and Presence Protocol (XMPP). Internet Telephony uses on Voice-over-IP and is based on the Jingle protocol, a P2P extension to XMPP by 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Google Do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s a web-based desktop application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338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Supports creating/editing documents (Documents, spreadsheet, presentations) online while collaborating in real-time with other users within the application itself, imported through the web interface or sent via email.  They can also be saved to the user’s computer in a variety of formats (OpenDoc, OpenOffice, HTML, PDF, RTF, Text, MS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012954-D2DC-47C1-9DF2-CFFFABBE458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1805040"/>
            <a:ext cx="815328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Google Docs serves as a collaboration tool for editing amongst users in real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or Microsoft Office, users may find uploading changed documents via a browser to be tediou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Google offers free plug-in that automatically synchronizes edits in the Word, Excel, and PowerPoint with Google Docs; it supports multi-user concurrent editing, synchronization of both online and offline modifications including conflict resolution and a revision history for possible rollback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7C8BAD-D62A-499B-80E6-8BE753E87A2B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Sa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is software deployed as a hosted service and accessed over the Internet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Examples inclu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alesForce.com, NetSuite, Google, Hotmail, Yahoo!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Saa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is a software delivery method that provides access to software and its functions remotely as a web-base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Saa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llows organizations to access business functionality at a cost typically less than paying for licensed applications since SaaS is based on a monthly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don’t need to invest as much in  hardware, server support, security audits and need fewer in-house IT-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80010C-0304-4D35-9019-251384623F3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What is SaaS? Why Sa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" y="1805040"/>
            <a:ext cx="815328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Google Si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Is a structured Wiki offering that support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eb address of the form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PMingLiU"/>
                <a:hlinkClick r:id="rId1"/>
              </a:rPr>
              <a:t>http://sites.google.com/site/sit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imited number of t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Limited use of HTML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bility to insert Videos from Google Video/YouTube, Google Docs, Google Calendar, Google Maps, AdWords and AdS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58602-9E1C-401B-8D84-3559D210ACE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57200" y="15238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Microsoft Onlin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ncludes set of services for consumers and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PMingLiU"/>
              </a:rPr>
              <a:t>Windows Live (consu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t caters to common requirements of home users &amp; small businesses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Family safet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parental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Mail cli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for Windows Live Hotmail, Gmail, Yahoo! Mail, and any POP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Me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file synchronization between user desktops, other computers and cloud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Messeng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Instant Messaging cl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Movie Mak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Video edi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Photo Galle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photo management &amp; sha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Writ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(Desktop blog publishing appl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Window Live SkyDri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is an online file storage &amp; sharing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Office Web-App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is a web-based edition of Microsoft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14250-0276-401E-A55A-64DC1FAC5B08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1652760"/>
            <a:ext cx="82296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Office 365 (enterpr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t is multi-tenant model with attractive price points for small organizations. Dedicated option provides higher degree of isolation typically required by larger organiz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Arial"/>
                <a:ea typeface="PMingLiU"/>
              </a:rPr>
              <a:t>Main Components includ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Exchange On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: With ForeFront anti-virus checking &amp; spam filt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SharePoint On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: Offers content management with version control, Wiki, blogs and RSS f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Lync On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: provides presence capability and instant mess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Microsoft Professional Plus in Office 36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: comparable to Microsoft Volume Licensing; licensing month-to-month on a per-user ba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80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PMingLiU"/>
              </a:rPr>
              <a:t>Office Web Ap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: Is a browser version of Microsoft Excel, Word, and Power Point similar to what is offered under Windows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9DBB2-5E9D-4FF7-87C1-F1261F81517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Cisco Web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Arial"/>
                <a:ea typeface="PMingLiU"/>
              </a:rPr>
              <a:t>It is one among few Web presentation tool including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Citrix, GoToMeeting, Dimdim, and Cisco Webe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Each has its own strengths and weaknesses.  For example, Cisco Webex combines real-time collaboration with phone conferenc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Users can share documents, presentations, and applications, passing control to anyone in the me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nclude video from multiple webcams and use integrated VoIP, audio broadcast or dial-in conferencing or hybrid combin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76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PMingLiU"/>
              </a:rPr>
              <a:t>It is possible to record, edit, and play back meetings after the event for review and compliance purpo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EE850D-1BB9-4CEF-80E5-7DD1D87B6F85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Cloud-based backup is more practical over on-site alternatives; because it is remote it is resilient to many risks such as natural disasters and local ou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Example include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  <a:ea typeface="PMingLiU"/>
              </a:rPr>
              <a:t>Box.N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, which doubles as collaboration tool, and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  <a:ea typeface="PMingLiU"/>
              </a:rPr>
              <a:t>SugarSyn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, which leverages Online backup and storage  to provide vehicle to synchronize multiple user de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Moz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s a personal backup solution; allows users to specify folders and files to be backed-up to the cloud on a regular basis; incremental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Z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s a backup that is based on the Amanda open-source backup software and provides central administration; is not cloud solution. Provides an option to back the data up to Amazon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611287-B6A2-48C4-A3EC-CF3B2082521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Backup &amp;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1652760"/>
            <a:ext cx="84582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The most promising areas for cloud services will be delivering vertical solutions to automate processes in particular indu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Healthc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PMingLiU"/>
              </a:rPr>
              <a:t>Pharmacy OneSour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offers set of services in healthcare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Sentri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s a real-time patient surveillance system that provides a list of hospital/patients who are at risk from medication-related f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ScheduleR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s Online pharmacy staff scheduling that streamlines creating, changing, and communicating staff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Quanti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s a customizable clinical documentation and reporting tool for hospital pharmacies an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Transport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Active On-dem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’s APT is an Internet-based transportation management system (TMS) that connects commercial shippers with hand-delivered cou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3E9A0D-08B5-4DB7-A2B3-B8067C300E55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Industr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1576440"/>
            <a:ext cx="815328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Logis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PMingLiU"/>
              </a:rPr>
              <a:t>One Networ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ffers solutions in the retail and consumer products sector, and supplies technology for logistics 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Data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brings together the supply chain community of retailers, suppliers and carriers via data sharing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Order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automated order process between sales representative, customers, suppliers an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ntegrates demand signals across each node to facilitate control over the purchas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Manufactu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end-to-end process flow for manufacturers from production to purchasing to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Inventory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offers inventory visibility and management across multi-part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Deploy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coordinate activities of deployment planning and execution to meet customer’s service levels with lowest tot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4D2DD7-35DF-4A46-9B86-BCF95138F7EB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Industr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1652760"/>
            <a:ext cx="8153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Demand Driven Logi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s a multi-tenant, multi-party, sense and respond solution for transportation &amp; appointment schedu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Demand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integrates retailer and its suppliers in processes around shelf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Replenis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defines replenishment policies ranging from static to dynamic, and postponement techniques to achieve accurate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Store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 Aligns all the processes around store shelf, continuously adjusting forecasts according to latest demand patterns, using analy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760" indent="-345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PMingLiU"/>
              </a:rPr>
              <a:t>Spare Pa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 module to manage and replenish spar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6BD9AC-CFDE-4E9A-B448-4AE6053CDFDE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Services Abstraction for different Business Sectors: Industr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1818ff"/>
                </a:solidFill>
                <a:latin typeface="Arial"/>
                <a:ea typeface="PMingLiU"/>
              </a:rPr>
              <a:t>Summary and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4720" y="1512720"/>
            <a:ext cx="810576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aaS is going to have a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major impact on the software indus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, because SaaS will change the way peop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bui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Significant difference is the amount of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 user has over the service between SaaS and “PaaS or Ia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Moving from on-premise software to Saa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requires paradigm shift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in the following three areas: Application Architecture, Business Model and Operatio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It is hard to provide any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abstraction to SaaS service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or to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classify th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based on the technology or appro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E61BA-EAA0-4017-AD61-A7C41ABAE20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6F782-A4ED-4213-A501-F6E761B9D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Key Advantages for the En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Lower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Smaller storage &amp; hardwar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Fewer Personnel; no maintenance, monitoring, or software up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PMingLiU"/>
              </a:rPr>
              <a:t>Key Advantage for the Ven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Continuous and recurring stream of in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Reduced losses from piracy and unlicensed use of softw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Greater valuation for the compan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652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One-to-many application delivery model based on single instance, multi-tenant architecture (SalesForce.c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F9635-D9A9-4087-916A-28B4FB24130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What is SaaS? Why Sa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Targeting the “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PMingLiU"/>
              </a:rPr>
              <a:t>long ta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” of smaller businesses, by reducing the minimum cost at which software can be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C912A5-0D11-430A-9E76-4E60F403B57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What is SaaS? Why Sa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66748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Significant difference is the amount of control a user has over the ser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cc00cc"/>
                </a:solidFill>
                <a:latin typeface="Arial"/>
                <a:ea typeface="PMingLiU"/>
              </a:rPr>
              <a:t>PaaS: </a:t>
            </a:r>
            <a:r>
              <a:rPr b="0" lang="en-US" sz="2100" spc="-1" strike="noStrike">
                <a:solidFill>
                  <a:srgbClr val="993300"/>
                </a:solidFill>
                <a:latin typeface="Arial"/>
                <a:ea typeface="PMingLiU"/>
              </a:rPr>
              <a:t>Microsoft Az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: user has no control over the OS, security features or the ability to install software applications – other than your own applications developed specifically for Azure. </a:t>
            </a:r>
            <a:r>
              <a:rPr b="0" lang="en-US" sz="2100" spc="-1" strike="noStrike">
                <a:solidFill>
                  <a:srgbClr val="993300"/>
                </a:solidFill>
                <a:latin typeface="Arial"/>
                <a:ea typeface="PMingLiU"/>
              </a:rPr>
              <a:t>Google App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and </a:t>
            </a:r>
            <a:r>
              <a:rPr b="0" lang="en-US" sz="2100" spc="-1" strike="noStrike">
                <a:solidFill>
                  <a:srgbClr val="993300"/>
                </a:solidFill>
                <a:latin typeface="Arial"/>
                <a:ea typeface="PMingLiU"/>
              </a:rPr>
              <a:t>Force.com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have similar limitations to Az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All OS updates, versions, patches, security are controlled and implemented by the PaaS provi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cc00cc"/>
                </a:solidFill>
                <a:latin typeface="Arial"/>
                <a:ea typeface="PMingLiU"/>
              </a:rPr>
              <a:t>IaaS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PMingLiU"/>
              </a:rPr>
              <a:t> user selects the configuration (server size, OS, App software) and then has complete responsibility for the maintenance of the system; security patch is your responsibility. Want to install new application or database – feel free, it is your 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A6F3F9-9616-484A-A3AB-A8A3609061F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vs. PaaS vs. Ia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SaaS differs from PaaS and Ia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in that it provides a service that is directly consumable by the end-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while IaaS and PaaS provides Infrastructure and Platforms where system managers and developers can install their applications but they provide little value to a non-technical end-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Sa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provides the full stack of clou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With Sa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service provider licenses applications and provisions them to end-users on-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  <a:ea typeface="PMingLiU"/>
              </a:rPr>
              <a:t>Sa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is centrally managed and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SaaS has some similarities with recent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PMingLiU"/>
              </a:rPr>
              <a:t>Application Service Providers (ASPs) – hosted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, but they are quite different in their approach to multi-te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  <a:ea typeface="PMingLiU"/>
              </a:rPr>
              <a:t>SaaS eliminat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for end-user worries about licensing, scalability, and ties customer cost to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088823-785F-4A3F-8520-1EBA4153630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vs. PaaS vs. I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4943BA-8E65-4FE1-98E8-687CE6D0131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1818ff"/>
                </a:solidFill>
                <a:latin typeface="Arial"/>
              </a:rPr>
              <a:t>SaaS vs. PaaS vs. I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920" y="1295280"/>
            <a:ext cx="8456040" cy="4689720"/>
            <a:chOff x="304920" y="1295280"/>
            <a:chExt cx="8456040" cy="4689720"/>
          </a:xfrm>
        </p:grpSpPr>
        <p:sp>
          <p:nvSpPr>
            <p:cNvPr id="139" name=""/>
            <p:cNvSpPr/>
            <p:nvPr/>
          </p:nvSpPr>
          <p:spPr>
            <a:xfrm>
              <a:off x="884160" y="1295280"/>
              <a:ext cx="1303560" cy="4681800"/>
            </a:xfrm>
            <a:custGeom>
              <a:avLst/>
              <a:gdLst>
                <a:gd name="textAreaLeft" fmla="*/ 63360 w 1303560"/>
                <a:gd name="textAreaRight" fmla="*/ 1240200 w 1303560"/>
                <a:gd name="textAreaTop" fmla="*/ 63360 h 4681800"/>
                <a:gd name="textAreaBottom" fmla="*/ 4618440 h 4681800"/>
              </a:gdLst>
              <a:ahLst/>
              <a:rect l="textAreaLeft" t="textAreaTop" r="textAreaRight" b="textAreaBottom"/>
              <a:pathLst>
                <a:path w="21600" h="77562">
                  <a:moveTo>
                    <a:pt x="3600" y="0"/>
                  </a:moveTo>
                  <a:arcTo wR="3600" hR="3600" stAng="16200000" swAng="-5400000"/>
                  <a:lnTo>
                    <a:pt x="0" y="73962"/>
                  </a:lnTo>
                  <a:arcTo wR="3600" hR="3600" stAng="10800000" swAng="-5400000"/>
                  <a:lnTo>
                    <a:pt x="18000" y="775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(on-premise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57080" y="2178000"/>
              <a:ext cx="1557360" cy="3799080"/>
              <a:chOff x="757080" y="2178000"/>
              <a:chExt cx="1557360" cy="3799080"/>
            </a:xfrm>
          </p:grpSpPr>
          <p:sp>
            <p:nvSpPr>
              <p:cNvPr id="141" name=""/>
              <p:cNvSpPr/>
              <p:nvPr/>
            </p:nvSpPr>
            <p:spPr>
              <a:xfrm>
                <a:off x="757080" y="518796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storag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7080" y="475776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ser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7080" y="561816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network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080" y="3898800"/>
                <a:ext cx="1557360" cy="357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57080" y="346860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middlew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57080" y="432756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virtualiz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57080" y="260820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7080" y="217800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57080" y="3038400"/>
                <a:ext cx="1557360" cy="35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1e74af"/>
                  </a:gs>
                  <a:gs pos="100000">
                    <a:srgbClr val="279ae9"/>
                  </a:gs>
                </a:gsLst>
                <a:lin ang="16200000"/>
              </a:gradFill>
              <a:ln w="9360">
                <a:solidFill>
                  <a:srgbClr val="3d97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runtim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617400" y="2178000"/>
              <a:ext cx="130320" cy="3799080"/>
            </a:xfrm>
            <a:custGeom>
              <a:avLst/>
              <a:gdLst>
                <a:gd name="textAreaLeft" fmla="*/ 83160 w 130320"/>
                <a:gd name="textAreaRight" fmla="*/ 130680 w 130320"/>
                <a:gd name="textAreaTop" fmla="*/ 0 h 3799080"/>
                <a:gd name="textAreaBottom" fmla="*/ 3799440 h 379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304920" y="3402000"/>
              <a:ext cx="399960" cy="126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2271600" y="1295280"/>
              <a:ext cx="2373120" cy="4681800"/>
              <a:chOff x="2271600" y="1295280"/>
              <a:chExt cx="2373120" cy="4681800"/>
            </a:xfrm>
          </p:grpSpPr>
          <p:sp>
            <p:nvSpPr>
              <p:cNvPr id="153" name=""/>
              <p:cNvSpPr/>
              <p:nvPr/>
            </p:nvSpPr>
            <p:spPr>
              <a:xfrm>
                <a:off x="2595240" y="1295280"/>
                <a:ext cx="1812960" cy="4681800"/>
              </a:xfrm>
              <a:custGeom>
                <a:avLst/>
                <a:gdLst>
                  <a:gd name="textAreaLeft" fmla="*/ 88200 w 1812960"/>
                  <a:gd name="textAreaRight" fmla="*/ 1724760 w 1812960"/>
                  <a:gd name="textAreaTop" fmla="*/ 88200 h 4681800"/>
                  <a:gd name="textAreaBottom" fmla="*/ 4593600 h 4681800"/>
                </a:gdLst>
                <a:ahLst/>
                <a:rect l="textAreaLeft" t="textAreaTop" r="textAreaRight" b="textAreaBottom"/>
                <a:pathLst>
                  <a:path w="21600" h="55773">
                    <a:moveTo>
                      <a:pt x="3600" y="0"/>
                    </a:moveTo>
                    <a:arcTo wR="3600" hR="3600" stAng="16200000" swAng="-5400000"/>
                    <a:lnTo>
                      <a:pt x="0" y="52173"/>
                    </a:lnTo>
                    <a:arcTo wR="3600" hR="3600" stAng="10800000" swAng="-5400000"/>
                    <a:lnTo>
                      <a:pt x="18000" y="5577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ia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723760" y="2178000"/>
                <a:ext cx="1557720" cy="3799080"/>
                <a:chOff x="2723760" y="2178000"/>
                <a:chExt cx="1557720" cy="3799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723760" y="518796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torag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723760" y="475776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erv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723760" y="561816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network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723760" y="3898800"/>
                  <a:ext cx="1557720" cy="3571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723760" y="346860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middlew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23760" y="432756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virtualiz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723760" y="260820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723760" y="217800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applica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723760" y="3038400"/>
                  <a:ext cx="155772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run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 flipH="1">
                <a:off x="4290480" y="4289400"/>
                <a:ext cx="215640" cy="166680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0 h 1666800"/>
                  <a:gd name="textAreaBottom" fmla="*/ 1667160 h 166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4250880" y="4316040"/>
                <a:ext cx="393480" cy="165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operator 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92000" y="2178000"/>
                <a:ext cx="124920" cy="2079720"/>
              </a:xfrm>
              <a:custGeom>
                <a:avLst/>
                <a:gdLst>
                  <a:gd name="textAreaLeft" fmla="*/ 79920 w 124920"/>
                  <a:gd name="textAreaRight" fmla="*/ 125280 w 124920"/>
                  <a:gd name="textAreaTop" fmla="*/ 0 h 2079720"/>
                  <a:gd name="textAreaBottom" fmla="*/ 2080080 h 207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0" y="2657520"/>
                <a:ext cx="40140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"/>
            <p:cNvGrpSpPr/>
            <p:nvPr/>
          </p:nvGrpSpPr>
          <p:grpSpPr>
            <a:xfrm>
              <a:off x="4313160" y="1295280"/>
              <a:ext cx="2390400" cy="4689720"/>
              <a:chOff x="4313160" y="1295280"/>
              <a:chExt cx="2390400" cy="4689720"/>
            </a:xfrm>
          </p:grpSpPr>
          <p:sp>
            <p:nvSpPr>
              <p:cNvPr id="169" name=""/>
              <p:cNvSpPr/>
              <p:nvPr/>
            </p:nvSpPr>
            <p:spPr>
              <a:xfrm>
                <a:off x="4900680" y="1295280"/>
                <a:ext cx="1305000" cy="4681800"/>
              </a:xfrm>
              <a:custGeom>
                <a:avLst/>
                <a:gdLst>
                  <a:gd name="textAreaLeft" fmla="*/ 63720 w 1305000"/>
                  <a:gd name="textAreaRight" fmla="*/ 1241280 w 1305000"/>
                  <a:gd name="textAreaTop" fmla="*/ 63720 h 4681800"/>
                  <a:gd name="textAreaBottom" fmla="*/ 4618080 h 4681800"/>
                </a:gdLst>
                <a:ahLst/>
                <a:rect l="textAreaLeft" t="textAreaTop" r="textAreaRight" b="textAreaBottom"/>
                <a:pathLst>
                  <a:path w="21600" h="77476">
                    <a:moveTo>
                      <a:pt x="3600" y="0"/>
                    </a:moveTo>
                    <a:arcTo wR="3600" hR="3600" stAng="16200000" swAng="-5400000"/>
                    <a:lnTo>
                      <a:pt x="0" y="73876"/>
                    </a:lnTo>
                    <a:arcTo wR="3600" hR="3600" stAng="10800000" swAng="-5400000"/>
                    <a:lnTo>
                      <a:pt x="18000" y="774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pa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6341400" y="3033720"/>
                <a:ext cx="196920" cy="2951280"/>
              </a:xfrm>
              <a:custGeom>
                <a:avLst/>
                <a:gdLst>
                  <a:gd name="textAreaLeft" fmla="*/ 125640 w 196920"/>
                  <a:gd name="textAreaRight" fmla="*/ 196920 w 196920"/>
                  <a:gd name="textAreaTop" fmla="*/ 0 h 2951280"/>
                  <a:gd name="textAreaBottom" fmla="*/ 2951640 h 295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6309720" y="3666600"/>
                <a:ext cx="393480" cy="165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operator 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18080" y="2160720"/>
                <a:ext cx="142920" cy="79992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0 h 799920"/>
                  <a:gd name="textAreaBottom" fmla="*/ 800280 h 799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13160" y="1968480"/>
                <a:ext cx="401760" cy="1187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4772160" y="2178000"/>
                <a:ext cx="1560240" cy="3799080"/>
                <a:chOff x="4772160" y="2178000"/>
                <a:chExt cx="1560240" cy="37990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772160" y="518796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torag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72160" y="475776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erv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772160" y="561816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network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72160" y="3898800"/>
                  <a:ext cx="1560240" cy="3571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72160" y="346860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middlew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772160" y="432756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virtualiz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772160" y="217800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applica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772160" y="303840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run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772160" y="2608200"/>
                  <a:ext cx="156024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1e74af"/>
                    </a:gs>
                    <a:gs pos="100000">
                      <a:srgbClr val="279ae9"/>
                    </a:gs>
                  </a:gsLst>
                  <a:lin ang="16200000"/>
                </a:gradFill>
                <a:ln w="9360">
                  <a:solidFill>
                    <a:srgbClr val="3d97d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6805440" y="1295280"/>
              <a:ext cx="1955520" cy="4689720"/>
              <a:chOff x="6805440" y="1295280"/>
              <a:chExt cx="1955520" cy="4689720"/>
            </a:xfrm>
          </p:grpSpPr>
          <p:sp>
            <p:nvSpPr>
              <p:cNvPr id="185" name=""/>
              <p:cNvSpPr/>
              <p:nvPr/>
            </p:nvSpPr>
            <p:spPr>
              <a:xfrm>
                <a:off x="6932520" y="1295280"/>
                <a:ext cx="1303560" cy="4681800"/>
              </a:xfrm>
              <a:custGeom>
                <a:avLst/>
                <a:gdLst>
                  <a:gd name="textAreaLeft" fmla="*/ 63360 w 1303560"/>
                  <a:gd name="textAreaRight" fmla="*/ 1240200 w 1303560"/>
                  <a:gd name="textAreaTop" fmla="*/ 63360 h 4681800"/>
                  <a:gd name="textAreaBottom" fmla="*/ 4618440 h 4681800"/>
                </a:gdLst>
                <a:ahLst/>
                <a:rect l="textAreaLeft" t="textAreaTop" r="textAreaRight" b="textAreaBottom"/>
                <a:pathLst>
                  <a:path w="21600" h="77562">
                    <a:moveTo>
                      <a:pt x="3600" y="0"/>
                    </a:moveTo>
                    <a:arcTo wR="3600" hR="3600" stAng="16200000" swAng="-5400000"/>
                    <a:lnTo>
                      <a:pt x="0" y="73962"/>
                    </a:lnTo>
                    <a:arcTo wR="3600" hR="3600" stAng="10800000" swAng="-5400000"/>
                    <a:lnTo>
                      <a:pt x="18000" y="775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sa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8373240" y="2160720"/>
                <a:ext cx="189000" cy="3824280"/>
              </a:xfrm>
              <a:custGeom>
                <a:avLst/>
                <a:gdLst>
                  <a:gd name="textAreaLeft" fmla="*/ 120600 w 189000"/>
                  <a:gd name="textAreaRight" fmla="*/ 189000 w 189000"/>
                  <a:gd name="textAreaTop" fmla="*/ 0 h 3824280"/>
                  <a:gd name="textAreaBottom" fmla="*/ 3824640 h 382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0"/>
                      <a:pt x="10800" y="0"/>
                    </a:cubicBezTo>
                    <a:lnTo>
                      <a:pt x="10800" y="10800"/>
                    </a:lnTo>
                    <a:cubicBezTo>
                      <a:pt x="10800" y="10800"/>
                      <a:pt x="5400" y="10800"/>
                      <a:pt x="0" y="10800"/>
                    </a:cubicBezTo>
                    <a:cubicBezTo>
                      <a:pt x="5400" y="10800"/>
                      <a:pt x="10800" y="10800"/>
                      <a:pt x="10800" y="10800"/>
                    </a:cubicBezTo>
                    <a:lnTo>
                      <a:pt x="10800" y="21600"/>
                    </a:lnTo>
                    <a:cubicBezTo>
                      <a:pt x="10800" y="216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8367120" y="3307680"/>
                <a:ext cx="393480" cy="165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egoe UI"/>
                    <a:ea typeface="Segoe UI"/>
                  </a:rPr>
                  <a:t>operator manag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6805440" y="2178000"/>
                <a:ext cx="1557360" cy="3799080"/>
                <a:chOff x="6805440" y="2178000"/>
                <a:chExt cx="1557360" cy="3799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805440" y="518796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torag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805440" y="475776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serv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805440" y="561816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network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805440" y="3898800"/>
                  <a:ext cx="1557360" cy="3571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o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805440" y="346860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middlew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805440" y="432756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virtualiz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805440" y="217800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applica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805440" y="303840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run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805440" y="2608200"/>
                  <a:ext cx="1557360" cy="3589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ededed"/>
                    </a:gs>
                  </a:gsLst>
                  <a:lin ang="162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Segoe UI"/>
                      <a:ea typeface="Segoe UI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010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919E15-016B-47F7-A94A-6FAF2D899B7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1818ff"/>
                </a:solidFill>
                <a:latin typeface="Arial"/>
              </a:rPr>
              <a:t>SaaS vs. PaaS vs. IaaS:</a:t>
            </a:r>
            <a:br>
              <a:rPr sz="3600"/>
            </a:br>
            <a:r>
              <a:rPr b="0" lang="en-US" sz="2200" spc="-1" strike="noStrike">
                <a:solidFill>
                  <a:srgbClr val="1818ff"/>
                </a:solidFill>
                <a:latin typeface="Arial"/>
              </a:rPr>
              <a:t>Cloud is Not the Bleeding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324560" cy="438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20:14:09Z</dcterms:created>
  <dc:creator/>
  <dc:description/>
  <dc:language>en-US</dc:language>
  <cp:lastModifiedBy/>
  <cp:lastPrinted>2012-08-20T03:14:29Z</cp:lastPrinted>
  <dcterms:modified xsi:type="dcterms:W3CDTF">2020-12-07T06:42:49Z</dcterms:modified>
  <cp:revision>470</cp:revision>
  <dc:subject/>
  <dc:title>Database Design: DBS CB, 2nd Edition</dc:title>
</cp:coreProperties>
</file>