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7008813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09200" cy="9223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7008840" cy="922320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23200"/>
              <a:gd name="textAreaBottom" fmla="*/ 9222840 h 9223200"/>
            </a:gdLst>
            <a:ahLst/>
            <a:rect l="textAreaLeft" t="textAreaTop" r="textAreaRight" b="textAreaBottom"/>
            <a:pathLst>
              <a:path w="21600" h="28424">
                <a:moveTo>
                  <a:pt x="4" y="0"/>
                </a:moveTo>
                <a:arcTo wR="4" hR="4" stAng="16200000" swAng="-5400000"/>
                <a:lnTo>
                  <a:pt x="0" y="28420"/>
                </a:lnTo>
                <a:arcTo wR="4" hR="4" stAng="10800000" swAng="-5400000"/>
                <a:lnTo>
                  <a:pt x="21596" y="28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98080" y="690120"/>
            <a:ext cx="4611960" cy="34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3900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3"/>
          </p:nvPr>
        </p:nvSpPr>
        <p:spPr>
          <a:xfrm>
            <a:off x="3971880" y="8760960"/>
            <a:ext cx="30369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A4F172-4C01-4DBF-B12B-AF299170F1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I can pretty much read this one straight through and provide details in following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7FDE1C-D8E9-4091-B274-93981050B3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3786DA-CBA8-403B-9672-8445AFA17C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721125-2752-49C5-B8FF-AFEA23F31C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A60919-1567-4BE2-A9AC-CD970E4F49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D0E615-3706-46E6-ACC2-1C59C2DAE2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525AD6-FD7D-4035-80DC-BA1F0A2B42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A2C4DA-034A-46A1-9F4E-6589212F16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FF4F41-5846-440E-AFD9-D3B5651EBA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F206D4-B32F-4C2F-BA86-1B11628E5F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058C26-7EF2-48E1-A2DD-B320D0493C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0BC4ED-DC9E-4948-BBC3-AE08733915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I can pretty much read this one straight through and provide details in following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2E9231-643F-4AFC-A648-C30FFE2E51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C72E08-1CB2-4969-B21D-50101B989A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122AC8-CEB2-46B8-8A2A-58B553E03F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727A27-21A8-4D12-8434-0AEC336B79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E48EB7-3DC8-4F03-B0E6-B761D1099D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24746A-C86D-4058-80CE-986D3B851A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273B2A-A66C-48D4-9D47-BD89CDDFCC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F45372-A5E6-4008-84F1-70D2084F3C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9718CD-B6B0-46C7-A46C-7009EC1743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848B07-EE6C-4825-88B6-B7A763A06B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126367-FD43-441B-9B69-C56615551E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FFF1DD-1C32-4029-A9AB-0726AC771C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3C4338-0B65-46F7-8C43-7669DB7837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0B4E85-027A-4CCC-BADA-7DB545EF73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555B76-943F-4C58-9CE5-1FEA6B63D0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E4B6D1-6B17-4F98-BD7B-F4CBF60C01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BDA218-7C61-45A3-B124-23A88AB515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3D5779-6108-4518-B7C5-DE7CF8D3E9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6D6C77-9A34-433F-895F-38BE960D0D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A41178-9957-4E8F-BB06-541E597388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DF8B6F-D799-49A6-9F52-A8BDDDCD6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6CB35A-28ED-4615-8CF7-21FF837431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327F59-7A98-4D66-9935-0B6209D3FC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11E4C5-9A8D-4F5B-8CAC-EDBFA493F2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48FD06-AFFA-4EAA-9E27-7A9F260FC7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28B3FA-6EAB-4ECC-9213-7882266C4E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060E39-B881-443C-9746-ED210EECF6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6627F-59E2-4D13-BBF8-42E3A264E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72B3-13EB-46AB-9159-0BE5686B0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FB6F3-0AA7-4191-B5E9-C95782BA6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ABEA7-F8D4-4C23-8C2D-903552F63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2317B-0EF7-4657-8065-0571F4B03C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C4D47-77ED-4E04-841B-3A11DB7C07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6F312-4AB8-4B15-9816-AB3FC530CD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83BEC-501B-4A75-AC56-D827B4AD4B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CFE2F-F86A-4A74-AB4E-0583CC55E9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1DD56-99CE-40F4-A00C-5AFC78457C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810DF-7EA2-4ECB-9B02-969F1EC151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55A51-0D4D-4F5B-B13B-5C8E271D3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440CC-6FD0-44E3-A34B-42A724D3B5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353EF-653F-46D5-94C6-D61AAF1934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78747-CDEE-4667-A3DB-EEBBA7A421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815E7-22C5-4534-9466-819F8988E4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64755-25CA-4E2E-B4E0-2499521B2F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7CB09-B19C-4C33-98A2-AB2B2F8ED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EB071-AB33-4661-8A27-A07B5EFC3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FAFFE-E8C7-4560-9019-801162329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80C83-9437-4A90-B859-C1DB4588D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2518-77E6-4F91-9910-F217E16D0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0892B-6E5A-432F-B5E2-56C54F84C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C3687-705F-4B5B-9922-E91C9557F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9A9174-6BA8-45E0-9FFF-B9D91EA847C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2560" cy="544680"/>
            <a:chOff x="0" y="0"/>
            <a:chExt cx="9142560" cy="5446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4040" cy="5317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29640" cy="2728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6440" cy="139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824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8240" cy="139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500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39680" cy="1364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5000" cy="135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3520" cy="685656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6440" cy="2532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5600" cy="3156120"/>
              <a:chOff x="0" y="1066680"/>
              <a:chExt cx="2865600" cy="315612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4560" cy="6397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3120" cy="641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4280" cy="6336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2480" cy="6397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428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2480" cy="6318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1040" cy="6318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3120" cy="6318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248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912AA4-A1FF-45ED-935B-267A3B528D6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sites.google.com/site/sitenam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1523880"/>
            <a:ext cx="8534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SaaS? Why Saa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aS vs PaaS and I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aS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SaaS Services Abstraction for different Business Se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34920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Noto Sans CJK SC"/>
              </a:rPr>
              <a:t>Customer Relationship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34920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Noto Sans CJK SC"/>
              </a:rPr>
              <a:t>Human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34920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Noto Sans CJK SC"/>
              </a:rPr>
              <a:t>Finan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34920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Noto Sans CJK SC"/>
              </a:rPr>
              <a:t>Collabo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34920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Noto Sans CJK SC"/>
              </a:rPr>
              <a:t>Backup &amp; Reco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34920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Noto Sans CJK SC"/>
              </a:rPr>
              <a:t>Industry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and 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34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3907E7-3F15-45E0-B574-100F5130D932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457200"/>
            <a:ext cx="8084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818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7200" y="1447920"/>
            <a:ext cx="815328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Moving from on-premise software to SaaS requires paradigm shift in the following three area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29D857-3562-4506-A025-A9D81CAC7598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1818ff"/>
                </a:solidFill>
                <a:latin typeface="Arial"/>
              </a:rPr>
              <a:t>SaaS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5372280" cy="34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Application Architecture: SaaS Maturity Model:</a:t>
            </a:r>
            <a:br>
              <a:rPr sz="2200"/>
            </a:br>
            <a:r>
              <a:rPr b="1" lang="en-US" sz="22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C8AF4B-71E7-4680-9056-494491A33E34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1818ff"/>
                </a:solidFill>
                <a:latin typeface="Arial"/>
              </a:rPr>
              <a:t>SaaS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315200" cy="44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14479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Level-1: Ad Hoc/Custom</a:t>
            </a:r>
            <a:br>
              <a:rPr sz="2200"/>
            </a:br>
            <a:r>
              <a:rPr b="1" lang="en-US" sz="22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CAB8EB-7B2F-4E40-9FB9-7239BDB12434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1818ff"/>
                </a:solidFill>
                <a:latin typeface="Arial"/>
              </a:rPr>
              <a:t>SaaS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48320" y="1881360"/>
            <a:ext cx="396216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PMingLiU"/>
              </a:rPr>
              <a:t>Similar to ASP mod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PMingLiU"/>
              </a:rPr>
              <a:t>Each customer has its own customized version of the hosted application, and runs its own instance of the application on the host’s serv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PMingLiU"/>
              </a:rPr>
              <a:t>This level offers very few of the benefits of a fully mature SaaS solu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33066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" y="14479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Level-2: Configurable</a:t>
            </a:r>
            <a:br>
              <a:rPr sz="2200"/>
            </a:br>
            <a:r>
              <a:rPr b="1" lang="en-US" sz="22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11E866-E7B7-4633-9E82-87494AFB16BA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1818ff"/>
                </a:solidFill>
                <a:latin typeface="Arial"/>
              </a:rPr>
              <a:t>SaaS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48320" y="1576440"/>
            <a:ext cx="396216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PMingLiU"/>
              </a:rPr>
              <a:t>Vendor hosts a separate instance of the application for each tena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PMingLiU"/>
              </a:rPr>
              <a:t>Same code, no need to maintain customized application code bas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PMingLiU"/>
              </a:rPr>
              <a:t>Easier to support/maintain since only single instance needs to be upda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PMingLiU"/>
              </a:rPr>
              <a:t>More expensive than level-1 in terms of effort requir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347976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144792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Level-3: Configurable &amp; Multi-tenant Efficient</a:t>
            </a:r>
            <a:br>
              <a:rPr sz="2200"/>
            </a:br>
            <a:r>
              <a:rPr b="1" lang="en-US" sz="22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66543C-4338-4C1A-8003-CFACC29BCCF2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1818ff"/>
                </a:solidFill>
                <a:latin typeface="Arial"/>
              </a:rPr>
              <a:t>SaaS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2209680"/>
            <a:ext cx="3962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PMingLiU"/>
              </a:rPr>
              <a:t>Single instance that serve every customer, with configurable meta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PMingLiU"/>
              </a:rPr>
              <a:t>Authorization &amp; Security policies ensure that each customer data is kept priva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PMingLiU"/>
              </a:rPr>
              <a:t>Eliminate the need to provide server space for as many instances as the vendor has custom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3543480" cy="32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200" y="14479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Level-4: Scalable, Configurable &amp; Multi-tenant Efficient</a:t>
            </a:r>
            <a:br>
              <a:rPr sz="2200"/>
            </a:br>
            <a:r>
              <a:rPr b="1" lang="en-US" sz="22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25B905-5FE5-419C-B850-BAFB90A104CE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1818ff"/>
                </a:solidFill>
                <a:latin typeface="Arial"/>
              </a:rPr>
              <a:t>SaaS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2209680"/>
            <a:ext cx="3962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PMingLiU"/>
              </a:rPr>
              <a:t>Vendor hosts multiple customers on a load-balanced farm of identical instan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PMingLiU"/>
              </a:rPr>
              <a:t>Scalable because servers can be added on-dema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PMingLiU"/>
              </a:rPr>
              <a:t>Changes or fixes can be rolled-out to thousands of tena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51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57200" y="1371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Business Model:</a:t>
            </a:r>
            <a:br>
              <a:rPr sz="2200"/>
            </a:br>
            <a:r>
              <a:rPr b="1" lang="en-US" sz="22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CF3F1C-D08C-4121-B288-C78136EA5264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1818ff"/>
                </a:solidFill>
                <a:latin typeface="Arial"/>
              </a:rPr>
              <a:t>SaaS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1523880"/>
            <a:ext cx="5029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Shifting the ownership of the software from the customer to an provi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Reallocating responsibility for the technology infrastructure and Mgmt from the customer to the provi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38280" y="1943280"/>
            <a:ext cx="2562120" cy="18666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371600" y="3886200"/>
            <a:ext cx="572436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7200" y="1371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Business Model:</a:t>
            </a:r>
            <a:br>
              <a:rPr sz="2200"/>
            </a:br>
            <a:r>
              <a:rPr b="1" lang="en-US" sz="22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8DB15B-5AD8-4BC7-9D2A-D25FD509B92B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1818ff"/>
                </a:solidFill>
                <a:latin typeface="Arial"/>
              </a:rPr>
              <a:t>SaaS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1523880"/>
            <a:ext cx="5029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PMingLiU"/>
              </a:rPr>
              <a:t>Reducing the cost of providing software services, through specialization and economy-of-sca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PMingLiU"/>
              </a:rPr>
              <a:t>SaaS Hardware costs get shared by all tenants resulting in economy-of-sca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2562120" cy="18669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590920" y="3733920"/>
            <a:ext cx="4514760" cy="27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1371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Operational Structure:</a:t>
            </a:r>
            <a:br>
              <a:rPr sz="2200"/>
            </a:br>
            <a:r>
              <a:rPr b="1" lang="en-US" sz="22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82B17F-DB27-4DE8-8FA6-A3DAC4729D11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1818ff"/>
                </a:solidFill>
                <a:latin typeface="Arial"/>
              </a:rPr>
              <a:t>SaaS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0" y="1905120"/>
            <a:ext cx="4267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SaaS providers not only have to be experts in building software and bringing it to market, they must also become expert in operating &amp; managing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PMingLiU"/>
              </a:rPr>
              <a:t>Monitoring SaaS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3156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For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3156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330516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57200" y="1652760"/>
            <a:ext cx="815328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It is hard to provide any abstraction to SaaS services or to classify them based on the technology or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They are typically diverse and can be based on any web-based tools to implement the application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Below we will cover an overview of the types of software they represent, the range of business sectors they span, and the functionality they can deliver and scale-on-de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5212A9-477D-4995-88FC-33DAD4935EFA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1523880"/>
            <a:ext cx="8534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SaaS? Why Saa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aS vs PaaS and I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aS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SaaS Services Abstraction for different Business Se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34920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Noto Sans CJK SC"/>
              </a:rPr>
              <a:t>Customer Relationship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34920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Noto Sans CJK SC"/>
              </a:rPr>
              <a:t>Human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34920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Noto Sans CJK SC"/>
              </a:rPr>
              <a:t>Finan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34920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Noto Sans CJK SC"/>
              </a:rPr>
              <a:t>Collabo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34920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Noto Sans CJK SC"/>
              </a:rPr>
              <a:t>Backup &amp; Reco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34920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Noto Sans CJK SC"/>
              </a:rPr>
              <a:t>Industry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and 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01DD69-DF5F-4700-976E-093C8AF29DF2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457200"/>
            <a:ext cx="8084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818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57200" y="1600200"/>
            <a:ext cx="84582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 u="sng">
                <a:solidFill>
                  <a:srgbClr val="cc00cc"/>
                </a:solidFill>
                <a:uFillTx/>
                <a:latin typeface="Arial"/>
                <a:ea typeface="PMingLiU"/>
              </a:rPr>
              <a:t>CRM examples include</a:t>
            </a: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c00000"/>
                </a:solidFill>
                <a:latin typeface="Arial"/>
                <a:ea typeface="PMingLiU"/>
              </a:rPr>
              <a:t>Salesforce.co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PMingLiU"/>
              </a:rPr>
              <a:t> which includes account management, opportunity tracking, and marketing campaing administ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c00000"/>
                </a:solidFill>
                <a:latin typeface="Arial"/>
                <a:ea typeface="PMingLiU"/>
              </a:rPr>
              <a:t>NetSuite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PMingLiU"/>
              </a:rPr>
              <a:t>provides set of services including: NetSuite, NetSuite CRM+, NetSuite Global CRM, Dedicated Server Options, OpenAir, and Payrol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c00000"/>
                </a:solidFill>
                <a:latin typeface="Arial"/>
                <a:ea typeface="PMingLiU"/>
              </a:rPr>
              <a:t>SugarCRM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PMingLiU"/>
              </a:rPr>
              <a:t>is an open source software solution based on LAMP (Linux, Apache, MySQL, and PHP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Salesforce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PMingLiU"/>
              </a:rPr>
              <a:t>Best known SaaS offering consists of the following modules: Sales, Service &amp; Support, Partner Relationship Mgmt, Marketing and Leads, Content, Ideas and Analytic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PMingLiU"/>
              </a:rPr>
              <a:t>It is available in 20 languages and can be accessed from any Internet device including mobile platforms like Blackberry, iPhone, and Windows Mobi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2EDAD7-1ED3-4696-82F9-958AE6D5032B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C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57200" y="1523880"/>
            <a:ext cx="8153280" cy="48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Users can customize their CRM applications and can add user-defined custom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PMingLiU"/>
              </a:rPr>
              <a:t>Salesforce.c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provides a Web Services API for data manipulation (e.g., SELECT, INSERT, UPDATE, DELE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NetSu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PMingLiU"/>
              </a:rPr>
              <a:t>Best known SaaS offering consists of the following modul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Sales,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PMingLiU"/>
              </a:rPr>
              <a:t>Primary feature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Pipeline and opportunit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Ord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dvanced forec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Incentiv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Upsell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ccoun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80F981-0F38-4177-AE70-7750D2D5BC84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C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57200" y="1652760"/>
            <a:ext cx="815328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SugarC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It is not an on-demand service; it is an open source based on L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It is attractive from SaaS perspective as it is for free and downlo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It includes sales-force automation, marketing campaigns and customer support, and collaboration and reporting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There are many pre-packaged machines that have SugarCRM with a base configuration ready for de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PMingLiU"/>
              </a:rPr>
              <a:t>Sugar Data Center Edition (DCE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supplement SaaS with a set of tools for provisioning, monitoring and reporting, as well as the ability to manage/deploy multiple instances from a central cons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E6011B-4901-416E-BCD5-B4591806C3C4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C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57200" y="1652760"/>
            <a:ext cx="815328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Human Resources (HR) or Human Capital Management (HCM) includes administration processes to support personnel functions (e.g., recruiting, developing, and retaining employe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Due to the confidential nature, some companies would be worried placing such information outside their firew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Workda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PMingLiU"/>
              </a:rPr>
              <a:t>Provides features lik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Absence (accrued vacation), Compensation (salary, equity), Benefits (medical, dental, vision), Staffing (headcount, position management, etc.), Development (business performance through talent management), and Performance management (performance revie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F4AE9F-A999-47B9-9076-661AB0AE5E2C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Huma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1652760"/>
            <a:ext cx="815328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Tale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Another SaaS provider in the HR 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Provides features like: Recruitment, Performance Management, Employee lifecycle, Career Management, and Succession Planning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Taleo exposes a SOAP-based Web Services API that developers can leverage to integrate HR functions and data in other application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5621E7-6491-41AA-B229-6FBE291CFAE5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Huma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57200" y="1652760"/>
            <a:ext cx="8381880" cy="47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Financial services ranges from accounting, procurement and inventory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Workda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PMingLiU"/>
              </a:rPr>
              <a:t>In addition to human capital Mgmt, financial related services include: Payroll, Worker Spend Mgmt, Financial Accounts, Supplier Accounts, Cash Mgmt, and Procure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Netsui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PMingLiU"/>
              </a:rPr>
              <a:t>Supports back-office operations and business processes including: Financial Mgmt, Financial Planning, Inventory and Supply Chain, Order Mgmt, Service Resource Planning, and Human Capital Mgmt (HCM) and BI &amp; Analytic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Intui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PMingLiU"/>
              </a:rPr>
              <a:t>Is a software company that develops financial and Tax preparation software known for Quicken and TurboTa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DFA8F7-DC7E-456F-ADB3-7C315A7A3071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Fina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7200" y="1652760"/>
            <a:ext cx="815328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Since collaboration involves establishing connectivity between people, it is natural to be based on networking and utilizing common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Web 2.0 services are almost exclusively delivered over the Internet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 Cloud candidate.  Some traditional applications, such as desktop productivity and conferencing, are also candidate to leverage Cloud Compu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Google App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PMingLiU"/>
              </a:rPr>
              <a:t>Google Mail (Gmai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Is a web mail service supporting thread-structured and search-oriented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At the Back/End, Gmail runs on Google Servlet Engine &amp; Linux-based Google GFE/1.3, and supports POP3 &amp; IMAP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0C7C88-398B-42B4-8002-61189665D5D5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1600200"/>
            <a:ext cx="81532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2" marL="1031760" indent="-3459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Extensive use of Asynchronous Javascript &amp; XML (AJAX) to pre-fetch and pre-send information w/o user refresh; dramatically better respons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Gmail supports spam filtering; when user marks an email as spam, Gmail leverages this information to identify similar future messages for all Gmail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  <a:ea typeface="PMingLiU"/>
              </a:rPr>
              <a:t>Google Calend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Is an AJAX-driven time management web application; viewing, adding, and modifying entries. The AJAX interface allows drag-and-drop events from one date to another w/o reloading the pag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It includes also offline support and to-do lists. Multiple calendars can be shown in single view. Calendars can be shared with appropriate access control, i.e., Read-Only or Full Control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4268FE-5EFB-4831-A85A-5E91BC009659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5720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  <a:ea typeface="PMingLiU"/>
              </a:rPr>
              <a:t>Google Talk (Gtalk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338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Is a Windows web-based instant messaging and Internet telephony. Instant Messaging uses the standard eXtensible Messaging and Presence Protocol (XMPP). Internet Telephony uses on Voice-over-IP and is based on the Jingle protocol, a P2P extension to XMPP by Goo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  <a:ea typeface="PMingLiU"/>
              </a:rPr>
              <a:t>Google Do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338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Is a web-based desktop application 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338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Supports creating/editing documents (Documents, spreadsheet, presentations) online while collaborating in real-time with other users within the application itself, imported through the web interface or sent via email.  They can also be saved to the user’s computer in a variety of formats (OpenDoc, OpenOffice, HTML, PDF, RTF, Text, MS W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9E88BE-E5E7-4273-AECB-95E2A173D4AA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7200" y="1805040"/>
            <a:ext cx="8153280" cy="42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2" marL="1031760" indent="-3459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Google Docs serves as a collaboration tool for editing amongst users in real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For Microsoft Office, users may find uploading changed documents via a browser to be tediou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Google offers free plug-in that automatically synchronizes edits in the Word, Excel, and PowerPoint with Google Docs; it supports multi-user concurrent editing, synchronization of both online and offline modifications including conflict resolution and a revision history for possible rollback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D67A60-69C5-4F5F-9626-96BE41214001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  <a:ea typeface="PMingLiU"/>
              </a:rPr>
              <a:t>Sa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is software deployed as a hosted service and accessed over the Internet,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PMingLiU"/>
              </a:rPr>
              <a:t>Examples includ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SalesForce.com, NetSuite, Google, Hotmail, Yahoo!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  <a:ea typeface="PMingLiU"/>
              </a:rPr>
              <a:t>SaaS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is a software delivery method that provides access to software and its functions remotely as a web-based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  <a:ea typeface="PMingLiU"/>
              </a:rPr>
              <a:t>SaaS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llows organizations to access business functionality at a cost typically less than paying for licensed applications since SaaS is based on a monthly 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  <a:ea typeface="PMingLiU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don’t need to invest as much in  hardware, server support, security audits and need fewer in-house IT-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E4CA1D-2DFE-46E9-8540-B526E8B26CDD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1818ff"/>
                </a:solidFill>
                <a:latin typeface="Arial"/>
              </a:rPr>
              <a:t>What is SaaS? Why Sa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57200" y="1805040"/>
            <a:ext cx="8153280" cy="42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  <a:ea typeface="PMingLiU"/>
              </a:rPr>
              <a:t>Google Si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PMingLiU"/>
              </a:rPr>
              <a:t>Is a structured Wiki offering that supports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Web address of the form: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ea typeface="PMingLiU"/>
                <a:hlinkClick r:id="rId1"/>
              </a:rPr>
              <a:t>http://sites.google.com/site/sit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Limited number of t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Limited use of HTML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bility to insert Videos from Google Video/YouTube, Google Docs, Google Calendar, Google Maps, AdWords and AdS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8421CB-0F03-4B2E-A6B0-2B96D2BDED72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57200" y="1523880"/>
            <a:ext cx="82296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Microsoft Online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It includes set of services for consumers and 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PMingLiU"/>
              </a:rPr>
              <a:t>Windows Live (consu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It caters to common requirements of home users &amp; small businesses inclu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PMingLiU"/>
              </a:rPr>
              <a:t>Window Live Family safet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(parental contr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PMingLiU"/>
              </a:rPr>
              <a:t>Window Live Mail cli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for Windows Live Hotmail, Gmail, Yahoo! Mail, and any POP ac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PMingLiU"/>
              </a:rPr>
              <a:t>Window Live Mes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(file synchronization between user desktops, other computers and cloud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PMingLiU"/>
              </a:rPr>
              <a:t>Window Live Messeng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(Instant Messaging cli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PMingLiU"/>
              </a:rPr>
              <a:t>Window Live Movie Mak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(Video edi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PMingLiU"/>
              </a:rPr>
              <a:t>Window Live Photo Galler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(photo management &amp; sha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PMingLiU"/>
              </a:rPr>
              <a:t>Window Live Writ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(Desktop blog publishing appli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PMingLiU"/>
              </a:rPr>
              <a:t>Window Live SkyDriv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is an online file storage &amp; sharing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PMingLiU"/>
              </a:rPr>
              <a:t>Office Web-App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is a web-based edition of Microsoft 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9A5E0D-7222-4BB9-856E-26F38976A56E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57200" y="1652760"/>
            <a:ext cx="822960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  <a:ea typeface="PMingLiU"/>
              </a:rPr>
              <a:t>Office 365 (enterpri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76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PMingLiU"/>
              </a:rPr>
              <a:t>It is multi-tenant model with attractive price points for small organizations. Dedicated option provides higher degree of isolation typically required by larger organiz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76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c00000"/>
                </a:solidFill>
                <a:latin typeface="Arial"/>
                <a:ea typeface="PMingLiU"/>
              </a:rPr>
              <a:t>Main Components includ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PMingLiU"/>
              </a:rPr>
              <a:t>Exchange Onli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: With ForeFront anti-virus checking &amp; spam filt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PMingLiU"/>
              </a:rPr>
              <a:t>SharePoint Onli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: Offers content management with version control, Wiki, blogs and RSS f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PMingLiU"/>
              </a:rPr>
              <a:t>Lync Onli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: provides presence capability and instant mess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PMingLiU"/>
              </a:rPr>
              <a:t>Microsoft Professional Plus in Office 36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: comparable to Microsoft Volume Licensing; licensing month-to-month on a per-user ba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PMingLiU"/>
              </a:rPr>
              <a:t>Office Web Ap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: Is a browser version of Microsoft Excel, Word, and Power Point similar to what is offered under Windows 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87FCA4-A868-4BDD-A16B-B71709BEB69C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57200" y="1652760"/>
            <a:ext cx="815328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Cisco Web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76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c00000"/>
                </a:solidFill>
                <a:latin typeface="Arial"/>
                <a:ea typeface="PMingLiU"/>
              </a:rPr>
              <a:t>It is one among few Web presentation tool including: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PMingLiU"/>
              </a:rPr>
              <a:t>Citrix, GoToMeeting, Dimdim, and Cisco Webe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76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PMingLiU"/>
              </a:rPr>
              <a:t>Each has its own strengths and weaknesses.  For example, Cisco Webex combines real-time collaboration with phone conferencing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76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PMingLiU"/>
              </a:rPr>
              <a:t>Users can share documents, presentations, and applications, passing control to anyone in the meet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76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PMingLiU"/>
              </a:rPr>
              <a:t>Include video from multiple webcams and use integrated VoIP, audio broadcast or dial-in conferencing or hybrid combin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76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PMingLiU"/>
              </a:rPr>
              <a:t>It is possible to record, edit, and play back meetings after the event for review and compliance purpos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0F5828-9D83-4F3F-AF39-E73DD46DF607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Cloud-based backup is more practical over on-site alternatives; because it is remote it is resilient to many risks such as natural disasters and local ou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Example include </a:t>
            </a:r>
            <a:r>
              <a:rPr b="0" lang="en-US" sz="2200" spc="-1" strike="noStrike">
                <a:solidFill>
                  <a:srgbClr val="993300"/>
                </a:solidFill>
                <a:latin typeface="Arial"/>
                <a:ea typeface="PMingLiU"/>
              </a:rPr>
              <a:t>Box.N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, which doubles as collaboration tool, and </a:t>
            </a:r>
            <a:r>
              <a:rPr b="0" lang="en-US" sz="2200" spc="-1" strike="noStrike">
                <a:solidFill>
                  <a:srgbClr val="993300"/>
                </a:solidFill>
                <a:latin typeface="Arial"/>
                <a:ea typeface="PMingLiU"/>
              </a:rPr>
              <a:t>SugarSyn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, which leverages Online backup and storage  to provide vehicle to synchronize multiple user de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Moz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Is a personal backup solution; allows users to specify folders and files to be backed-up to the cloud on a regular basis; incremental 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Zm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Is a backup that is based on the Amanda open-source backup software and provides central administration; is not cloud solution. Provides an option to back the data up to Amazon 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9650A1-0122-40C0-A988-612DCB4BDD47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Backup &amp; 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457200" y="1652760"/>
            <a:ext cx="845820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The most promising areas for cloud services will be delivering vertical solutions to automate processes in particular indu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Healthca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PMingLiU"/>
              </a:rPr>
              <a:t>Pharmacy OneSour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offers set of services in healthcare inclu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PMingLiU"/>
              </a:rPr>
              <a:t>Sentri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: Is a real-time patient surveillance system that provides a list of hospital/patients who are at risk from medication-related f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PMingLiU"/>
              </a:rPr>
              <a:t>ScheduleR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: Is Online pharmacy staff scheduling that streamlines creating, changing, and communicating staff sche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PMingLiU"/>
              </a:rPr>
              <a:t>Quantif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: Is a customizable clinical documentation and reporting tool for hospital pharmacies and health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Transport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PMingLiU"/>
              </a:rPr>
              <a:t>Active On-dem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’s APT is an Internet-based transportation management system (TMS) that connects commercial shippers with hand-delivered cour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046A8F-D738-4645-947E-C85142CFD21E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Industry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57200" y="1576440"/>
            <a:ext cx="8153280" cy="47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Logistic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  <a:ea typeface="PMingLiU"/>
              </a:rPr>
              <a:t>One Networ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offers solutions in the retail and consumer products sector, and supplies technology for logistics service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PMingLiU"/>
              </a:rPr>
              <a:t>Data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: brings together the supply chain community of retailers, suppliers and carriers via data sharing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PMingLiU"/>
              </a:rPr>
              <a:t>Order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: automated order process between sales representative, customers, suppliers and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PMingLiU"/>
              </a:rPr>
              <a:t>Procur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: integrates demand signals across each node to facilitate control over the purchas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PMingLiU"/>
              </a:rPr>
              <a:t>Manufactu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: end-to-end process flow for manufacturers from production to purchasing to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PMingLiU"/>
              </a:rPr>
              <a:t>Inventory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: offers inventory visibility and management across multi-party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PMingLiU"/>
              </a:rPr>
              <a:t>Deploy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: coordinate activities of deployment planning and execution to meet customer’s service levels with lowest total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2AA689-C903-4921-9736-0BFF2924E5A0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Industry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57200" y="1652760"/>
            <a:ext cx="815328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PMingLiU"/>
              </a:rPr>
              <a:t>Demand Driven Logis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: is a multi-tenant, multi-party, sense and respond solution for transportation &amp; appointment schedu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PMingLiU"/>
              </a:rPr>
              <a:t>Demand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: integrates retailer and its suppliers in processes around shelf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PMingLiU"/>
              </a:rPr>
              <a:t>Replenish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: defines replenishment policies ranging from static to dynamic, and postponement techniques to achieve accurate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PMingLiU"/>
              </a:rPr>
              <a:t>Store Oper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:  Aligns all the processes around store shelf, continuously adjusting forecasts according to latest demand patterns, using analy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PMingLiU"/>
              </a:rPr>
              <a:t>Spare Pa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:  module to manage and replenish spare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E0279B-FD7F-4159-AD31-CDB3DF7040F3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Industry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1818ff"/>
                </a:solidFill>
                <a:latin typeface="Arial"/>
                <a:ea typeface="PMingLiU"/>
              </a:rPr>
              <a:t>Summary and 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04720" y="1512720"/>
            <a:ext cx="8105760" cy="45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SaaS is going to have a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PMingLiU"/>
              </a:rPr>
              <a:t>major impact on the software indus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, because SaaS will change the way peop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bui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s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bu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&amp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  <a:ea typeface="PMingLiU"/>
              </a:rPr>
              <a:t>Significant difference is the amount of contr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 user has over the service between SaaS and “PaaS or Ia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Moving from on-premise software to Saa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PMingLiU"/>
              </a:rPr>
              <a:t>requires paradigm shift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in the following three areas: Application Architecture, Business Model and Operation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It is hard to provide any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PMingLiU"/>
              </a:rPr>
              <a:t>abstraction to SaaS services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or to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PMingLiU"/>
              </a:rPr>
              <a:t>classify the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based on the technology or approa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575582-392B-479F-88F5-339DE70D9B36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B0D76E-70A0-4EA3-B417-A219968792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  <a:ea typeface="PMingLiU"/>
              </a:rPr>
              <a:t>Key Advantages for the End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652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Lower c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652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Smaller storage &amp; hardware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652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Fewer Personnel; no maintenance, monitoring, or software upd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  <a:ea typeface="PMingLiU"/>
              </a:rPr>
              <a:t>Key Advantage for the Ven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652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Continuous and recurring stream of inc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652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Reduced losses from piracy and unlicensed use of softwa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652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Greater valuation for the company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652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One-to-many application delivery model based on single instance, multi-tenant architecture (SalesForce.c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86BCE7-B294-43D4-9DB3-4BF31DDF49DE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1818ff"/>
                </a:solidFill>
                <a:latin typeface="Arial"/>
              </a:rPr>
              <a:t>What is SaaS? Why Sa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Targeting the “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PMingLiU"/>
              </a:rPr>
              <a:t>long ta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” of smaller businesses, by reducing the minimum cost at which software can be s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A26054-00C0-4A2C-AD67-F82C530B42F6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1818ff"/>
                </a:solidFill>
                <a:latin typeface="Arial"/>
              </a:rPr>
              <a:t>What is SaaS? Why Sa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5667480" cy="34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PMingLiU"/>
              </a:rPr>
              <a:t>Significant difference is the amount of control a user has over the serv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cc00cc"/>
                </a:solidFill>
                <a:latin typeface="Arial"/>
                <a:ea typeface="PMingLiU"/>
              </a:rPr>
              <a:t>PaaS: </a:t>
            </a:r>
            <a:r>
              <a:rPr b="0" lang="en-US" sz="2100" spc="-1" strike="noStrike">
                <a:solidFill>
                  <a:srgbClr val="993300"/>
                </a:solidFill>
                <a:latin typeface="Arial"/>
                <a:ea typeface="PMingLiU"/>
              </a:rPr>
              <a:t>Microsoft Azur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PMingLiU"/>
              </a:rPr>
              <a:t>: user has no control over the OS, security features or the ability to install software applications – other than your own applications developed specifically for Azure. </a:t>
            </a:r>
            <a:r>
              <a:rPr b="0" lang="en-US" sz="2100" spc="-1" strike="noStrike">
                <a:solidFill>
                  <a:srgbClr val="993300"/>
                </a:solidFill>
                <a:latin typeface="Arial"/>
                <a:ea typeface="PMingLiU"/>
              </a:rPr>
              <a:t>Google Apps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PMingLiU"/>
              </a:rPr>
              <a:t>and </a:t>
            </a:r>
            <a:r>
              <a:rPr b="0" lang="en-US" sz="2100" spc="-1" strike="noStrike">
                <a:solidFill>
                  <a:srgbClr val="993300"/>
                </a:solidFill>
                <a:latin typeface="Arial"/>
                <a:ea typeface="PMingLiU"/>
              </a:rPr>
              <a:t>Force.com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PMingLiU"/>
              </a:rPr>
              <a:t>have similar limitations to Az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PMingLiU"/>
              </a:rPr>
              <a:t>All OS updates, versions, patches, security are controlled and implemented by the PaaS provid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cc00cc"/>
                </a:solidFill>
                <a:latin typeface="Arial"/>
                <a:ea typeface="PMingLiU"/>
              </a:rPr>
              <a:t>IaaS: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PMingLiU"/>
              </a:rPr>
              <a:t> user selects the configuration (server size, OS, App software) and then has complete responsibility for the maintenance of the system; security patch is your responsibility. Want to install new application or database – feel free, it is your 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39B751-2618-4F83-AD36-9F6776E3FB96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1818ff"/>
                </a:solidFill>
                <a:latin typeface="Arial"/>
              </a:rPr>
              <a:t>SaaS vs. PaaS vs. Ia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SaaS differs from PaaS and Iaa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in that it provides a service that is directly consumable by the end-us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while IaaS and PaaS provides Infrastructure and Platforms where system managers and developers can install their applications but they provide little value to a non-technical end-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  <a:ea typeface="PMingLiU"/>
              </a:rPr>
              <a:t>Sa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provides the full stack of clou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  <a:ea typeface="PMingLiU"/>
              </a:rPr>
              <a:t>With Sa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the service provider licenses applications and provisions them to end-users on-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  <a:ea typeface="PMingLiU"/>
              </a:rPr>
              <a:t>Sa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is centrally managed and upd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SaaS has some similarities with recent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PMingLiU"/>
              </a:rPr>
              <a:t>Application Service Providers (ASPs) – hosted Serv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, but they are quite different in their approach to multi-ten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SaaS eliminat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for end-user worries about licensing, scalability, and ties customer cost to u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001145-F4F7-4983-8680-0FECA22647C4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8088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vs. PaaS vs. Ia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E17BDF-B916-48BE-A8C6-7C96F574B4C3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38088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vs. PaaS vs. Ia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04920" y="1295280"/>
            <a:ext cx="8456040" cy="4689720"/>
            <a:chOff x="304920" y="1295280"/>
            <a:chExt cx="8456040" cy="4689720"/>
          </a:xfrm>
        </p:grpSpPr>
        <p:sp>
          <p:nvSpPr>
            <p:cNvPr id="139" name=""/>
            <p:cNvSpPr/>
            <p:nvPr/>
          </p:nvSpPr>
          <p:spPr>
            <a:xfrm>
              <a:off x="884160" y="1295280"/>
              <a:ext cx="1303560" cy="4681800"/>
            </a:xfrm>
            <a:custGeom>
              <a:avLst/>
              <a:gdLst>
                <a:gd name="textAreaLeft" fmla="*/ 63360 w 1303560"/>
                <a:gd name="textAreaRight" fmla="*/ 1240200 w 1303560"/>
                <a:gd name="textAreaTop" fmla="*/ 63360 h 4681800"/>
                <a:gd name="textAreaBottom" fmla="*/ 4618440 h 4681800"/>
              </a:gdLst>
              <a:ahLst/>
              <a:rect l="textAreaLeft" t="textAreaTop" r="textAreaRight" b="textAreaBottom"/>
              <a:pathLst>
                <a:path w="21600" h="77562">
                  <a:moveTo>
                    <a:pt x="3600" y="0"/>
                  </a:moveTo>
                  <a:arcTo wR="3600" hR="3600" stAng="16200000" swAng="-5400000"/>
                  <a:lnTo>
                    <a:pt x="0" y="73962"/>
                  </a:lnTo>
                  <a:arcTo wR="3600" hR="3600" stAng="10800000" swAng="-5400000"/>
                  <a:lnTo>
                    <a:pt x="18000" y="775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(on-premise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757080" y="2178000"/>
              <a:ext cx="1557360" cy="3799080"/>
              <a:chOff x="757080" y="2178000"/>
              <a:chExt cx="1557360" cy="3799080"/>
            </a:xfrm>
          </p:grpSpPr>
          <p:sp>
            <p:nvSpPr>
              <p:cNvPr id="141" name=""/>
              <p:cNvSpPr/>
              <p:nvPr/>
            </p:nvSpPr>
            <p:spPr>
              <a:xfrm>
                <a:off x="757080" y="5187960"/>
                <a:ext cx="1557360" cy="358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1e74af"/>
                  </a:gs>
                  <a:gs pos="100000">
                    <a:srgbClr val="279ae9"/>
                  </a:gs>
                </a:gsLst>
                <a:lin ang="16200000"/>
              </a:gradFill>
              <a:ln w="9360">
                <a:solidFill>
                  <a:srgbClr val="3d97d5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storag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57080" y="4757760"/>
                <a:ext cx="1557360" cy="358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1e74af"/>
                  </a:gs>
                  <a:gs pos="100000">
                    <a:srgbClr val="279ae9"/>
                  </a:gs>
                </a:gsLst>
                <a:lin ang="16200000"/>
              </a:gradFill>
              <a:ln w="9360">
                <a:solidFill>
                  <a:srgbClr val="3d97d5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serv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57080" y="5618160"/>
                <a:ext cx="1557360" cy="358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1e74af"/>
                  </a:gs>
                  <a:gs pos="100000">
                    <a:srgbClr val="279ae9"/>
                  </a:gs>
                </a:gsLst>
                <a:lin ang="16200000"/>
              </a:gradFill>
              <a:ln w="9360">
                <a:solidFill>
                  <a:srgbClr val="3d97d5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network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57080" y="3898800"/>
                <a:ext cx="1557360" cy="357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1e74af"/>
                  </a:gs>
                  <a:gs pos="100000">
                    <a:srgbClr val="279ae9"/>
                  </a:gs>
                </a:gsLst>
                <a:lin ang="16200000"/>
              </a:gradFill>
              <a:ln w="9360">
                <a:solidFill>
                  <a:srgbClr val="3d97d5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57080" y="3468600"/>
                <a:ext cx="1557360" cy="358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1e74af"/>
                  </a:gs>
                  <a:gs pos="100000">
                    <a:srgbClr val="279ae9"/>
                  </a:gs>
                </a:gsLst>
                <a:lin ang="16200000"/>
              </a:gradFill>
              <a:ln w="9360">
                <a:solidFill>
                  <a:srgbClr val="3d97d5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middlew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57080" y="4327560"/>
                <a:ext cx="1557360" cy="358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1e74af"/>
                  </a:gs>
                  <a:gs pos="100000">
                    <a:srgbClr val="279ae9"/>
                  </a:gs>
                </a:gsLst>
                <a:lin ang="16200000"/>
              </a:gradFill>
              <a:ln w="9360">
                <a:solidFill>
                  <a:srgbClr val="3d97d5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virtualiz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57080" y="2608200"/>
                <a:ext cx="1557360" cy="358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1e74af"/>
                  </a:gs>
                  <a:gs pos="100000">
                    <a:srgbClr val="279ae9"/>
                  </a:gs>
                </a:gsLst>
                <a:lin ang="16200000"/>
              </a:gradFill>
              <a:ln w="9360">
                <a:solidFill>
                  <a:srgbClr val="3d97d5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57080" y="2178000"/>
                <a:ext cx="1557360" cy="358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1e74af"/>
                  </a:gs>
                  <a:gs pos="100000">
                    <a:srgbClr val="279ae9"/>
                  </a:gs>
                </a:gsLst>
                <a:lin ang="16200000"/>
              </a:gradFill>
              <a:ln w="9360">
                <a:solidFill>
                  <a:srgbClr val="3d97d5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applicat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57080" y="3038400"/>
                <a:ext cx="1557360" cy="358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1e74af"/>
                  </a:gs>
                  <a:gs pos="100000">
                    <a:srgbClr val="279ae9"/>
                  </a:gs>
                </a:gsLst>
                <a:lin ang="16200000"/>
              </a:gradFill>
              <a:ln w="9360">
                <a:solidFill>
                  <a:srgbClr val="3d97d5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runtim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617400" y="2178000"/>
              <a:ext cx="130320" cy="3799080"/>
            </a:xfrm>
            <a:custGeom>
              <a:avLst/>
              <a:gdLst>
                <a:gd name="textAreaLeft" fmla="*/ 83160 w 130320"/>
                <a:gd name="textAreaRight" fmla="*/ 130680 w 130320"/>
                <a:gd name="textAreaTop" fmla="*/ 0 h 3799080"/>
                <a:gd name="textAreaBottom" fmla="*/ 3799440 h 379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5400" y="10800"/>
                    <a:pt x="0" y="10800"/>
                  </a:cubicBezTo>
                  <a:cubicBezTo>
                    <a:pt x="54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304920" y="3402000"/>
              <a:ext cx="399960" cy="1266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" name=""/>
            <p:cNvGrpSpPr/>
            <p:nvPr/>
          </p:nvGrpSpPr>
          <p:grpSpPr>
            <a:xfrm>
              <a:off x="2271600" y="1295280"/>
              <a:ext cx="2373120" cy="4681800"/>
              <a:chOff x="2271600" y="1295280"/>
              <a:chExt cx="2373120" cy="4681800"/>
            </a:xfrm>
          </p:grpSpPr>
          <p:sp>
            <p:nvSpPr>
              <p:cNvPr id="153" name=""/>
              <p:cNvSpPr/>
              <p:nvPr/>
            </p:nvSpPr>
            <p:spPr>
              <a:xfrm>
                <a:off x="2595240" y="1295280"/>
                <a:ext cx="1812960" cy="4681800"/>
              </a:xfrm>
              <a:custGeom>
                <a:avLst/>
                <a:gdLst>
                  <a:gd name="textAreaLeft" fmla="*/ 88200 w 1812960"/>
                  <a:gd name="textAreaRight" fmla="*/ 1724760 w 1812960"/>
                  <a:gd name="textAreaTop" fmla="*/ 88200 h 4681800"/>
                  <a:gd name="textAreaBottom" fmla="*/ 4593600 h 4681800"/>
                </a:gdLst>
                <a:ahLst/>
                <a:rect l="textAreaLeft" t="textAreaTop" r="textAreaRight" b="textAreaBottom"/>
                <a:pathLst>
                  <a:path w="21600" h="55773">
                    <a:moveTo>
                      <a:pt x="3600" y="0"/>
                    </a:moveTo>
                    <a:arcTo wR="3600" hR="3600" stAng="16200000" swAng="-5400000"/>
                    <a:lnTo>
                      <a:pt x="0" y="52173"/>
                    </a:lnTo>
                    <a:arcTo wR="3600" hR="3600" stAng="10800000" swAng="-5400000"/>
                    <a:lnTo>
                      <a:pt x="18000" y="5577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iaa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2723760" y="2178000"/>
                <a:ext cx="1557720" cy="3799080"/>
                <a:chOff x="2723760" y="2178000"/>
                <a:chExt cx="1557720" cy="37990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723760" y="5187960"/>
                  <a:ext cx="155772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storag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723760" y="4757760"/>
                  <a:ext cx="155772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server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723760" y="5618160"/>
                  <a:ext cx="155772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network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723760" y="3898800"/>
                  <a:ext cx="1557720" cy="3571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1e74af"/>
                    </a:gs>
                    <a:gs pos="100000">
                      <a:srgbClr val="279ae9"/>
                    </a:gs>
                  </a:gsLst>
                  <a:lin ang="16200000"/>
                </a:gradFill>
                <a:ln w="9360">
                  <a:solidFill>
                    <a:srgbClr val="3d97d5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723760" y="3468600"/>
                  <a:ext cx="155772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1e74af"/>
                    </a:gs>
                    <a:gs pos="100000">
                      <a:srgbClr val="279ae9"/>
                    </a:gs>
                  </a:gsLst>
                  <a:lin ang="16200000"/>
                </a:gradFill>
                <a:ln w="9360">
                  <a:solidFill>
                    <a:srgbClr val="3d97d5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middlewar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723760" y="4327560"/>
                  <a:ext cx="155772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virtualiza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723760" y="2608200"/>
                  <a:ext cx="155772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1e74af"/>
                    </a:gs>
                    <a:gs pos="100000">
                      <a:srgbClr val="279ae9"/>
                    </a:gs>
                  </a:gsLst>
                  <a:lin ang="16200000"/>
                </a:gradFill>
                <a:ln w="9360">
                  <a:solidFill>
                    <a:srgbClr val="3d97d5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723760" y="2178000"/>
                  <a:ext cx="155772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1e74af"/>
                    </a:gs>
                    <a:gs pos="100000">
                      <a:srgbClr val="279ae9"/>
                    </a:gs>
                  </a:gsLst>
                  <a:lin ang="16200000"/>
                </a:gradFill>
                <a:ln w="9360">
                  <a:solidFill>
                    <a:srgbClr val="3d97d5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application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723760" y="3038400"/>
                  <a:ext cx="155772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1e74af"/>
                    </a:gs>
                    <a:gs pos="100000">
                      <a:srgbClr val="279ae9"/>
                    </a:gs>
                  </a:gsLst>
                  <a:lin ang="16200000"/>
                </a:gradFill>
                <a:ln w="9360">
                  <a:solidFill>
                    <a:srgbClr val="3d97d5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runtim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 flipH="1">
                <a:off x="4290480" y="4289400"/>
                <a:ext cx="215640" cy="1666800"/>
              </a:xfrm>
              <a:custGeom>
                <a:avLst/>
                <a:gdLst>
                  <a:gd name="textAreaLeft" fmla="*/ 137880 w 215640"/>
                  <a:gd name="textAreaRight" fmla="*/ 216000 w 215640"/>
                  <a:gd name="textAreaTop" fmla="*/ 0 h 1666800"/>
                  <a:gd name="textAreaBottom" fmla="*/ 1667160 h 166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0"/>
                      <a:pt x="10800" y="0"/>
                    </a:cubicBezTo>
                    <a:lnTo>
                      <a:pt x="10800" y="10800"/>
                    </a:lnTo>
                    <a:cubicBezTo>
                      <a:pt x="10800" y="10800"/>
                      <a:pt x="5400" y="10800"/>
                      <a:pt x="0" y="10800"/>
                    </a:cubicBezTo>
                    <a:cubicBezTo>
                      <a:pt x="5400" y="10800"/>
                      <a:pt x="10800" y="10800"/>
                      <a:pt x="10800" y="10800"/>
                    </a:cubicBezTo>
                    <a:lnTo>
                      <a:pt x="10800" y="21600"/>
                    </a:lnTo>
                    <a:cubicBezTo>
                      <a:pt x="10800" y="216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4250880" y="4316040"/>
                <a:ext cx="393480" cy="165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operator manag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92000" y="2178000"/>
                <a:ext cx="124920" cy="2079720"/>
              </a:xfrm>
              <a:custGeom>
                <a:avLst/>
                <a:gdLst>
                  <a:gd name="textAreaLeft" fmla="*/ 79920 w 124920"/>
                  <a:gd name="textAreaRight" fmla="*/ 125280 w 124920"/>
                  <a:gd name="textAreaTop" fmla="*/ 0 h 2079720"/>
                  <a:gd name="textAreaBottom" fmla="*/ 2080080 h 207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0"/>
                      <a:pt x="10800" y="0"/>
                    </a:cubicBezTo>
                    <a:lnTo>
                      <a:pt x="10800" y="10800"/>
                    </a:lnTo>
                    <a:cubicBezTo>
                      <a:pt x="10800" y="10800"/>
                      <a:pt x="5400" y="10800"/>
                      <a:pt x="0" y="10800"/>
                    </a:cubicBezTo>
                    <a:cubicBezTo>
                      <a:pt x="5400" y="10800"/>
                      <a:pt x="10800" y="10800"/>
                      <a:pt x="10800" y="10800"/>
                    </a:cubicBezTo>
                    <a:lnTo>
                      <a:pt x="10800" y="21600"/>
                    </a:lnTo>
                    <a:cubicBezTo>
                      <a:pt x="10800" y="216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71600" y="2657520"/>
                <a:ext cx="401400" cy="1187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8" name=""/>
            <p:cNvGrpSpPr/>
            <p:nvPr/>
          </p:nvGrpSpPr>
          <p:grpSpPr>
            <a:xfrm>
              <a:off x="4313160" y="1295280"/>
              <a:ext cx="2390400" cy="4689720"/>
              <a:chOff x="4313160" y="1295280"/>
              <a:chExt cx="2390400" cy="4689720"/>
            </a:xfrm>
          </p:grpSpPr>
          <p:sp>
            <p:nvSpPr>
              <p:cNvPr id="169" name=""/>
              <p:cNvSpPr/>
              <p:nvPr/>
            </p:nvSpPr>
            <p:spPr>
              <a:xfrm>
                <a:off x="4900680" y="1295280"/>
                <a:ext cx="1305000" cy="4681800"/>
              </a:xfrm>
              <a:custGeom>
                <a:avLst/>
                <a:gdLst>
                  <a:gd name="textAreaLeft" fmla="*/ 63720 w 1305000"/>
                  <a:gd name="textAreaRight" fmla="*/ 1241280 w 1305000"/>
                  <a:gd name="textAreaTop" fmla="*/ 63720 h 4681800"/>
                  <a:gd name="textAreaBottom" fmla="*/ 4618080 h 4681800"/>
                </a:gdLst>
                <a:ahLst/>
                <a:rect l="textAreaLeft" t="textAreaTop" r="textAreaRight" b="textAreaBottom"/>
                <a:pathLst>
                  <a:path w="21600" h="77476">
                    <a:moveTo>
                      <a:pt x="3600" y="0"/>
                    </a:moveTo>
                    <a:arcTo wR="3600" hR="3600" stAng="16200000" swAng="-5400000"/>
                    <a:lnTo>
                      <a:pt x="0" y="73876"/>
                    </a:lnTo>
                    <a:arcTo wR="3600" hR="3600" stAng="10800000" swAng="-5400000"/>
                    <a:lnTo>
                      <a:pt x="18000" y="774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paa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6341400" y="3033720"/>
                <a:ext cx="196920" cy="2951280"/>
              </a:xfrm>
              <a:custGeom>
                <a:avLst/>
                <a:gdLst>
                  <a:gd name="textAreaLeft" fmla="*/ 125640 w 196920"/>
                  <a:gd name="textAreaRight" fmla="*/ 196920 w 196920"/>
                  <a:gd name="textAreaTop" fmla="*/ 0 h 2951280"/>
                  <a:gd name="textAreaBottom" fmla="*/ 2951640 h 295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0"/>
                      <a:pt x="10800" y="0"/>
                    </a:cubicBezTo>
                    <a:lnTo>
                      <a:pt x="10800" y="10800"/>
                    </a:lnTo>
                    <a:cubicBezTo>
                      <a:pt x="10800" y="10800"/>
                      <a:pt x="5400" y="10800"/>
                      <a:pt x="0" y="10800"/>
                    </a:cubicBezTo>
                    <a:cubicBezTo>
                      <a:pt x="5400" y="10800"/>
                      <a:pt x="10800" y="10800"/>
                      <a:pt x="10800" y="10800"/>
                    </a:cubicBezTo>
                    <a:lnTo>
                      <a:pt x="10800" y="21600"/>
                    </a:lnTo>
                    <a:cubicBezTo>
                      <a:pt x="10800" y="216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6309720" y="3666600"/>
                <a:ext cx="393480" cy="165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operator manag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618080" y="2160720"/>
                <a:ext cx="142920" cy="799920"/>
              </a:xfrm>
              <a:custGeom>
                <a:avLst/>
                <a:gdLst>
                  <a:gd name="textAreaLeft" fmla="*/ 91440 w 142920"/>
                  <a:gd name="textAreaRight" fmla="*/ 143280 w 142920"/>
                  <a:gd name="textAreaTop" fmla="*/ 0 h 799920"/>
                  <a:gd name="textAreaBottom" fmla="*/ 800280 h 799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0"/>
                      <a:pt x="10800" y="0"/>
                    </a:cubicBezTo>
                    <a:lnTo>
                      <a:pt x="10800" y="10800"/>
                    </a:lnTo>
                    <a:cubicBezTo>
                      <a:pt x="10800" y="10800"/>
                      <a:pt x="5400" y="10800"/>
                      <a:pt x="0" y="10800"/>
                    </a:cubicBezTo>
                    <a:cubicBezTo>
                      <a:pt x="5400" y="10800"/>
                      <a:pt x="10800" y="10800"/>
                      <a:pt x="10800" y="10800"/>
                    </a:cubicBezTo>
                    <a:lnTo>
                      <a:pt x="10800" y="21600"/>
                    </a:lnTo>
                    <a:cubicBezTo>
                      <a:pt x="10800" y="216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313160" y="1968480"/>
                <a:ext cx="401760" cy="1187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4" name=""/>
              <p:cNvGrpSpPr/>
              <p:nvPr/>
            </p:nvGrpSpPr>
            <p:grpSpPr>
              <a:xfrm>
                <a:off x="4772160" y="2178000"/>
                <a:ext cx="1560240" cy="3799080"/>
                <a:chOff x="4772160" y="2178000"/>
                <a:chExt cx="1560240" cy="37990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772160" y="5187960"/>
                  <a:ext cx="156024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storag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772160" y="4757760"/>
                  <a:ext cx="156024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server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772160" y="5618160"/>
                  <a:ext cx="156024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network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772160" y="3898800"/>
                  <a:ext cx="1560240" cy="3571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772160" y="3468600"/>
                  <a:ext cx="156024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middlewar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772160" y="4327560"/>
                  <a:ext cx="156024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virtualiza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772160" y="2178000"/>
                  <a:ext cx="156024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1e74af"/>
                    </a:gs>
                    <a:gs pos="100000">
                      <a:srgbClr val="279ae9"/>
                    </a:gs>
                  </a:gsLst>
                  <a:lin ang="16200000"/>
                </a:gradFill>
                <a:ln w="9360">
                  <a:solidFill>
                    <a:srgbClr val="3d97d5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application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772160" y="3038400"/>
                  <a:ext cx="156024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runtim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772160" y="2608200"/>
                  <a:ext cx="156024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1e74af"/>
                    </a:gs>
                    <a:gs pos="100000">
                      <a:srgbClr val="279ae9"/>
                    </a:gs>
                  </a:gsLst>
                  <a:lin ang="16200000"/>
                </a:gradFill>
                <a:ln w="9360">
                  <a:solidFill>
                    <a:srgbClr val="3d97d5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4" name=""/>
            <p:cNvGrpSpPr/>
            <p:nvPr/>
          </p:nvGrpSpPr>
          <p:grpSpPr>
            <a:xfrm>
              <a:off x="6805440" y="1295280"/>
              <a:ext cx="1955520" cy="4689720"/>
              <a:chOff x="6805440" y="1295280"/>
              <a:chExt cx="1955520" cy="4689720"/>
            </a:xfrm>
          </p:grpSpPr>
          <p:sp>
            <p:nvSpPr>
              <p:cNvPr id="185" name=""/>
              <p:cNvSpPr/>
              <p:nvPr/>
            </p:nvSpPr>
            <p:spPr>
              <a:xfrm>
                <a:off x="6932520" y="1295280"/>
                <a:ext cx="1303560" cy="4681800"/>
              </a:xfrm>
              <a:custGeom>
                <a:avLst/>
                <a:gdLst>
                  <a:gd name="textAreaLeft" fmla="*/ 63360 w 1303560"/>
                  <a:gd name="textAreaRight" fmla="*/ 1240200 w 1303560"/>
                  <a:gd name="textAreaTop" fmla="*/ 63360 h 4681800"/>
                  <a:gd name="textAreaBottom" fmla="*/ 4618440 h 4681800"/>
                </a:gdLst>
                <a:ahLst/>
                <a:rect l="textAreaLeft" t="textAreaTop" r="textAreaRight" b="textAreaBottom"/>
                <a:pathLst>
                  <a:path w="21600" h="77562">
                    <a:moveTo>
                      <a:pt x="3600" y="0"/>
                    </a:moveTo>
                    <a:arcTo wR="3600" hR="3600" stAng="16200000" swAng="-5400000"/>
                    <a:lnTo>
                      <a:pt x="0" y="73962"/>
                    </a:lnTo>
                    <a:arcTo wR="3600" hR="3600" stAng="10800000" swAng="-5400000"/>
                    <a:lnTo>
                      <a:pt x="18000" y="7756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saa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8373240" y="2160720"/>
                <a:ext cx="189000" cy="3824280"/>
              </a:xfrm>
              <a:custGeom>
                <a:avLst/>
                <a:gdLst>
                  <a:gd name="textAreaLeft" fmla="*/ 120600 w 189000"/>
                  <a:gd name="textAreaRight" fmla="*/ 189000 w 189000"/>
                  <a:gd name="textAreaTop" fmla="*/ 0 h 3824280"/>
                  <a:gd name="textAreaBottom" fmla="*/ 3824640 h 382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0"/>
                      <a:pt x="10800" y="0"/>
                    </a:cubicBezTo>
                    <a:lnTo>
                      <a:pt x="10800" y="10800"/>
                    </a:lnTo>
                    <a:cubicBezTo>
                      <a:pt x="10800" y="10800"/>
                      <a:pt x="5400" y="10800"/>
                      <a:pt x="0" y="10800"/>
                    </a:cubicBezTo>
                    <a:cubicBezTo>
                      <a:pt x="5400" y="10800"/>
                      <a:pt x="10800" y="10800"/>
                      <a:pt x="10800" y="10800"/>
                    </a:cubicBezTo>
                    <a:lnTo>
                      <a:pt x="10800" y="21600"/>
                    </a:lnTo>
                    <a:cubicBezTo>
                      <a:pt x="10800" y="216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8367120" y="3307680"/>
                <a:ext cx="393480" cy="165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operator manag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6805440" y="2178000"/>
                <a:ext cx="1557360" cy="3799080"/>
                <a:chOff x="6805440" y="2178000"/>
                <a:chExt cx="1557360" cy="3799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805440" y="5187960"/>
                  <a:ext cx="155736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storag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805440" y="4757760"/>
                  <a:ext cx="155736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server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805440" y="5618160"/>
                  <a:ext cx="155736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network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805440" y="3898800"/>
                  <a:ext cx="1557360" cy="3571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6805440" y="3468600"/>
                  <a:ext cx="155736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middlewar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805440" y="4327560"/>
                  <a:ext cx="155736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virtualiza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805440" y="2178000"/>
                  <a:ext cx="155736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application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805440" y="3038400"/>
                  <a:ext cx="155736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runtim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6805440" y="2608200"/>
                  <a:ext cx="155736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8702D1-4B69-42B5-8965-67698E21AFFD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1818ff"/>
                </a:solidFill>
                <a:latin typeface="Arial"/>
              </a:rPr>
              <a:t>SaaS vs. PaaS vs. IaaS:</a:t>
            </a:r>
            <a:br>
              <a:rPr sz="3600"/>
            </a:br>
            <a:r>
              <a:rPr b="0" lang="en-US" sz="2200" spc="-1" strike="noStrike">
                <a:solidFill>
                  <a:srgbClr val="1818ff"/>
                </a:solidFill>
                <a:latin typeface="Arial"/>
              </a:rPr>
              <a:t>Cloud is Not the Bleeding 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324560" cy="438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3T20:14:09Z</dcterms:created>
  <dc:creator/>
  <dc:description/>
  <dc:language>en-US</dc:language>
  <cp:lastModifiedBy/>
  <cp:lastPrinted>2012-08-20T03:14:29Z</cp:lastPrinted>
  <dcterms:modified xsi:type="dcterms:W3CDTF">2020-12-07T06:42:49Z</dcterms:modified>
  <cp:revision>470</cp:revision>
  <dc:subject/>
  <dc:title>Database Design: DBS CB, 2nd Edition</dc:title>
</cp:coreProperties>
</file>