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60360" y="721800"/>
            <a:ext cx="4795920" cy="35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BAA8-7A8D-497E-85A6-3C6734C66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58D6-D954-4374-BC45-5C0C4D5EBC6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E86E-5785-44FE-8BB3-145D89A6BBB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A021-B0E4-4766-9EB7-EBDEE7A6AE9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7DA6-53C8-4234-80D8-AE2EF9814C3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0BCB-094A-4828-8733-F95E3CA5A5C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DEE1-9E85-4C90-BFD0-B4806AEC084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6E34-3DA3-4B28-B981-442B4A7F9C4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ABDC-2CCD-487F-B5A8-05DF47C061B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1209-F8FC-48A6-9D26-315A0803257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9336-A0C1-47AB-81D9-A1C54209663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9A7C-4CEB-4714-B2C3-D88438B22BD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CD7B-3550-4AE8-BBC4-2B9EB9ECEC1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AF44-5297-44C1-B8CB-8D0B34FD0DB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67E9-AB7C-4518-864C-6E507DDD90F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3CB4-5FB3-462A-B1CB-E6B876BE110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4F46-E319-440A-A588-AC31485E2DE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BC9E-48ED-4445-8C30-90A7B95BB22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66AB-FA46-46FB-9B37-CBBA59E5FD7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5B55-799C-4599-B133-ADEA3177E3A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1187-AC20-4B74-B82F-B5F4200F3A0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6EB9-374D-474F-AA74-8D2DC0E3CFE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1D61-5804-4236-96AE-868C8E0F047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BA4D-D58B-4F75-BEFA-329D00E7125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F323-CB56-4BCB-8886-A5411B07644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20BF-0B9D-42B9-AEF4-006F5FC1696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6D95D-11E9-49B5-99DA-C8F6785D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A499A-E987-446A-B12D-20234271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2A221-B1A9-4150-BA57-85715090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21979-EDE4-4E20-9B39-11856327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8DEAD-87D1-4609-BFC1-392F7EC1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D9360-EF73-4152-A17A-BF46F0AA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56DDD-5FF0-427A-ADFF-AD3C29AA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01E79-0FB4-47E7-978F-3F4B187D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E0C9F-5F60-41F0-8253-EC87B796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40280-14E2-4C84-A1E1-3B78843B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B4524-6F0B-436C-9DAE-E5AD3E6C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5CF30-42EF-4826-A23C-A6C50E7F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</a:path>
                  <a:path stroke="0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</a:path>
                  <a:path stroke="0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  <a:lnTo>
                      <a:pt x="21598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07D4-6988-4053-81C9-7507AE63EFF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7/Leibniz_23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7/Leibniz_23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7/Leibniz_23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pinoz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pinoz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pinoz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7/Leibniz_23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Lecture 18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Rationalism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Gottfried Wilhelm von Leibniz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onad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universe consisted of an infinite number of life units called mona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monad is like a living atom; all monads are active and consciou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nads differ in clarity of consciousness in a hierarch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general the hierarchy goes from God, the highest, to humans, then to animals, followed by animals, plants, and nonliving matte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9" name="Picture 4" descr="File:Leibniz 2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5280" y="2133720"/>
            <a:ext cx="255240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Gottfried Wilhelm von Leibniz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nd-body issu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ibniz proposed a psycho-physical parallelism with a pre-established harmon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rgued that monads never influence each other; it only appears that they do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mind and body appear to influence each other, but they do not work in paralle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y work in harmony because God planned it that wa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2" name="Picture 4" descr="File:Leibniz 2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5280" y="2133720"/>
            <a:ext cx="255240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Gottfried Wilhelm von Leibniz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ercept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erceptions can be conscious or below consciousness (petites perception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s petites perceptions accumulate, their force causes appercep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w of Continuit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l differences in nature are characterized by small gradati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ime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5" name="Picture 4" descr="File:Leibniz 2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5280" y="2133720"/>
            <a:ext cx="255240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Thomas Reid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Reid (1710 –1796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ottish philosopher and founder of the Scottish School of Common Sens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id claimed that our common sense (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sensus communi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) justify our belief in an external worl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Because all humans are convinced of the existence of physical reality, it must exist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rect Real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nsations are an accurate reflection of reality immediately, not after the mind has operated on them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8" name="Picture 2" descr="File:ThomasReid.jpg"/>
          <p:cNvPicPr/>
          <p:nvPr/>
        </p:nvPicPr>
        <p:blipFill>
          <a:blip r:embed="rId1"/>
          <a:stretch/>
        </p:blipFill>
        <p:spPr>
          <a:xfrm>
            <a:off x="6629400" y="2435400"/>
            <a:ext cx="2438280" cy="312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. Thomas Reid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asoning powers of the mind include several facultie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re than a classification, as done by other faculty psychologists (c.f., human mind consists of separate or trainable powers or faculties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ntal faculties are active powers of the min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y actually existed and influenced people’s thoughts and behavi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1" name="Picture 2" descr="File:ThomasReid.jpg"/>
          <p:cNvPicPr/>
          <p:nvPr/>
        </p:nvPicPr>
        <p:blipFill>
          <a:blip r:embed="rId1"/>
          <a:stretch/>
        </p:blipFill>
        <p:spPr>
          <a:xfrm>
            <a:off x="6629400" y="2435400"/>
            <a:ext cx="2438280" cy="312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. Immanuel Ka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mmanuel Kant (1724 – 1804)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that the mind must add something to sensory data before knowledge can be attain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p to now it has been assumed that all our cognition must conform to the objects; but ...let us once try whether we do not get farther with the problems of metaphysics by assuming that the objects must conform to our cogni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4" name="Picture 2" descr="http://upload.wikimedia.org/wikipedia/commons/thumb/4/43/Immanuel_Kant_%28painted_portrait%29.jpg/200px-Immanuel_Kant_%28painted_portrait%29.jpg"/>
          <p:cNvPicPr/>
          <p:nvPr/>
        </p:nvPicPr>
        <p:blipFill>
          <a:blip r:embed="rId1"/>
          <a:stretch/>
        </p:blipFill>
        <p:spPr>
          <a:xfrm>
            <a:off x="6527880" y="1905120"/>
            <a:ext cx="25398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. Immanuel Ka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15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quality of mind was provided by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a priori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(or before experience) categories of thought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10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A priori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categories of thought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nity, totality, time, space, cause and effect, reality, quantity, quality, negation, possibility-impossibility, and existence-nonexistenc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7" name="Picture 2" descr="http://upload.wikimedia.org/wikipedia/commons/thumb/4/43/Immanuel_Kant_%28painted_portrait%29.jpg/200px-Immanuel_Kant_%28painted_portrait%29.jpg"/>
          <p:cNvPicPr/>
          <p:nvPr/>
        </p:nvPicPr>
        <p:blipFill>
          <a:blip r:embed="rId1"/>
          <a:stretch/>
        </p:blipFill>
        <p:spPr>
          <a:xfrm>
            <a:off x="6527880" y="1905120"/>
            <a:ext cx="25398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. Immanuel Ka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ur mental experienc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lways structured by the categories of though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ur “phenomenological experience” is an interaction of sensations and the categories of though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n never know the true physical reality just appearances (phenomena) that are controlled by the categories of though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0" name="Picture 2" descr="http://upload.wikimedia.org/wikipedia/commons/thumb/4/43/Immanuel_Kant_%28painted_portrait%29.jpg/200px-Immanuel_Kant_%28painted_portrait%29.jpg"/>
          <p:cNvPicPr/>
          <p:nvPr/>
        </p:nvPicPr>
        <p:blipFill>
          <a:blip r:embed="rId1"/>
          <a:stretch/>
        </p:blipFill>
        <p:spPr>
          <a:xfrm>
            <a:off x="6527880" y="1905120"/>
            <a:ext cx="25398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. Immanuel Ka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priori (prior to experienc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0560" indent="-660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mind adds the concept of time and space to sensory informa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0560" indent="-660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y are both provided by an a priori category of though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tegorical Imperativ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0560" indent="-660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rational principle which governs or should govern moral behavi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0560" indent="-6606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imilar to older moral precepts such as the “golden rule”.</a:t>
            </a:r>
            <a:r>
              <a:rPr b="0" lang="en-US" sz="28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nthrop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0560" indent="-660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nonscientific way of studying how people actually beha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3" name="Picture 2" descr="http://upload.wikimedia.org/wikipedia/commons/thumb/4/43/Immanuel_Kant_%28painted_portrait%29.jpg/200px-Immanuel_Kant_%28painted_portrait%29.jpg"/>
          <p:cNvPicPr/>
          <p:nvPr/>
        </p:nvPicPr>
        <p:blipFill>
          <a:blip r:embed="rId1"/>
          <a:stretch/>
        </p:blipFill>
        <p:spPr>
          <a:xfrm>
            <a:off x="6527880" y="1905120"/>
            <a:ext cx="25398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. Johann Friedrich Herbar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ann Friedrich Herbart (1776 - 1841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rman philosopher and psychologist who began pedagogy – the study of way of teaching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d not believe psychology could be an experimental 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mind acts as an integrated whole therefore it could not be fractionat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6" name="Picture 2" descr="File:Johann Friedrich Herbart.jpg"/>
          <p:cNvPicPr/>
          <p:nvPr/>
        </p:nvPicPr>
        <p:blipFill>
          <a:blip r:embed="rId1"/>
          <a:stretch/>
        </p:blipFill>
        <p:spPr>
          <a:xfrm>
            <a:off x="6647040" y="2362320"/>
            <a:ext cx="2420640" cy="2533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scartes’ notion of innate ideas is consistent with ration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ationalism is a view appealing to reason as a source of knowledge or justification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criterion of the truth is not sensory but intellectual and deductiv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ince the Enlightenment, rationalism is usually associated with the mathematical methods of Descartes, Leibniz, and Spinoz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is commonly called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ntinental rationalis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, as distinguished from British empiric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. Johann Friedrich Herbar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sychic Mechanic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eas had a force or energy of their own and the laws of association were not necessarily to bind the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eas have the power to attract or repel other ideas, depending on their compatibilit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eas attempt to gain expression in consciousness and compete with each other to do so.</a:t>
            </a:r>
            <a:r>
              <a:rPr b="0" lang="en-US" sz="28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Picture 2" descr="File:Johann Friedrich Herbart.jpg"/>
          <p:cNvPicPr/>
          <p:nvPr/>
        </p:nvPicPr>
        <p:blipFill>
          <a:blip r:embed="rId1"/>
          <a:stretch/>
        </p:blipFill>
        <p:spPr>
          <a:xfrm>
            <a:off x="6647040" y="2362320"/>
            <a:ext cx="2420640" cy="2533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. Johann Friedrich Herbar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pperceptive Mas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mpatible ideas that are in consciousness to which we are attending at given mome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deas outside apperceptive mass (incompatible ideas) are repressed by the powers of the ideas in the mas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ime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threshold between conscious and unconsciou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8240" indent="-6033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Goal was to mathematically express the relationships among the apperceptive mass, the limen, and the conflict among ide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Picture 2" descr="File:Johann Friedrich Herbart.jpg"/>
          <p:cNvPicPr/>
          <p:nvPr/>
        </p:nvPicPr>
        <p:blipFill>
          <a:blip r:embed="rId1"/>
          <a:stretch/>
        </p:blipFill>
        <p:spPr>
          <a:xfrm>
            <a:off x="6500880" y="2209680"/>
            <a:ext cx="256680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. Johann Friedrich Herbar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ffective Teaching: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view material already learned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pare students for new material by giving overview of upcoming materi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sent new materi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late new material to what has already been learn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how applications of new material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ive an overview of next material to be learned.</a:t>
            </a:r>
            <a:r>
              <a:rPr b="0" lang="en-US" sz="28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Picture 2" descr="File:Johann Friedrich Herbart.jpg"/>
          <p:cNvPicPr/>
          <p:nvPr/>
        </p:nvPicPr>
        <p:blipFill>
          <a:blip r:embed="rId1"/>
          <a:stretch/>
        </p:blipFill>
        <p:spPr>
          <a:xfrm>
            <a:off x="6500880" y="2209680"/>
            <a:ext cx="256680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Georg Wilhelm Friedrich Heg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.W.F. Hegel (1770 –1831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rman philosopher, and one of the creators of German ideal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developed a concept of mind or spirit that manifested itself in a set of contradictions and oppositions that it ultimately integrated and unit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Absolut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niverse is interrelated un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ue knowledge is attained by relating isolated instances to the “whole.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Picture 2" descr="http://aesthetictraditionalist.files.wordpress.com/2008/12/hegel_portrait_by_schlesinger_1831.jpg"/>
          <p:cNvPicPr/>
          <p:nvPr/>
        </p:nvPicPr>
        <p:blipFill>
          <a:blip r:embed="rId1"/>
          <a:stretch/>
        </p:blipFill>
        <p:spPr>
          <a:xfrm>
            <a:off x="6477120" y="2303640"/>
            <a:ext cx="263520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Georg Wilhelm Friedrich Heg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ur understanding progresses toward the absolute by the dialectic process,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irst have a thesis (a point of view) and an antithesis (opposite point of view),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n have a synthesis (a compromise between the thesis and the antithesis), which is a new point of view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is new point of view now becomes the thesis for the next dialectic proces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1" name="Picture 2" descr="http://aesthetictraditionalist.files.wordpress.com/2008/12/hegel_portrait_by_schlesinger_1831.jpg"/>
          <p:cNvPicPr/>
          <p:nvPr/>
        </p:nvPicPr>
        <p:blipFill>
          <a:blip r:embed="rId1"/>
          <a:stretch/>
        </p:blipFill>
        <p:spPr>
          <a:xfrm>
            <a:off x="6477120" y="2286000"/>
            <a:ext cx="2631960" cy="333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Georg Wilhelm Friedrich Heg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gel proposed the concept of alienation (self-estrangement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ter used in theories of Eric Fromm, Carl Rogers, and the existentialis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Picture 2" descr="http://aesthetictraditionalist.files.wordpress.com/2008/12/hegel_portrait_by_schlesinger_1831.jpg"/>
          <p:cNvPicPr/>
          <p:nvPr/>
        </p:nvPicPr>
        <p:blipFill>
          <a:blip r:embed="rId1"/>
          <a:stretch/>
        </p:blipFill>
        <p:spPr>
          <a:xfrm>
            <a:off x="6477120" y="2286000"/>
            <a:ext cx="2631960" cy="333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Rationalism vs. Empiric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fferences between empiricism and ration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tus of Min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iricists describe a passive mind which acts in mechanical w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ationalists proposed an active mind that acts on information from the senses and gives it mean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termin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iricists proposed that experience, memory, associations, and hedonism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not only how a person thinks and acts but also his or her moral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r rationalists, there are rational reasons for some acts or thoughts being judged more desirable than other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Rationalism vs. Empiric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fferences between empiricism and ration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plana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iricists emphasize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imes New Roman"/>
              </a:rPr>
              <a:t>mechanical cause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of behavior, which emphasize the power of environmental factor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ationalists emphasize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imes New Roman"/>
              </a:rPr>
              <a:t>reason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for behavior. Which emphasize the power of reflection on opti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tho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iricists stress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imes New Roman"/>
              </a:rPr>
              <a:t>induction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which involves generalizing from observables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cien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ationalists stress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imes New Roman"/>
              </a:rPr>
              <a:t>deduction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ich involves inferring from first principles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athematic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Baruch Spinoz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aruch Spinoza 1632 – 1677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utch philosopher of Portuguese Jewish origi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sidered one of greatest rationalis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ntrary to Descartes, he proposed that God, nature, and mind were aspects of the same substanc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od, nature, and mind were inseparab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antheism:  God was natu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o understand nature is to understand God as God is present everywhere and in everything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4" name="Picture 2" descr="http://upload.wikimedia.org/wikipedia/commons/thumb/e/ea/Spinoza.jpg/200px-Spino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7680" y="1676520"/>
            <a:ext cx="23400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Baruch Spinoz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trary to Dualism, Spinoza proposed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Double Aspectis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ind and body were two aspects of the same thin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e really do not have free will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ature (God) is lawful and humans are part of natu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us thoughts and behavior are lawful – determine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Our “freedom” is realizing that everything that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is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ust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necessarily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b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and everything that happens must necessarily happen - because everything results from God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7" name="Picture 2" descr="http://upload.wikimedia.org/wikipedia/commons/thumb/e/ea/Spinoza.jpg/200px-Spino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7680" y="1676520"/>
            <a:ext cx="23400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Baruch Spinoz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leasure comes from entertaining clear ideas, which are conducive to the mind’s surviva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en the mind entertains unclear ideas, it feels weak and vulner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assion is a general upheaval not associated with a particular though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motion is linked to a particular though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0" name="Picture 2" descr="http://upload.wikimedia.org/wikipedia/commons/thumb/e/ea/Spinoza.jpg/200px-Spino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7680" y="1676520"/>
            <a:ext cx="23400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Nicolas de Malebranch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icolas de Malebranche (1638 –1715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ench rationalist philosoph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sought to demonstrate the active role of God in every aspect of the worl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mind-body Occasional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en a person has a desire to move a part of the body, God is aware of this and moves the body par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3" name="Picture 2" descr="Nicolas_Malebranche"/>
          <p:cNvPicPr/>
          <p:nvPr/>
        </p:nvPicPr>
        <p:blipFill>
          <a:blip r:embed="rId1"/>
          <a:stretch/>
        </p:blipFill>
        <p:spPr>
          <a:xfrm>
            <a:off x="6672240" y="2057400"/>
            <a:ext cx="23954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Gottfried Wilhelm von Leibniz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ottfried Wilhelm von Leibniz (1646 - 1716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rman philosopher invented calculus independently of Newt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so invented the binary syste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sagreed with Locke, believing ideas don’t come from experie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deas are immaterial and cannot be caused by material activity such as sense activi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deas must be innate – which means the potential for an idea s innat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6" name="Picture 4" descr="File:Leibniz 2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5280" y="2133720"/>
            <a:ext cx="255240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 Eric Amsel</cp:lastModifiedBy>
  <cp:lastPrinted>2001-05-25T15:02:50Z</cp:lastPrinted>
  <dcterms:modified xsi:type="dcterms:W3CDTF">2011-11-03T12:09:54Z</dcterms:modified>
  <cp:revision>1043</cp:revision>
  <dc:subject/>
  <dc:title>Issues and Theories</dc:title>
</cp:coreProperties>
</file>