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7304400" cy="9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dt" idx="6"/>
          </p:nvPr>
        </p:nvSpPr>
        <p:spPr>
          <a:xfrm>
            <a:off x="413820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Img"/>
          </p:nvPr>
        </p:nvSpPr>
        <p:spPr>
          <a:xfrm>
            <a:off x="1257480" y="720360"/>
            <a:ext cx="4789440" cy="3592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600" bIns="48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ftr" idx="7"/>
          </p:nvPr>
        </p:nvSpPr>
        <p:spPr>
          <a:xfrm>
            <a:off x="-3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 type="sldNum" idx="8"/>
          </p:nvPr>
        </p:nvSpPr>
        <p:spPr>
          <a:xfrm>
            <a:off x="413820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51E95-FC56-47D4-9373-7BA233DEFA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C7072-96E6-46CE-9E7D-E9F369DABA30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AD21D-ABB4-4185-AFE0-7EBB310A9BE8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715DC-8877-41CC-935D-1E1628A589AC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08E29-C211-47EB-935A-29CF097C3BDB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A4406-C545-4E13-B96B-876E0E0B2421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73824-9347-4ACE-9486-5055B1D4C488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D51C9-682A-48DF-B4A2-367E329916D7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52006-5051-4393-9A4A-29B93ED8F1D6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6D00F-8A30-4051-BA6A-C4B8E8F71FA8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14A78-26E7-4996-B3F0-987A69766169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7DFF1-2F03-45F3-B799-8A4AA92C3C72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17A4E-A95E-45DC-B213-22392A55B8F2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5F554-FE1E-44C1-9ABA-C37848FD7825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C01FB-05D3-4565-8083-EE4D7107BC7D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77A64-4889-42C6-9664-5D8E08032EC1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B40F6-7B78-4CD0-B964-A26B0F11776F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179A9-6848-44D2-B117-94834DA2088A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296DD-B72B-4065-AD87-26D5372CA66F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1317C-3EC3-467C-BCD7-CF8E57BA1E29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D9896-A21D-4E49-A244-515A0AC468D6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C22C5-FB25-460B-83CD-2684B672AEBC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032EF-BF9E-4BC9-9216-B270FE059C3A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E55B4-A02C-4AE3-B19D-FD82440B2223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6148F-9027-4009-B1C4-766246BFCF7E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A6ED7-836A-43C6-812D-394BAD65D7D2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8FC09-F73C-4560-8E2A-3A9DDAE3D035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740BB-1AE2-4CE1-B6F3-991D8352A602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E4756-3606-4483-A89B-88A31CF405A1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C2EBF-38D1-4098-9497-337496CDE121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2977C-64C2-473B-9E32-F4E872F4E5E8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7E359-400D-4202-9AEA-56D7DB416CF5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28694-21FE-45C6-9B6C-70D5C177B9E3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00775-B44F-44ED-A40C-64EF232238EB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A0ABA-D63E-40FF-A656-F75F4068DB82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B810A-CE16-4D5A-A622-CB1EA4F30594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44103-8691-49B2-BDE4-7D9026CD276B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492CC-40DF-499B-8D3E-974ED6525DCB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2C37A-AD7A-4A9A-8899-4FBDDD3B3A31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71C8B-D432-4448-AB2D-BBFD62F203EC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5A6D6-D1D1-42FA-96F3-6B6F5AA559A5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341DB-118E-4DA8-90C8-2A18524E39CE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153722-EF72-462C-8BF0-64DBF4B51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D3B06E-F8DE-4B5F-9AB9-71AA1EF83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1F5F13-8BE2-489E-8BA3-F8282DE3C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FE0B7A-A743-469A-9B45-6BC66C75C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578CA8-5759-49AC-8F6E-EE02E988B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609480" y="4572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4528DF-36C0-41C0-AA28-B320A200B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2CEEB1-8561-47A1-B483-B0E39610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428A4F-0358-46E1-9793-94CC35B06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73824A-FF6C-463C-BB34-BCFD9035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BBC6D2-24BC-47D7-9D3B-55F7839C0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27260C-BE70-4514-A3CA-1143FC6BD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B4FFF4-4374-4587-BD8A-0CAEA50D6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4572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1066680" y="152280"/>
            <a:ext cx="6870960" cy="127080"/>
          </a:xfrm>
          <a:prstGeom prst="rect">
            <a:avLst/>
          </a:prstGeom>
          <a:ln w="0">
            <a:noFill/>
          </a:ln>
        </p:spPr>
      </p:pic>
      <p:pic>
        <p:nvPicPr>
          <p:cNvPr id="5" name="Picture 8" descr="vert1"/>
          <p:cNvPicPr/>
          <p:nvPr/>
        </p:nvPicPr>
        <p:blipFill>
          <a:blip r:embed="rId3"/>
          <a:stretch/>
        </p:blipFill>
        <p:spPr>
          <a:xfrm>
            <a:off x="228600" y="990720"/>
            <a:ext cx="36360" cy="402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6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3" name="Group 56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44" name="Rectangle 2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45" name="Group 54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46" name="Line 3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Line 4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Line 5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Line 6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Line 7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Line 8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Line 9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Line 10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Line 11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Line 12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Line 13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Line 14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Line 15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Line 16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Line 17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Line 18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Line 19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Line 20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Line 21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Line 22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Line 23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Line 24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Line 25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Line 26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Line 27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Line 28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Line 29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Line 30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Line 31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Line 32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Line 33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Line 34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Line 35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Line 36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Line 37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Line 38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Line 39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Line 40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Line 41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Line 42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Line 43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Line 44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Line 45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Line 46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Line 47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Line 48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Line 49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Line 50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Line 51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Line 52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Line 53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" name="Line 55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1260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Group 61"/>
            <p:cNvGrpSpPr/>
            <p:nvPr/>
          </p:nvGrpSpPr>
          <p:grpSpPr>
            <a:xfrm>
              <a:off x="2880" y="887400"/>
              <a:ext cx="6654600" cy="2851200"/>
              <a:chOff x="2880" y="887400"/>
              <a:chExt cx="6654600" cy="2851200"/>
            </a:xfrm>
          </p:grpSpPr>
          <p:sp>
            <p:nvSpPr>
              <p:cNvPr id="99" name="Line 57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1260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0" name="Line 58"/>
              <p:cNvSpPr/>
              <p:nvPr/>
            </p:nvSpPr>
            <p:spPr>
              <a:xfrm flipH="1" flipV="1">
                <a:off x="2880" y="3052800"/>
                <a:ext cx="5097240" cy="1440"/>
              </a:xfrm>
              <a:prstGeom prst="line">
                <a:avLst/>
              </a:prstGeom>
              <a:ln w="1260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1" name="Line 59"/>
              <p:cNvSpPr/>
              <p:nvPr/>
            </p:nvSpPr>
            <p:spPr>
              <a:xfrm flipH="1" flipV="1">
                <a:off x="607680" y="1487520"/>
                <a:ext cx="6049800" cy="1440"/>
              </a:xfrm>
              <a:prstGeom prst="line">
                <a:avLst/>
              </a:prstGeom>
              <a:ln w="1260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2" name="Arc 60"/>
              <p:cNvSpPr/>
              <p:nvPr/>
            </p:nvSpPr>
            <p:spPr>
              <a:xfrm rot="16200000">
                <a:off x="675360" y="1369440"/>
                <a:ext cx="247680" cy="249120"/>
              </a:xfrm>
              <a:prstGeom prst="pie">
                <a:avLst/>
              </a:prstGeom>
              <a:noFill/>
              <a:ln cap="rnd" w="1260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Group 65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04" name="Line 62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1260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5" name="Line 63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1260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6" name="Arc 64"/>
              <p:cNvSpPr/>
              <p:nvPr/>
            </p:nvSpPr>
            <p:spPr>
              <a:xfrm rot="5400000">
                <a:off x="8092080" y="5317200"/>
                <a:ext cx="247320" cy="249480"/>
              </a:xfrm>
              <a:prstGeom prst="pie">
                <a:avLst/>
              </a:prstGeom>
              <a:noFill/>
              <a:ln cap="rnd" w="1260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D309F-8973-4823-8D67-1057EEA4CE8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85840" y="1200240"/>
            <a:ext cx="8539200" cy="16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Lecture 3:  </a:t>
            </a:r>
            <a:br>
              <a:rPr sz="4000"/>
            </a:b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Paradigms and Contemporary Issues </a:t>
            </a: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749160" y="4035600"/>
            <a:ext cx="7569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How the Discipline’s Future can Explain its Past  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-812880">
              <a:buClr>
                <a:srgbClr val="660066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NTRODUCTION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D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The Present in an Historical Perspective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a broad progressive account connecting psychology’s past to its present is premature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What gets written about psychology’s past depends on whether or not the diversity, tensions, and new currents are ever reconciled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9760" indent="-6094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The greater diversity and tensions introduced by new currents may force unification or more disunity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We will consider whether psychology is on a pathway towards unification or disunity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. 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The account of psychology’s history may depend on how the future resolve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DIVERSITY OF PSYCHOLOGY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A. State of the APA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-8128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American Psychological Association (APA) is the national organization of psychology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Founded in 1892 with a handful of charter members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oday there are 85,000 members who can be registered in 54 divisions representing diverse areas of interests and specialtie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e history and present state of the APA reveals much about the discipline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No hostility among the different schools of thought in APA, reflecting a spirit of eclecticism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DIVERSTY IN PSYCHOLOGY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B. Tension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e diversity of psychology also creates tensions which include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212840" indent="-8128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cience versus Application in psychology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612800" indent="-81252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e focus on science vs. practice may be naturally irreconcilable in psychology due to personality and conceptual issu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212840" indent="-8128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History of Clinical Psychology in the APA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612800" indent="-81252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ere has been a long tension between applied and scientifically oriented psychologists in the APA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212840" indent="-8128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e Training of Clinician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612800" indent="-81252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e APA standard of scientist-practitioner training (Ph.D.) is being challenged by Psy.D. degree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OLD TENSIONS IN PSYCHOLOGY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A. Science vs. Application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8240" indent="-711000">
              <a:lnSpc>
                <a:spcPct val="8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e goals of science vs. application are antagonistic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Applied psychologists focus on practicing psychology in order to heal or help people. 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cientists are focused on testing ideas in order to prove them right or wrong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768240" indent="-71100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But in medicine, medical doctors who treat people are also biomedical scientists.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But medical doctors and biomedical scientists may each accept the disease or medical model which is not universally shared in psychology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OLD TENSIONS IN PSYCHOLOGY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B. Science vs. Application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8240" indent="-71100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e tensions between practitioners and sciences are old!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From its inception, there was always a tension those wanting psychology to be a pure science (Wundt, Titchener) and those wanting psychological applied to practical matters (such as Hall, Cattell, and Münsterberg)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e founding of the APA did not decrease this tension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itchener refused to participate in any of APA’s activitie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e created his own organization, 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The Experimentalist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329680" cy="106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OLD TENSIONS IN PSYCHOLOGY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C. Practitioners vs. Scientist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90400" indent="-533160">
              <a:lnSpc>
                <a:spcPct val="8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emperament differences between practitioners and scientific psychologists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90400" indent="-533160">
              <a:lnSpc>
                <a:spcPct val="8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James (1907) divided philosophers into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71640" indent="-45720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imes New Roman"/>
              </a:rPr>
              <a:t>Tender-minded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(Principled, Intellectualistic, Idealistic, Optimistic, Religious, Free-will, Dogmatic) temperament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characterizes members of the humanities (Snow, 1984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971640" indent="-45720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imes New Roman"/>
              </a:rPr>
              <a:t>Tough-minded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(Fact-based, Sensationalistic, Materialistic,  Pessimistic,  Irreligious,  Fatalistic,</a:t>
            </a:r>
            <a:br>
              <a:rPr sz="2800"/>
            </a:b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keptical) temperament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characterizes scientists (Snow, 1984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971640" indent="-45720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Because of the differences, communication between the two groups is challenging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329680" cy="106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OLD TENSIONS IN PSYCHOLOGY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C. Practitioners vs. Scientist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457200">
              <a:lnSpc>
                <a:spcPct val="8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Other differences between practitioners and scientists in psychology.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Kimble (1984) found that experimental psychologists tend to be tough-minded and humanistic psychologists and psychotherapists tend to be tender-minded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571680" indent="-457200">
              <a:lnSpc>
                <a:spcPct val="8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Dawes, Faust, &amp; Meehl (1989) identified different ways clinicians and scientists make judgments and decisions.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Consider how you would prefer to be evaluated for a grade in the course: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90680" indent="-53352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Subjective judgments of the professor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390680" indent="-53352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Objective evaluation of course performance (tests, etc.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329680" cy="106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OLD TENSIONS IN PSYCHOLOGY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C. Practitioners vs. Scientist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90400" indent="-533160">
              <a:lnSpc>
                <a:spcPct val="8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Dawes et al., (1989) characterized the difference in terms of the methods each prefers to make judgments and decisions.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Clinical judgments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are performed in one’s head often using “intuitive knowledge”, “clinical impressions”, or “subjective reactions”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Actuarial or Statistical judgments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rest solely on empirical relations between data and the condition or event. No intuitions, impressions or reactions; just using data to make judgment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329680" cy="106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OLD TENSIONS IN PSYCHOLOGY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C. Practitioners vs. Scientist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457200">
              <a:lnSpc>
                <a:spcPct val="8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Differences found between the method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71640" indent="-45720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Goldberg (1972) found that clinical judgments were correct 62% whereas actuarial judgment were correct 70% of the time when making distinctions between psychosis vs. neurosi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Even training the clinicians in the actuarial rules did not improve their performance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Clinicians’ were unreliable in their patterns of judgments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971640" indent="-45720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Leli &amp; Filskov (1970) studied the diagnosis of brain dysfunction based on intellectual testing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e statistical judgments was correct 83% of new cases but clinicians were correct 63% (experienced) and 58% (inexperienced) of the new cases,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329680" cy="106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OLD TENSIONS IN PSYCHOLOGY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C. Practitioners vs. Scientist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457200">
              <a:lnSpc>
                <a:spcPct val="8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Why are clinical judgments worse than actuarial ones?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71640" indent="-45720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Actuarial procedures, unlike clinical ones, always lead to the same conclusion for a given data set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Factors as fatigue, recent experience, or seemingly minor changes in the ordering of information or in the conceptualization of the case or task can produce fluctuations in judgment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971640" indent="-45720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Actuarial methods ensure that variables contribute to conclusions based on their actual predictive power and relation to the criterion of interest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Actuarial decision rules eliminate the non-predictive variables, and weight predictive ones in accordance with their independent contribution to accurate conclusions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3296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-812880">
              <a:buClr>
                <a:srgbClr val="660066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NTRODUCTION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 Issues and Goal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Contemporary psychology is ambiguou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It is diverse, with old tensions and new currents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Diversity: Psychology is broad tent of theories and approache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9760" indent="-6094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Psychologists in many WSU departments other than Psychology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Old Tensions: The old tensions between scientific psychologists and those who are nonscientific or applied remain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9760" indent="-6094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History of Clinical Psychology very revealing!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New Currents: New movements extend ideas but increase diversity and tension in the field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329680" cy="106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OLD TENSIONS IN PSYCHOLOGY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C. Practitioners vs. Scientist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29840" y="1566360"/>
            <a:ext cx="86914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457200">
              <a:lnSpc>
                <a:spcPct val="8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Why clinical are worse than actuarial judgment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71640" indent="-45720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Clinicians often obtain little or no information about the accuracy of judgments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Clinicians often can not find out whether they are “right” and outcomes are easily distorted (Rosenhan, 1972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971640" indent="-45720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On this note, clinical judgments produce "self-fulfilling prophecies."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rediction of an outcome often leads to decisions that influence or bias that outcome (32)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971640" indent="-45720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Clinicians are exposed to skewed samples making it difficult to determine relations among variables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Co-occurrence of certain features (EEG abnormalities) in a skewed sample (only juvenile delinquents) does not make the feature a predictive of that sample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329680" cy="106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OLD TENSIONS IN PSYCHOLOGY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C. Practitioners vs. Scientist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29840" y="1566360"/>
            <a:ext cx="86914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565920" indent="-452520">
              <a:lnSpc>
                <a:spcPct val="8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linicians are over-confident about their clinical judgment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61920" indent="-45252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Research shows that clinical judgments are made with more confident than their accuracy warrants (Dawes, 1998)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57560" indent="-45252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Faust et al., (1988) found that most clinicians were quite confident in their diagnosis although not one was correct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565920" indent="-452520">
              <a:lnSpc>
                <a:spcPct val="8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An anti-actuarial claim is that group statistics don’t apply to single individuals or events.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61920" indent="-45252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Although individuals and events may exhibit unique features, they typically share common features with other persons or events that permit predictive power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57560" indent="-45252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By this logical, one would be willing to play Russian roulette with a gun having a single or multiple bullet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329680" cy="106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OLD TENSIONS IN PSYCHOLOGY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D. History of Clinical Psychology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609480" indent="-6094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In 18</a:t>
            </a:r>
            <a:r>
              <a:rPr b="0" lang="en-US" sz="3200" spc="-1" strike="noStrike" baseline="30000">
                <a:solidFill>
                  <a:srgbClr val="40458c"/>
                </a:solidFill>
                <a:latin typeface="Times New Roman"/>
                <a:ea typeface="Times New Roman"/>
              </a:rPr>
              <a:t>th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C America, mental illness was seen as an acute illness, curable if therapy was early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609480" indent="-6094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The first mental asylum in the US was open in 1750s in Philadelphia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9760" indent="-6094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Practiced 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oral therapy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which involved individually tailored activitie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9760" indent="-6094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By mid 1950s, asylums (now state hospitals) were disbanded as they had became warehouses of failed patient management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609480" indent="-6094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Research to promote therapy and diagnosis in asylums began in the late 1880s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9760" indent="-6094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ental testing in asylums and out becomes popularized by J. M. Cattell &amp; R. Jastrow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329680" cy="106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OLD TENSIONS IN PSYCHOLOGY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D. History of Clinical Psychology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609480" indent="-609480">
              <a:spcBef>
                <a:spcPts val="75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20</a:t>
            </a:r>
            <a:r>
              <a:rPr b="0" lang="en-US" sz="3000" spc="-1" strike="noStrike" baseline="30000">
                <a:solidFill>
                  <a:srgbClr val="40458c"/>
                </a:solidFill>
                <a:latin typeface="Times New Roman"/>
                <a:ea typeface="Times New Roman"/>
              </a:rPr>
              <a:t>th</a:t>
            </a:r>
            <a:r>
              <a:rPr b="0" lang="en-US" sz="3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C marks the beginning of clinical psychology. 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lvl="2" marL="1009800" indent="-609840">
              <a:spcBef>
                <a:spcPts val="64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Clinical Psychology </a:t>
            </a:r>
            <a:r>
              <a:rPr b="0" lang="en-US" sz="26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coined in 1907 by Witner who also edited journal </a:t>
            </a:r>
            <a:r>
              <a:rPr b="0" i="1" lang="en-US" sz="26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Psychology Clinic</a:t>
            </a:r>
            <a:r>
              <a:rPr b="0" lang="en-US" sz="26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. 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  <a:p>
            <a:pPr lvl="3" marL="1467000" indent="-609840">
              <a:spcBef>
                <a:spcPts val="55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ental testing, specifically intelligence testing, by psychologists becomes widespread during WWI.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 lvl="2" marL="1009800" indent="-609840">
              <a:spcBef>
                <a:spcPts val="64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Freud and Jung visited Clark University in 1909 and gave lectures about Psychoanalysis.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  <a:p>
            <a:pPr lvl="3" marL="1467000" indent="-609840">
              <a:spcBef>
                <a:spcPts val="55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Ds believed that psychotherapy should be practiced exclusively by doctors. 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 lvl="2" marL="1009800" indent="-609840">
              <a:spcBef>
                <a:spcPts val="64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Social movements brought attention to mental health issues (National Committee for Mental Hygiene).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329680" cy="106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OLD TENSIONS IN PSYCHOLOGY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D. History of Clinical Psychology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lvl="1" marL="578880" indent="-5788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Clinical Psychology became a part of the American Psychology Association (APA) in 1919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578880" indent="-57888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APA Founded in 1892 as a society to promote the science of psychology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490040" indent="-67572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Clinicians were not welcomed and later withdrew for a period of time, creating their own associati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490040" indent="-67572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It is not until 1944 that APA fully embraced clinical psychology, becoming responsible for clinicians’ credentialing and training requirement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3" marL="1393560" indent="-5792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o reconcile with clinicians, APA changed its stated purpose to include psychology as a profession and a means of promoting human welfare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329680" cy="106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OLD TENSIONS IN PSYCHOLOGY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D. History of Clinical Psychology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760320" indent="-70380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APA addressed its new responsibility for credentialing and training clinical psychologist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56680" indent="-7041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David Shakow chaired an APA committee to create the curriculum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156680" indent="-7041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e committee completed a report in 1947 which contained a set of undergraduate and graduate curriculum recommendations for clinical psychologist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52680" indent="-70416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e 1947 statement made clear that clinical psychology is “both a science and an art calling for scientific rigor tempered by personal and social sensitivity.”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329680" cy="106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OLD TENSIONS IN PSYCHOLOGY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D. History of Clinical Psychology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8240" indent="-711000">
              <a:lnSpc>
                <a:spcPct val="8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But university Psych Depts. were reluctant of have APA control their curricula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Harvard, Columbia, and others still have Clinical Programs in their School of Education (Ed.D vs. Ph.D.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768240" indent="-711000">
              <a:lnSpc>
                <a:spcPct val="8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A 1949 meeting was held in Boulder Colorado to implement the new curriculum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hakow and 73 others representing universities and other disciplines hammered out a set of specific proposals for the training and practice of clinical psychology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e resulting view of psychological practice was the Boulder (or Scientist-Practitioner) Model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329680" cy="106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OLD TENSIONS IN PSYCHOLOGY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D. History of Clinical Psychology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315280" cy="511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e agreed upon Boulder Model was designed to insure that clinical psychologists…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use scientific methodology in their practic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work with clients using scientifically valid methods, tools, and techniqu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inform their clients of scientifically-based findings and approaches to their problems;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conduct practice-based research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329680" cy="106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OLD TENSIONS IN PSYCHOLOGY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D. History of Clinical Psychology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156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ere remains a split between psychologists oriented to clinical vs. scientific aspects of the discipline in the APA.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142920" y="3174840"/>
            <a:ext cx="3927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APA continued to evolve into an organization in which the applied members began to outnumber the research-oriented psychologists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3905280" y="3216240"/>
            <a:ext cx="5238720" cy="34099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329680" cy="106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OLD TENSIONS IN PSYCHOLOGY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D. History of Clinical Psychology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90400" indent="-53316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In the past, it was the clinicians in APA who were unhappy, now it is the scientists. 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In the 1960s, a group of scientific psychologists left the APA and formed their own organizatio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e Psychonomic Societ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In 1989 another group of psychological scientists organized the APS (American Psychological Society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APS is now called the Association for Psychological Science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is tension between practitioners and scientists is no better today as it was 120 years ago!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-812880">
              <a:buClr>
                <a:srgbClr val="660066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NTRODUCTION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 Connecting Psychology Past to its Present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609480" indent="-6094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The contemporary picture looks nothing like it should!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2" marL="1009800" indent="-60984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Ideally, contemporary psychology should be the </a:t>
            </a:r>
            <a:r>
              <a:rPr b="0" i="1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progressive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result of discipline’s history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3" marL="1467000" indent="-609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Progressive means a philosophically rational process of conceptual chang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4" marL="1924200" indent="-60984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Newer paradigms resolve anomalies of older ones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009800" indent="-60984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A general progressive account of the history of psychology has not been accepted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3" marL="1467000" indent="-609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There are progressive accounts of local changes, which ironically may come from applied psychology (mental testing, diagnostic techniques, treatment outcomes) whose scientific status has been questioned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329680" cy="106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OLD TENSIONS IN PSYCHOLOGY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E. The Ph.D. vs. Psy.D Degree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457200">
              <a:lnSpc>
                <a:spcPct val="8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linicians have pushed back!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71640" indent="-45720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Clinicians have some not-so-kind thoughts about the value of the scientific training in the Boulder Model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971640" indent="-45720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ese clinicians argue that same person should not be trained in applied &amp; pure work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ere is no valid reason for clinicians to train in pure science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ey do little science once becoming clinician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alent and interest in applied work is incompatible with talent and interest in scientific work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571680" indent="-457200">
              <a:lnSpc>
                <a:spcPct val="8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e scientist-practitioner model does not produce many scientist-practitioners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329680" cy="106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OLD TENSIONS IN PSYCHOLOGY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E. The Ph.D. vs. Psy.D Degree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457200">
              <a:lnSpc>
                <a:spcPct val="8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e scientist-practitioner model may be the problem!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71640" indent="-45720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ere is no evidence that handful of research courses in graduate school are sufficient to develop competent scientist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971640" indent="-45720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Clinical- and science-oriented professors in Boulder Model schools do not value clinically oriented research (the topic of interest to clinical students)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e scientists think that the research lacks sufficient controls 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e clinicians think that controls that are exerted makes the research invalid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971640" indent="-45720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Not many scientist-practitioners in the profession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329680" cy="106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OLD TENSIONS IN PSYCHOLOGY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E. The Ph.D. vs. Psy.D Degree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457200">
              <a:lnSpc>
                <a:spcPct val="8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linicians do not dismiss science!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71640" indent="-45720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Everyone agrees that clinical psychology need a solid background in the basic science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971640" indent="-45720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uch background is trained in undergraduate and graduate psychology courses (Methods and Statistics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971640" indent="-45720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However, the question is whether clinicians should conduct their own research as required by the schools employing the Boulder Model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571680" indent="-457200">
              <a:lnSpc>
                <a:spcPct val="8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ey distinguish between those who want to find generalities about </a:t>
            </a:r>
            <a:r>
              <a:rPr b="0" i="1" lang="en-US" sz="3200" spc="-1" strike="noStrike">
                <a:solidFill>
                  <a:srgbClr val="40458c"/>
                </a:solidFill>
                <a:latin typeface="Times New Roman"/>
              </a:rPr>
              <a:t>all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people (scientists) and those who want to help </a:t>
            </a:r>
            <a:r>
              <a:rPr b="0" i="1" lang="en-US" sz="3200" spc="-1" strike="noStrike">
                <a:solidFill>
                  <a:srgbClr val="40458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person (humanist)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329680" cy="106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OLD TENSIONS IN PSYCHOLOGY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E. The Ph.D. vs. Psy.D Degree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457200">
              <a:lnSpc>
                <a:spcPct val="8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ome conclude that political forces (not sound reasons) was the cause of adding a research requirement to the Boulder Model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71640" indent="-45720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An alternative to the Boulder model was first instituted at the University of Illinois in 1968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971640" indent="-45720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Instead of a science-practitioner model, the alternative was a scholar-practitioner model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571680" indent="-457200">
              <a:lnSpc>
                <a:spcPct val="8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e model proposed training psychologists without the research requirement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71640" indent="-45720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e tents of the  new model were ratified at a meeting in Vail Colorado in 1973,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971640" indent="-45720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e Vail Model promoted a professional program like other discipline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329680" cy="106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OLD TENSIONS IN PSYCHOLOGY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E. The Ph.D. vs. Psy.D Degree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veral features differentiate the Vail from Boulder models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raining is more strongly focused on clinical practice that either of the other two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e programs usually grant a Psy.D. degree rather than a Ph.D. or Ed.D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Admissions criteria may place more of an emphasis on personal qualities and clinically-related work experience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ese programs are housed in a greater variety of institutional settings than are research scientist or scientist-practitioner programs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329680" cy="106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OLD TENSIONS IN PSYCHOLOGY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E. The Ph.D. vs. Psy.D Degrees.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e students interested in psychology is left to decide between two types of programs.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e different programs designate the scientist role (Ph.D.) from the practitioner role (Psy.D.)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Acceptance rate for students are higher in Psy.D. (40%) than Ph.D. (13%) programs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sy.D. offers less financial assistance than Ph.D. programs and students graduate with more debt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tudents in Ph.D. programs graduate later than students in Psy.D. program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syD graduates do not perform as well as PhD graduates on the Examination for Professional Practice in Psychology (EPPP)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329680" cy="106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V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NEW CURRENTS IN PSYCHOLOGY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A.  Sources of New Idea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New ideas come into psychology a variety of places which include…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echnological innovation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ese technologies provide measurement accuracy and even metaphoric application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New funding prioriti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New research open new investigations and theories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New intellectual traditions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ese can be from outside or inside psycholog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ere has been some of each in the last couple of years in psychology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329680" cy="106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V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NEW CURRENTS IN PSYCHOLOGY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B.  Technological Innovation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echnological changes include computer technologies and biomedical equipment.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upercomputing alternative to the serial computer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arallel Distributive Processing models of cognition and reasoning became popular in the 1990s, which provide analogues of neural networks (Dual Process Theory)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Brain scanning and gene sequencing technologies provided new ways of examining biological basis of behavior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MRI and FMRI allow real time brain scanning of various activities to better understand mind body relation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Gene sequencing allows for better understanding heritability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329680" cy="106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V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NEW CURRENTS IN PSYCHOLOGY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C.  Funding Change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New funding focus on Positive Psychology 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Positive Psychology is the scientific study of the strengths and virtues that enable individuals and communities to thrive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Research on happiness and other positive emotions, resilience, living the good and meaningful life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It began in1998 when </a:t>
            </a:r>
            <a:r>
              <a:rPr b="0" i="1" lang="en-US" sz="2800" spc="-1" strike="noStrike">
                <a:solidFill>
                  <a:srgbClr val="40458c"/>
                </a:solidFill>
                <a:latin typeface="Times New Roman"/>
              </a:rPr>
              <a:t>Martin Seligman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, the father of the modern positive psychology movement,</a:t>
            </a:r>
            <a:r>
              <a:rPr b="0" lang="en-US" sz="2800" spc="-1" strike="noStrike" baseline="30000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chose it as the theme for his term as APA president and found financial support to promote research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Extension of the Humanistic and Phenomenological perspective in psychology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329680" cy="106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V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NEW CURRENTS IN PSYCHOLOGY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D.  Intellectual Current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90400" indent="-53316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Postmodernism is a movement from the Social Sciences and Humanitie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Postmodernism, or social constructionism, holds that “reality” is created by individuals and groups within various personal, historical and cultural contexts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90680" indent="-5335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ruth” is always relative to cultural, group, and personal perspectives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e socio-cultural contextual view in psychology is largely based on  postmodernism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-812880">
              <a:buClr>
                <a:srgbClr val="660066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NTRODUCTION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 Connecting Psychology Past to its Present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One account holds that there is a progressive sequence between three forces in psychology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Psychoanalysis: (First Force)</a:t>
            </a:r>
            <a:r>
              <a:rPr b="0" i="1" lang="en-US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1890 -1930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9760" indent="-6094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We all succumb to the will of an all powerful unconscious   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Behaviorism: (Second Force)</a:t>
            </a:r>
            <a:r>
              <a:rPr b="0" i="1" lang="en-US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1930s -1960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9760" indent="-6094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umans are like all other animals in being pawns of the environmen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Humanism: (Third Force) 1960s -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9760" indent="-6094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Humans are naturally good and naturally strive to be the best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329680" cy="106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V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FUTURES OF PSYCHOLOGY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A.  Issue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How the diversity, tensions, and current trends of contemporary psychology are addressed will be a basis to define the past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One the one hand, with greater diversity and tension, there is more of a opportunity to unify psychology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henomenon-based inquiry will allow for the unity of multiple perspectives (Sternberg &amp; Grigorenko, 2001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Biopsychosocial models have address complex interactions between multiple incompatible variable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sychological theories adopt different design stances so collectively they view human beings as multipurpose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329680" cy="106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V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FUTURES OF PSYCHOLOGY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A.  Issue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But the future may hold greater disunity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ome disunity trends accelerating: Separated psychology departments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90680" indent="-5335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Most would agree that psychology is still a fragmented collection of different facts, theories, assumptions, methodologies, and goal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James assessment in 1885 holds true today. This is not a science, only a hope for a science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90680" indent="-5335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But now, not all psychologists adopt a deterministic view of human beings, necessary for a unity-in-science view of the discipline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-812880">
              <a:buClr>
                <a:srgbClr val="660066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NTRODUCTION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 Connecting Psychology Past to its Present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Another account holds a progressive relation between three paradigms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entalism: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1879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9760" indent="-6094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sychology born as a science of consciousness using introspection (Wundt, Titchener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Behaviorism: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1913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9760" indent="-6094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Rejected the science of mental life in favor of a science of behavior (Watson, Pavlov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Cogntivism: 1956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9760" indent="-6094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Science of behavior for a computational (information-processing) science of mind (Lashley, Chomsky, Simon, Miller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-812880">
              <a:buClr>
                <a:srgbClr val="660066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NTRODUCTION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 Problems with Conceptual Revolutions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Leahey (1992) was skeptical that either sequence reflects a conceptual revolution. 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The Behaviorist ascension in the early 1920s was not a fight against (or replacement of) another paradigm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ultiple paradigms existed and flourished early in the 20</a:t>
            </a:r>
            <a:r>
              <a:rPr b="0" lang="en-US" sz="2800" spc="-1" strike="noStrike" baseline="30000">
                <a:solidFill>
                  <a:srgbClr val="40458c"/>
                </a:solidFill>
                <a:latin typeface="Times New Roman"/>
                <a:ea typeface="Times New Roman"/>
              </a:rPr>
              <a:t>th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Century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9760" indent="-6094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entalism (conscious mind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9760" indent="-6094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Functionalism  (purposive actions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9760" indent="-6094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Psychoanalysis  (unconscious influences)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A methodological not ontological debate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-812880">
              <a:buClr>
                <a:srgbClr val="660066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NTRODUCTION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 Problems with Conceptual Revolutions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Even the changes in the 1960s may not reflect a paradigm shift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To Leahey, cognitism’s ascension represented mentalism’s marriage with behavioral issue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9760" indent="-6094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Cogntivism did not replaced behaviorism but represents continued basic work of mediated S – R model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9760" indent="-6094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Also, old mentalism on such issues of sensation, perception, and attention was augmented with new work on language, reasoning, and decision-making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Humanistic psychology did not replace behaviorism but offered other treatment options than behavior modification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-812880">
              <a:buClr>
                <a:srgbClr val="660066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NTRODUCTION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 Problems with Conceptual Revolutions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Koch (1982) was skeptical of the validity of any progressive model to account of psychology’s history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71" name="Group 6"/>
          <p:cNvGrpSpPr/>
          <p:nvPr/>
        </p:nvGrpSpPr>
        <p:grpSpPr>
          <a:xfrm>
            <a:off x="1211400" y="3211560"/>
            <a:ext cx="6891120" cy="3335400"/>
            <a:chOff x="1211400" y="3211560"/>
            <a:chExt cx="6891120" cy="3335400"/>
          </a:xfrm>
        </p:grpSpPr>
        <p:pic>
          <p:nvPicPr>
            <p:cNvPr id="172" name="Picture 3" descr=""/>
            <p:cNvPicPr/>
            <p:nvPr/>
          </p:nvPicPr>
          <p:blipFill>
            <a:blip r:embed="rId1"/>
            <a:stretch/>
          </p:blipFill>
          <p:spPr>
            <a:xfrm>
              <a:off x="1222200" y="3211560"/>
              <a:ext cx="6880320" cy="333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Rectangle 5"/>
            <p:cNvSpPr/>
            <p:nvPr/>
          </p:nvSpPr>
          <p:spPr>
            <a:xfrm>
              <a:off x="1211400" y="3249360"/>
              <a:ext cx="232452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-812880">
              <a:buClr>
                <a:srgbClr val="660066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NTRODUCTION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C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 Problems with Conceptual Revolutions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He argued that any ordering of the history of psychology was “morally bankrupt.”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76" name="Group 8"/>
          <p:cNvGrpSpPr/>
          <p:nvPr/>
        </p:nvGrpSpPr>
        <p:grpSpPr>
          <a:xfrm>
            <a:off x="825480" y="2897280"/>
            <a:ext cx="7778880" cy="3222360"/>
            <a:chOff x="825480" y="2897280"/>
            <a:chExt cx="7778880" cy="3222360"/>
          </a:xfrm>
        </p:grpSpPr>
        <p:pic>
          <p:nvPicPr>
            <p:cNvPr id="177" name="Picture 2" descr=""/>
            <p:cNvPicPr/>
            <p:nvPr/>
          </p:nvPicPr>
          <p:blipFill>
            <a:blip r:embed="rId1"/>
            <a:stretch/>
          </p:blipFill>
          <p:spPr>
            <a:xfrm>
              <a:off x="836280" y="2915640"/>
              <a:ext cx="7759440" cy="320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Rectangle 6"/>
            <p:cNvSpPr/>
            <p:nvPr/>
          </p:nvSpPr>
          <p:spPr>
            <a:xfrm>
              <a:off x="825480" y="2897280"/>
              <a:ext cx="6611040" cy="40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9" name="Rectangle 7"/>
            <p:cNvSpPr/>
            <p:nvPr/>
          </p:nvSpPr>
          <p:spPr>
            <a:xfrm>
              <a:off x="7061760" y="5706720"/>
              <a:ext cx="1542600" cy="41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9T16:44:57Z</dcterms:created>
  <dc:creator>kHoblit</dc:creator>
  <dc:description/>
  <dc:language>en-US</dc:language>
  <cp:lastModifiedBy> Eric Amsel</cp:lastModifiedBy>
  <cp:lastPrinted>2001-05-25T15:02:50Z</cp:lastPrinted>
  <dcterms:modified xsi:type="dcterms:W3CDTF">2009-01-19T13:55:21Z</dcterms:modified>
  <cp:revision>507</cp:revision>
  <dc:subject/>
  <dc:title>Stanovich Chap. 1</dc:title>
</cp:coreProperties>
</file>