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3B8-AA53-4F0B-B8F6-D1F50A31F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207-D394-4F18-AC3E-320D23A13C5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B96-2388-423B-8ABA-F3854B520EF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664-1983-4765-BE64-A18EB9A9324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D87-C9B9-41A1-84A5-E1D76CF3E70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E246-0B7E-4332-858B-AE2B11D8694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C7C5-62C1-43A6-A4FB-E92BA8745E8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C13-DF2C-4774-93AC-6597834326C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30F2-0696-4AC4-828D-EFA52E11339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6BC-071E-4BCE-8851-EA5817EB126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C93-CE3A-4A88-AB44-C93859D4270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C50D-F682-46E4-A74A-6A210563C68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F30-CC42-42C5-8789-13836BBBF6C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CEE-74B8-4940-A5D1-15C7B9D44F3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F214-D8C2-432A-89EA-6B74E48523E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772-55E6-4DCB-B7AA-FAC06EEB1FF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DE4-CFEB-47CA-9DF1-26AF4D1A9EE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87C-8F9F-4948-9E1E-016CEE88931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B76A-58C8-46B4-B417-98D8EF82834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1D4-978D-40A4-8D82-35A1653D976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7BB9-FF9D-46F4-BEDE-02B94AF10EB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7AB-2379-4556-A2A8-329ECC43E8F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BBD2-F310-4815-A5F7-58D1E7B8D2E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798B-1464-43F2-840E-5F04F1DC49A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4F6-734D-4DA6-8451-84E1EE85C98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5F8C-5DCE-44F2-85F5-CC7EF21C5F0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052-A73F-4F5C-B421-14AFEEE1129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35EB-3FD9-4E3F-AC69-8F09363B581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565A-A01C-426F-B062-8642E976F99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DE5-870D-4AD1-99F0-0679D234A96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88BA-69EC-435A-8C5E-0962BD83120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2DD-4B72-4B04-BDF1-4546E485A92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062-0232-4E05-8EFE-136C1D7C613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DC6A-1DEC-4049-AFB1-449FA1E39BE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F26-CEAE-416C-90EF-F697B4EED33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A0C-580B-4C12-89B0-CD978955983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8EF-372B-4F2E-9EE4-2BEF9488525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334A-9B89-477B-BEE4-A6E4D9E698F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6E7-B8E0-4639-9999-70D63D1F08F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6F77-FC77-464B-9001-10BB83FC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FAC7-7131-4B31-91D6-B14EC17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66F9-C3C9-4626-A754-4122587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316C9-35D4-4C6F-AC77-8A77EFBE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AD47-8E4D-4E27-8EBC-593CDE4D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8FB2F-CD89-4EDD-9C09-534195A2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8556-F93D-4D9A-BEC0-E7D9993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12C35-A6E5-4BB9-B34D-991BE22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1DA40-56D4-491A-BB1A-B8C759C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6510-8FB6-4592-9FB7-20E66EE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C4D98-7DB7-4476-9FFB-D87FED7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C9E0-C124-4A03-BCBD-1B681209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62CC-427D-44AB-B7F2-3A5C39F695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z_Brentano.jpe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9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Volunteerism, Structuralism 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and other Early Approaches to Psychology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Equi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lab looked like a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tchmaker’s fact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cise equipment were fashioned for experi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ll Chronometer (created by Cattell) used in his reaction-time experi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the screen drops, the subject (S, left) is able to see a word written on a card. At the same time the chronoscope in front of the experimenter (E, right) starts run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 soon as the S pronounces the word the lip-key in his mouth arrests the chronoscope, allowing the E to read the reaction ti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5181480" y="76320"/>
            <a:ext cx="3886200" cy="2666880"/>
            <a:chOff x="5181480" y="76320"/>
            <a:chExt cx="3886200" cy="26668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5181480" y="1494360"/>
              <a:ext cx="388620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5181480" y="76320"/>
              <a:ext cx="3886200" cy="143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Achievements and Contribu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hievements &amp; Contribu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ok achievements of others and his own early research on attention (pendulum experiment) created a unified program of researc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termined that this program must stress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elective atten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which is a willed process and s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volitional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(derivative from volition) was Psychology’s first school or Kuhnian paradig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achievement may be more important that the having the first lab or jour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Nature of Volunteer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goal was to understand both simpl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basic processe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 the mind an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complex consciou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henomen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simple phenomena, experimentation was to be us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complex phenomena, experimentation could not be u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plex phenomena considered to  be higher mental proce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nly various forms of naturalistic observation could be u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ng seeks to understand exper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wo types of exper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diat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xperience and data are obtained via measuring devices and thus is not dir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mmediat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xperience and data are events in human consciousness as they occur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holds that immediate experience is the subject matter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studies two types of immediate experi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ations :  Occurs when a sense organ is stimulated and impulse reaches the brain. Described in terms of modality, intensity, and qu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eelings : Accompanied sensations and could be described along three dimensi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leasantness – unpleasantne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excitement – cal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train – relax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’s Account of percep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ception is interaction betwe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timulation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hysical makeup of the per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son’s past exper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art of field that is attended  to said to be is apperceived (selectively attended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eative synthesi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ements which are attended to can be arranged and rearranged as the person wills, thus arrangements not experienced before they can be produc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al chronomet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undt used a method developed by Donders (1818-1889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onders was the one of the founders of the science of ophthalmology (with  Helmholtz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measure differences in reaction time to different mental activities required by experimental situatio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day, mental chronometry is one of the most common tools used for making inferences about learning, memory, and atten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2276280" cy="2819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-788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76120" indent="-78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al vs. Psychic Causa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4200" indent="-7880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hysical causalit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eated as a polar opposite t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causal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hysical causality is a reality because events could be predicted on the basis of antecedent condi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sychological causality was not possibl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4200" indent="-7880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though willed, selective attention and creative synthesis  is not physically caused by antecedent conditions which can be know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27628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kerpsychogie or Cultural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gher mental processes could not be studied experimental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5040" indent="-696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y were reflected in human cultur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gher mental processes could be inferred from the study of such cultural products as religion, social customs, myths, history, language, morals, art, and the law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5040" indent="-696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wenty year study of these things culminated in his 10-volume work “Cultural Psychology.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undt rejected materi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greed with Muller’s vitalism and rejected Helmholtz’s materialism with regard to the min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ciousness …cannot be possibly be derived from any physical qualities of material molecules or atoms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he also was a determin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knowledge that the process underlying volitions may not be known or knowable but they are controlled by law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e will be discussing the founding of Psych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laboratory in Leipzig (1879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heory of Volunteer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ner’s laboratory in Cornell (1892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heory of Structural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e will consider other contemporaneous psychological ideas includ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enomenologi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to Kul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aihing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bbinghou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srepresentation of Wund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 has been portrayed in texts inaccurate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 rationalist and accepts mental holism (can not identify element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ever he is presented as an empiricist-positivist whose psychology is based on fundamental ele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y be due in part to students of Wundt’s who misrepresented or misinterpreted hi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Titchener (1867-192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was English and a student of Wund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becoming a professor of psychology and founded a psychology laboratory in the United States at Cornell Univers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founded the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Experimentalis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alternative group to the APA which was by invitation on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nown for Structuralism, which was distinct from Voluntee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ructur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structur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ucturalism seeks to understand phenomena as a complex system of interrelated par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tchener’s structuralism is consistent with this difinition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structuralism addressed the elements and relations of consciousn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different than Wundt’s holism and rational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ructur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structur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should addresses the what, how, &amp; why of mental lif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What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learned by introspec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8600" indent="-795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taloging basic mental elements that make up conscious experienc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ddresses the way that the elements comb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nvolves neurological correlates of mental ev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8600" indent="-795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only sought to describe mental experience or the structure of the mi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iving rise t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tructur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Introspe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introspec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complicated and required more of the subject than Wundt’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rospection in Titchener’s laboratory required subjects to describe the basic, raw, elemental experiences which form complex cognitive experienc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nted subjects to report on sensations, not percep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f in the report the subject responded with the name of the object rather than the elemental aspects of the stimulus, the subject committed a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stimulus erro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ree elements of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ensat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percepti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mag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ideas) an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ffect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emotion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elements could be known only by their attribut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are 5 attributes of sensations and imag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ive include quality, intensity, duration, clearness, and extensity (not content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ffections (emotions) could have the attributes of only quality, intensity, and dur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did not agree with Wundt’s tridimensional theory of emo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s were described in terms of one dimension: pleasantness – unpleasantnes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al can occur with sensational elements to create unique patterns of experi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of Contigu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ements combine by the British Empiricists’ laws of contiguity (association), rejecting Wund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ical Processes and Continuity of Mental Ev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ysiological processes give psychological processes a continuity they otherwise would not hav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ervous system used to explain characteristics of mind (not a caus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ntext theory of mea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gives meaning (content) to sensations is called the context theory of mean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gives sensations and events meaning is the images and events with which the sensation has been associated contiguously in the pas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associations form a core or a contex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 and Wund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ke Wundt, Titchener did not appear to be a materialist about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extbook proposes that Titchener’s mind-body positions include double aspectism and epiphenomen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reflects a disinterest in the question, as it required spec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like Wundt, Titchener rejected  volitional consciousn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braced associationism and rejected rational process of attention and creative synthesi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embraced positiv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medical doctor, physiologist, psychologist, and profess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briefly with Müller, before becoming an assistant to Hermann von Helmholtz in 185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eated first Psychology lab (1879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udied basic and higher-ordered thinking and applied issu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formed the first journal for psychological research (188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ical stu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Decline of Structural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cline of Structur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ucturalism declined quickly after Titchner’s death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ople began to question the use of introspection as a viable method in research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ment of the study of animal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lack of interest in practical implications on the part of structuralis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development of behaviorism and objective methods of resear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 was another German movement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anz Clemens Brentano (1838-1917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mportant aspect of the mind was not what was in it but what it di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ntal processes are aimed at performing some function (Act Psychology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ll mental acts incorporate something outside of itself (which he called intentionality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employed phenomenological introspection – introspective analysis of intact, meaningful experienc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Picture 5" descr="200px-Franz_Brenta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590920"/>
            <a:ext cx="2286000" cy="327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l Stumpf (1848 – 1936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ke Brentano, Stumpf argued for study of intact, meaningful experiences, phenomen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d the development of Gestalt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three “founders” of Gestalt psychology studied with Stumpf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mpf and a student Oskar Phungst helped investigate the Clever Hans phenomenon.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mund Husserl (1859-1938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there are two types of introsp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4903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ne focuses on the intentionality described by Brentan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4903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cond focuses on subjective experience which include mental essences (pure phenomenology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is goal was to create a taxonomy of the mind based on the mental essences by which humans experience themselv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xamined sensory content (meanings and essences) not elements (intensity, duration etc.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5174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Oswald Külpe and the Wutzburg School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7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swald Külpe (1862- 191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ülpe (and the Wutzburg School) challenged Wundt,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imageless thought and that the higher mental processes could be studied experimentall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thod called systematic experimental introspec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w called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Verbal Repor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instellung (or mental set) causes one to behave in a ways unaware that they are doing s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mental set can be induced by instruction or by past experienc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upports Wundt but not Titchene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6934320" y="2286000"/>
            <a:ext cx="22096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Hans Vaihinger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ans Vaihinger (1852-193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societal living requires that we give meaning to our sensations, and we do that by inventing terms, concepts, and theories and then acting “as if” they were tru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ctional thinking is part of all other reasoning about the worl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nected to James’ Pragmatism, Adler’s Psychodynamic theory, and Kelley’s Personal  Construct the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553080" y="2362320"/>
            <a:ext cx="23814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 (1850-1909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ed learning and memo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time learning and memory studied as they occurre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t illustrated that these processes could be studied experimentall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ny of his findings are still cited today and most of the major conclusions reached are still valid toda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1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developed nonsense syllables to use as stimuli in his research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trolled for meaningfulness of the stimuli used in memor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subject is to learn (memorize) a series of syllables by looking at them sequentially until master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n after various time intervals they were to relearn the same lis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difference in number of exposures to relearn the list in comparison to the number of exposure to mastery at the initial exposure was called saving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4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re rapid forgetting during the first hours following learning and slower thereaft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verlearning (continuing to study past mastery) decreased the rate of forgettin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ributed practice was more effective than massed practi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7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swald Külpe (a professor at the University of Würzburg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ames McKeen Cattell (the first professor of psychology in the U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. Stanley Hall (the father of the child and adolescent psychology movement, President of Clark University and APA founder)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les Hubbard Judd (Director of University of Chicago’s School of Education at the, home to Dewe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go Münsterberg (contributed to the development of industrial psychology and taught at Harvard Universit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dward Bradford Titchener (founded the first psychology laboratory in the United States at Cornell University)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ghtner Witmer (founder of the first psychological clinic in the US and coine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linical Psych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les Spearman (who developed the two-factor theory of intelligence and several important statistical analys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tantin Rădulescu-Motru (Personalist philosopher and head of the Philosophy department at the University of Bucharest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undt’s lab was heralded by J.M. Cattell in 188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laboratory was 4 rooms but expanding to 6 room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international collection of 20 researchers worked in groups of at least tw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wo researchers needed with the one acting as subject, the other taking charge of the apparatus and registering the result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searcher would published the study in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Studi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73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thod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primarily method was introspe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undt’s introspection used laboratory instruments to present stimuli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ubject was to respond with a simple response such as saying “yes” or “no”, pressing a ke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responses were made without any description of internal ev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ultiple research directions in 188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physics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asurement of sens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met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ation of mental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me-sen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me-relations of perceptions estimation of intervals of ti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sociation of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ime it takes for one idea to suggest anoth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85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11-09-28T16:57:53Z</dcterms:modified>
  <cp:revision>323</cp:revision>
  <dc:subject/>
  <dc:title>Issues and Theories</dc:title>
</cp:coreProperties>
</file>