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6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60280" y="682200"/>
            <a:ext cx="4538520" cy="34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7"/>
          </p:nvPr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8"/>
          </p:nvPr>
        </p:nvSpPr>
        <p:spPr>
          <a:xfrm>
            <a:off x="388584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155D-0C3A-4BED-845B-73C52F524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604F-3843-4297-8138-83286C72177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AF66-2FE2-4820-8A7B-3A90FA71EFB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456B-98A9-4176-83BB-B69A707F9D3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2962-7693-4FB0-A1F3-4A45D417AF9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402C-A15B-408E-947C-68C273F757D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DF19-D473-4348-8EC8-32963A0B45C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0CDC-7FDA-4299-859D-DF4A6F0F2A8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4117-A0C8-4553-8EFB-B379970C9DA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16A7-86E2-4136-8361-DE05242498A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B843-290D-4CD3-8E92-64FCA5CF974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E856-5938-49A9-924F-3E92AAE3860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57AC-7CB9-4B71-AAA5-E2F83CE8389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CB62-8D13-457F-A2D7-D6EF4656481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A1CF-7BCD-4F97-8DF4-D9C6B1DBBCA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21C5-5293-4F96-98C7-DF56E6906B1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1AAF-01F7-4686-A65B-5609A25B58C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2665-B18B-4632-90DB-85A3BA26C9E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C24E-FD3E-4A1E-9089-BB604236FF9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BDA9-48CB-4BAC-92CF-424BCE4B749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51A7-8ED9-444F-86C4-6A827936111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86D1-F248-47A8-8772-467F1ABA6C8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2ED0-60DA-466B-94A5-47A371F9181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A085-87B1-42E6-AE23-CF9ACF7F819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86AB-FD9A-4FF7-AB29-D1D92E65F0B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FB61-B980-4296-8315-79A2EC56B7F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1079-02A6-41C9-9103-271B6F191A4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682B-4E25-4789-AC6A-72629AA5AD8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26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392B-8941-4195-88E9-F0F44A0A385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E47A3-D324-4DD6-8CC4-EB4989AF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BF3FF-31C3-4E83-8BE2-C97E4873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64AE4-55EC-4639-806D-B1AB42AF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70FA7-329F-4732-9E8B-0AD49349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8E087-DD55-49C0-985D-5734AC21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C7473-C9D6-4D5A-B0E3-1C4C9806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0787A-A485-4D6C-8FA7-252A22EA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B8E12-8826-4C74-A001-A8DBADE5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09E30-33E4-4E01-A025-26044B36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8F7A8-29A9-4F83-81EC-BB0F7DDE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44CD5-4011-4F7D-9300-63829242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6C86B-B0CA-47E9-9D90-12CCC2BF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6870960" cy="127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vert1"/>
          <p:cNvPicPr/>
          <p:nvPr/>
        </p:nvPicPr>
        <p:blipFill>
          <a:blip r:embed="rId3"/>
          <a:stretch/>
        </p:blipFill>
        <p:spPr>
          <a:xfrm>
            <a:off x="228600" y="990720"/>
            <a:ext cx="36360" cy="402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3" name="Group 5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5" name="Group 5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6" name="Line 3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5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6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7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8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9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10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11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12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3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4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Line 15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16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Line 17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Line 18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Line 19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Line 20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Line 21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Line 22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Line 23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Line 24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Line 25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26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27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Line 28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29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30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31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32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33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34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35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36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37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38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39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40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Line 41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42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43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44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45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46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47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48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49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50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51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52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53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Line 55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61"/>
            <p:cNvGrpSpPr/>
            <p:nvPr/>
          </p:nvGrpSpPr>
          <p:grpSpPr>
            <a:xfrm>
              <a:off x="2880" y="887400"/>
              <a:ext cx="6654600" cy="2851200"/>
              <a:chOff x="2880" y="887400"/>
              <a:chExt cx="6654600" cy="2851200"/>
            </a:xfrm>
          </p:grpSpPr>
          <p:sp>
            <p:nvSpPr>
              <p:cNvPr id="99" name="Line 57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Line 58"/>
              <p:cNvSpPr/>
              <p:nvPr/>
            </p:nvSpPr>
            <p:spPr>
              <a:xfrm flipH="1" flipV="1">
                <a:off x="2880" y="3052800"/>
                <a:ext cx="509724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Line 59"/>
              <p:cNvSpPr/>
              <p:nvPr/>
            </p:nvSpPr>
            <p:spPr>
              <a:xfrm flipH="1" flipV="1">
                <a:off x="607680" y="1487520"/>
                <a:ext cx="604980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Arc 60"/>
              <p:cNvSpPr/>
              <p:nvPr/>
            </p:nvSpPr>
            <p:spPr>
              <a:xfrm rot="16200000">
                <a:off x="675360" y="1369440"/>
                <a:ext cx="247680" cy="249120"/>
              </a:xfrm>
              <a:prstGeom prst="pie">
                <a:avLst/>
              </a:pr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6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4" name="Line 62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Line 63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Arc 64"/>
              <p:cNvSpPr/>
              <p:nvPr/>
            </p:nvSpPr>
            <p:spPr>
              <a:xfrm rot="5400000">
                <a:off x="8091720" y="5315400"/>
                <a:ext cx="247680" cy="249480"/>
              </a:xfrm>
              <a:prstGeom prst="pie">
                <a:avLst/>
              </a:pr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470B-ABC3-41A2-AAF9-12CBACAC3DF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edterms.com/script/main/art.asp?articlekey=2089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renology.com/index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hrenology.com/index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hrenology.com/index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Lorenz_and_Tinbergen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los_wilson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Noam_chomsky_cropped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E048-3DC6-4D45-B6CB-EBEC8443C04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Focus on the Body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Psychobiology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Social and Intellectual Context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eurological basis of behavior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t has its origins in ancient Greek philosophy through Descartes and the growth of medical sci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story of the modern view of brain function is a fight between those who claim a mass action vs. localization of function in the brai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bates during the 18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and early 19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Centuries were between those who believed that brain function could be localized to particular brain regions and those who believed that the brain acted as a whol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Social and Intellectual Context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rain debate in the early to mid 19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Centur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ranz Joseph Gall (1757-1828) and Johann Spurzheim (1776-1832) developed phrenolo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idea that specific human behaviors and characteristics could be deduced by the pattern and size of bumps on the skull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arie-Jean-Pierre Flourens (1794-1867) believed that parts of the brain had separate functions, but each of these areas functioned globally as a who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lourens supported his theories with experiments in which he removed areas of the brain (mostly in pigeons) and showed that behavioral deficits increased with size of the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imes New Roman"/>
                <a:hlinkClick r:id="rId1"/>
              </a:rPr>
              <a:t>ablation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Social and Intellectual Context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rain debate in the late 1800s and early 1900s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ritsch (1838-1927), Hitzig (1838-1907), Broca (1824-1888) and Wernicke (1848-1904) in the late 1800s provided strong data to support the localization of func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ernicke and Broca identified the specific areas of the brain central in the production and comprehension of speech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olgi (1834-1902)  and Brown-Sequard (1817-1894) among others championed a brain that acted as a who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Golgi argued for nerve nets and Brown Sequard found other brain areas contribute to language,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Social and Intellectual Context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rain debat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debate is ultimately resolved with the notion of </a:t>
            </a: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neurological networks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40458c"/>
                </a:solidFill>
                <a:latin typeface="Times New Roman"/>
              </a:rPr>
              <a:t>interaction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ree key figures in the resolu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Karl S. Lashle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jected specific localization of memorie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onald O. Hebb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veloped the neurological network ide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oger W. Sper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plit brai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UROLOGICAL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Karl Lashle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6248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Karl Lashley (1890–1958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riginally wanted to support the associationism of Watson with neurophysiological evid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was searching for the elusive engram, the neurophysiological locus of memory and learning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pent decades searching for it and eventually conceded that it was not possible to locate the engra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Used the albation method in a learning paradig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3" name="" descr="Karl Lashl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43880" y="266688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UROLOGICAL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Karl Lashle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6248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Karl Lashle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ass action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oss of ability to perform a learned behavior following destruction of parts of the cortex is related more to the amount than location of destruc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quipotentiality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y part of a functional area of the brain can perform the function associated with that area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f, following an ablation, any part of the area is spared, the function would still be maintained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6" name="" descr="Karl Lashl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7240" y="2743200"/>
            <a:ext cx="22226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UROLOGICAL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Karl Lashle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6248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Karl Lashle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is best known paper,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ashley (1951)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The Problem of Serial Order in Behavior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addressed how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haviors consisting of a sequence of steps performed in some particular order, might be controlle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e warned that the behaviorist "chaining" account for serial order can not account for such serial ordered behavior key for language and complex behavior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haviorism may be unable to account for uniquely human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9" name="" descr="Karl Lashl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7240" y="2743200"/>
            <a:ext cx="22226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UROLOGICAL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Donald O. Hebb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6248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onald O. Hebb (1904 – 1985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ashley student, Penfeld associat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Organization of Behavior (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1949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ostulated neural interconnections called cell assemblies, which are complex package of neuron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y develop with experience and experiences result from activated cell assembli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verberating neural activity allows neurons that were temporarily separated to become associate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959520" y="2819520"/>
            <a:ext cx="201636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UROLOGICAL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Donald O. Hebb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6248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onald O. Heb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ell assemblies become neurologically integrated to form phase sequence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A phase sequence is “a temporally integrated series of assembly activities; it amounts to one current in the stream of thought.”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earning involves the slow buildup of cell assemblies and phase sequence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an be explained associationisticall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arranging  cell assemblies and phase sequences for insight and creativit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959520" y="2819520"/>
            <a:ext cx="201636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UROLOGICAL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Roger Sperr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6248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oger Sperry (1913-1994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obel Prize winner (1981) for his split brain research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utting (ablating) the corpus callosum and the optic chiasm essentially splits the brain into two separate brains with no exchange of informa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arly work was with animals but later he studied epileptic humans with their corpus callosum cut to limit seizure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934320" y="2514600"/>
            <a:ext cx="21286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Definition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iological psychology is the application of the principles of biology to the study of mental processes and behavi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goal of the work is to understand the biological processes underlying psychological phenomena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iological psychologists are often be interested in measuring some biological variable in an attempt to relate it quantitatively or qualitatively to a psychological or behavioral vari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or example, biological theories explain schizophrenia by relating it to dysfunctional neurological processes (excess dopamine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UROLOGICAL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Roger Sperr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6248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oger Sperr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mispheric specializa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ach hemisphere is a conscious syste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oth the left and the right hemisphere may be conscious simultaneously in different, even in mutually conflicting, mental experiences that run along in parall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search indicates caution in too much speculation regarding specialization and its impact on learning and educational practic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934320" y="2514600"/>
            <a:ext cx="21286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UROLOGICAL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Roger Sperr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6248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oger Sperr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teractionis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perry was an interactionist concerning the mind-body proble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believed that consciousness emerges from brain processes and once emerged has a causal relationship to behavior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But each hemisphere has its own consciousness -- perceiving, thinking, remembering, reasoning, willing, and emoting, all at a characteristically human level,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934320" y="2514600"/>
            <a:ext cx="21286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ENETIC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Behavioral Genetics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ehavioral Genetics study whether variations on behavioral and psychology phenomena are directly related to variation is gene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eritabilit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search by various researchers have investigated the heritability of intelligence and personality characteristics.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amily studies, Twin studies, and Adoption studies are research techniqu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re is still much argument and discussion regarding these highly sensitive subject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ENETIC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Etholog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60199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th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odern ethology began in the 1930s with Tinbergen (1907-1988) and Lorenz (1903-1989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y were joint winners of 1973 Nobel Prize in medicin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tudied species-specific behavior in an animal’s natural environment to explain behavior in terms of evolutionary theo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tickleback territoriality and duck imprinting reflect typical species behavior under specific environmental condition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3224160"/>
            <a:ext cx="2362320" cy="1817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553080" y="510552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Kontad Lorenz (right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with Nikolaas Tinbergen (left), 197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ENETIC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Sociobiology 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6324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ociobi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opularized by Edward O. Wil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1975 book,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Sociobiology: The New Synthesi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was very controversia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mplex ant social behaviors were explained by genetic contro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iogramma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nherited structures that predisposes organisms toward certain kinds of social activitie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eash Principl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re is a close relationship between culture and the satisfaction of biological need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Biology holds culture on a leas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0" y="5105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E. O Wils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3124080"/>
            <a:ext cx="2210040" cy="1879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ENETIC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Evolutionary Psycholog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volutionary Psych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goal of EP is to understand the design of the human mind which promotes evolutionary adaptation.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P holds that humans ar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adaptation executor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mechanism activator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P explores why and how as a species humans evolved adaptive abilities and skills to solve the problems of survival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y are people social? How do humans choose mates? Why do people behave in altruistic ways?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ENETIC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Evolutionary Psycholog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volutionary Psychology is different from 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behavior geneticists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which us interested in genetic based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differences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between peop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P is relatively disinterested in diversit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Ethology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in exploring evolutionary basis of other psychological functioning than just social behavior.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ority is given to the evolution of  tendencies to process certain kinds of information (language,  inference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ociobiology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, who assume humans are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fitness maximizers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(reproductive success)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P is more interested in the evolution of underlying mechanisms leading to adapta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ENETIC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Evolutionary Psychology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5562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volutionary Psych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oam Chomsk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entral figure in evolutionary psychology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rgues that the human brain is genetically programmed to generate languag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Each child is born with brain structures that make it relatively easy to learn the rules of language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ase for an evolved language module dismissed hope of a behaviorist account of a human language acquisitio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2133720"/>
            <a:ext cx="262584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ENETIC BASIS OF BEHAVIOR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 Genetics and Behaviorism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enetics and Behavior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enetic challenge to the universality of the laws of learning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Keller and Marion Breland observed instinctive behavior began to interfere with the performance of operantly trained behavior (instinctual drift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reparedness continuu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fferent animals are biologically prepared to form certain associations and contraprepared to form others and this has been selected for through evolutionary principl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Definition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resulting accounts of behavior are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physical explanations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which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reduce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psychological phenomena to biological processe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ductionism is the basic idea that complex behavior can be explained by the breaking it down into simpler more smaller component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iological reductionism differentiates this paradigm from all others.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iological reductionism is more than finding the biological correlates of psychological phenomena, it is understanding the psychological phenomena as biological on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Definition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sychobiology involves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physical explanation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 of behavior which is unlike other paradigms which offer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design explanations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hysical Explanation: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Explanation of the behavior of a system by reference to what the system is made up of and laws that apply to its working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esign Explanation: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xplanation of the behavior of a system by reference to its func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eople may be designed to learn from experience (Behavioral Psychology), process information (cognitive Psychology), psychologically grow and actualized (Humanistic Psychology) live in a community (Socio-cultural Psychology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Social and Intellectual Context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e review two key issues in understanding the basis of human behavior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eurological basis of behavi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hat is the role of the brain in behavi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Genetic basis of behavi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role of hereditary in shaping human behavi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oth assume  that human being are determined by internal biological force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assumption does not fit well with prevailing American values of cultu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Social and Intellectual Context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Genetic basis of behavior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 1869, Francis Galton (1822 –1911, Darwin’s cousin) published the first empirical work in human behavioral genetics,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Hereditary Genius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Galton intended to demonstrate that "a man's natural abilities are derived by inheritance, under exactly the same limitations as are the form and physical features of the whole organic world."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conducted a family study on the inheritance of giftedness and talen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laims that genetic differences IQ explains group differences in race back a social issue in the 1960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Social and Intellectual Context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Genetic basis of behavior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initial impetus behind behavioral genetic research was to demonstrate that there were indeed genetic influences on behavio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 psychology, this phase lasted for the first half of the 20th century largely because of the overwhelming influence of behaviorism in the field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ater behavioral genetic research focused on quantitative method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odern behavioral genetic research emphasizes applying techniques from molecular genetics to analyze individual genes that influence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Social and Intellectual Context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Genetic basis of behavior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enetic basis of behavior is the focus of ethology, sociobiology and evolutionary psych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Ethology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s a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ranch of zoology and is the scientific study of the evolutionary basis of animal behavi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Sociobiology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s a neo-Darwinian synthesis of scientific disciplines that explains social behavior in all species by considering the evolutionary advantages of the behavior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Evolutionary psychology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attempts to explain mental and psychological traits—such as memory, perception, or language—as the functional products of natural selec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mportant differences between these approac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ACKGROUN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Social and Intellectual Context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Genetic basis of behavior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ociobiology and Evolutionary Psychology address what is universal or species-specific in human social and cognitive behavio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 contrast, Behavioral Genetics is the study of the genetic basis of human varia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reproductive process ensures that each individual born form a unique ovum has unique genetic code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re is a genetic basis for what makes us the same as and what makes us different from everybody els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6:44:57Z</dcterms:created>
  <dc:creator>Eric Amsel</dc:creator>
  <dc:description/>
  <dc:language>en-US</dc:language>
  <cp:lastModifiedBy>Eric Amsel</cp:lastModifiedBy>
  <cp:lastPrinted>2001-05-25T15:02:50Z</cp:lastPrinted>
  <dcterms:modified xsi:type="dcterms:W3CDTF">2009-01-28T01:21:59Z</dcterms:modified>
  <cp:revision>240</cp:revision>
  <dc:subject/>
  <dc:title>Issues and Theories</dc:title>
</cp:coreProperties>
</file>