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60360" y="721800"/>
            <a:ext cx="4795920" cy="359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7200" rIns="97200" tIns="48600" bIns="48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E8B6-CAA4-44AD-BD04-B37E0E461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8A4D-7FCB-4CB7-9585-B66E86366E5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A7EB-0BDA-46C9-9EFB-B2DF951CD83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8038-DAC2-4C16-A4E1-7601C00F412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CBF7-AB97-4510-B96E-1B9487439B5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3ED5-9147-42CB-8FDE-B2FF14CC422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4FFE-2781-4B0D-A608-3B6E9083E82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6019-764D-4CF8-AFF6-B44E5C929CE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9E1D-4A58-4637-98DF-18F9F3FFB56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53C7-FE9F-414E-91C6-8128579EC3C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2296-7F65-4632-A5A0-D7503FD6295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CE08-6B7A-4C19-AF31-8A954BF050B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19AC-2F3F-4DA3-8347-45B46BCCFBA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92BD-33F7-4294-B2DA-7222D3CA306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D8E7-98B7-401C-BEEE-2A8718FF0F9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9C00-1B61-4A97-B612-B9A5374976E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1E2B-7A98-4BE7-934A-9FF04A838B5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C9D9-EB3E-41EC-995F-F65BB0CEE1B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AD21-E46E-4AB6-AEBD-86AFD6CB818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9FEE-78F4-46B4-AEA0-3826D8E2723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4F70-EA53-4932-9734-2E68E2D3812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3876-372F-4CF8-A4B7-80A902D229B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0CF9-36AB-4B0E-A5A5-C56A8AD5023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684D-C58A-488D-90B3-C0A7B73BA81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A29C-5DE7-4520-B473-FE384E9156F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8B77-A8BC-46CF-8C6E-31C43FC9D80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40A2-136F-4D2D-9B48-3630635ED35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04DF-91E4-47D6-BC7A-4CB73220CFF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5D51-628A-444D-B42C-F7F30900B3C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BCAD-01F1-4EA5-A0DF-D063F15582B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4FBF-2360-4099-8C16-37D84716D74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CF2E-2DEA-4A02-8185-87EB602E4E8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5CD1-B082-43BB-9E85-70AF8E36CD4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1155-F32A-4DDE-A490-3DBE3421B21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ECFD-FC5B-49EB-A6EE-B1FF65EC64A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756B-3C10-4704-8F85-CE6A8C232F7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F8DD-8187-4EEB-B919-AD8B66AAA58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78EB-EEFB-4E92-AA88-C13C37AE714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EF32-169B-49D2-8469-A42AB6CFB42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FCCA-630A-4958-B8FF-7501F2FC950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5E69-FC84-42F1-A480-5BFE0B8783A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A10E-C203-4319-A6F3-FB156E9CEDC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1BFFE-7B77-4084-96BC-3D62AEE2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8D373-3012-49D7-95A2-C67CB471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35832-6D09-4E79-BF52-0D3A6307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665B8-20EA-453B-9D39-DF896A85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7D9F5-EEFF-4A44-AE59-003B20DD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4ED47-A130-4647-A98F-0D5EE046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FA401-9123-456F-9933-99CE503E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478CC-83EB-41EF-98D8-FB359C0F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D7EE0-A3E0-4CE8-8794-8BAF6959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33F16-D944-4432-B777-5015597D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709CE-96D6-4080-B9B3-0E19669F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002C7-D0FB-4355-9505-E4F9ACC0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</a:path>
                  <a:path stroke="0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</a:path>
                  <a:path stroke="0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  <a:lnTo>
                      <a:pt x="21598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9EAB-2C81-4F89-90CB-091805E8CE8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ncertainty_principl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ssonline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e/ec/PhrenologyPix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000" y="1671120"/>
            <a:ext cx="8539200" cy="17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Three Themes in Understanding Psychology: Science, Philosophy, and History 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What is Science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t there is more to science than just theories;  there are scientific laws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495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w – consistently observed relationship between two or more classes of empirical events which is amenable to public observation and verific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wo classes of scientific law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495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rrelational laws – how classes of events vary togeth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495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usal laws – how events are causally relat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ajor goal of science is to discover the causal laws underlying natural phenomen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 Determinism vs. Free Wi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53400" indent="-6534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ne implication of assuming psychology is scientific is also believing in </a:t>
            </a:r>
            <a:r>
              <a:rPr b="1" i="1" lang="en-US" sz="3200" spc="-1" strike="noStrike">
                <a:solidFill>
                  <a:srgbClr val="40458c"/>
                </a:solidFill>
                <a:latin typeface="Times New Roman"/>
              </a:rPr>
              <a:t>determinism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24560" indent="-5716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ce assumes that what is being studied can be understood in terms of causal law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20560" indent="-5716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f true, the assumption suggests that all human behavior can be predicted from causal laws – that we are determine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24560" indent="-5716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 scientific account of human behavior appears to support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determinism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ver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free-will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20560" indent="-5716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s may an overstatement as complete determinism may not even apply in physics, where there is some indeterminacy (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imes New Roman"/>
                <a:hlinkClick r:id="rId1"/>
              </a:rPr>
              <a:t>Heisenberg Uncertainty Principl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Determinism vs. Free Wi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wo general types of determinism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3960" indent="-6094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Psychical determinism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– mental causes, conscious or unconscious, of behavi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3960" indent="-609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eudian and cognitive approaches in psychology adopt a psychical deterministic view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23960" indent="-609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ach adopts a view of mental causation in which behavior is predicted and explained by psychological processes.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 Determinism vs. Free Wi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8040" indent="-60804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Physical determinism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– determinants are directly measurable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Biological determinism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emphasizes importance of physiological conditions and/or genetic predispositions in explanation of behavi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Environmental determinism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 emphasizes importance of environmental stimuli as determinants of behavi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Sociocultural determinism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 emphasizes cultural or societal rules, regulations, customs, and beliefs that govern human behavi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 Determinism vs. Free Wi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sychology can be scientific but reflect </a:t>
            </a:r>
            <a:r>
              <a:rPr b="1" i="1" lang="en-US" sz="3200" spc="-1" strike="noStrike">
                <a:solidFill>
                  <a:srgbClr val="40458c"/>
                </a:solidFill>
                <a:latin typeface="Times New Roman"/>
              </a:rPr>
              <a:t>indeterminism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about human behavior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212840" indent="-812880"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t may be assumed that human behavior is causally lawful, but the causes cannot be accurately measur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81288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logy like Physics may be subject to the Heisenberg Uncertainty principl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212840" indent="-8128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isenberg’s principle applied to psychology states that we can never learn at least some causes of behavior because in attempting to observe them we change the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 Determinism vs. Free Wi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me reject science as a way of studying humans, because behavior is freely chosen, or self generated, reflecting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non-determinism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ee will and personal/moral responsibil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ard determinism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81080" indent="-6094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auses function in an automatic, mechanistic manner, thus the notion of personal responsibility is meaningles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oft determinism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81080" indent="-6094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ognitive processes intervene between experience and production of behavior.  Human behavior is result of thoughtful deliberation of options available; thus, a person is responsible for action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ISTOR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Adopting an Historical Perspectiv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 historical perspective of psychology provides an understanding of the context in which psychologists work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cus on the social, cultural, intellectual, and emotional forces that shaped psychologists lives and actions they have take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though we make speak of people of time in terms of uniformity, psychologists may have acted on the basis of conflicting beliefs and ideolog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Understanding diverse perspectives is also a key to historical perspective-taking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ISTOR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Adopting an Historical Perspectiv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dopting a historical perspective is very different from the common-sense notion of identification with another person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deed, taking historical perspective demands comprehension of the vast differences between us in the present and those in the past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dopting a historical perspective is sometimes called “historical empathy,”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ne must try to understand the actors in past in terms of the social political, cultural and moral context in twhich that person lived!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ISTOR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Adopting an Historical Perspectiv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rgenhahn addresses three critical issues in </a:t>
            </a: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historiography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:  The study of the proper way to write history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here to start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at marks the beginning of psychology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hat to include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at is relevant to telling the history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oice of approach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at approach to history should be adopted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ISTOR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Where to Start (End)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ts often said that Psychology is a recent discipline with a long history.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hould we identify the history of psychology beginning with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cient man’s explan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arly Greek philosophers  - theories of cognitive proces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en psychology became a separate science – in the 19th centur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textbook starts (ends) with the ancient Greek philosoph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Issues and Goal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Understanding psychology involves adopting three perspectiv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cientific Perspective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Understanding the procedures psychologists use to answering questions in a scientific manner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istorical Perspective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nderstanding the social, cultural, intellectual, and emotional settings that shaped psychological idea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hilosophical Perspective: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Understanding the enduring questions about the nature of reality and knowledge addressed by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ISTOR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What to Include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decision to include and exclude material in an historical analysis is critical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wo kinds of systematic error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esentism:  attempt to understand the past in terms of present knowledge and standar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toricism:  study of the past without addressing the relationship between past and pres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 balance between the two errors seems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textbook concentrates on individuals who contributed the most to the development of or who has become closely associated with ide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ISTOR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Choice of Approach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 different approaches to writing histor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Zeitgeist (spirit of the time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Zeitgeist (spirit of the times) approach emphasizes the influences of developments in other sciences, political climate, technological advancements, and economic conditions on the development of psycholog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reat-per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mphasizes the works of individual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storical development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llustrates how individuals and/or events contributed to changes and development of ideas and concept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clectic approac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mbines these three approaches and is the approach used in the boo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sychology addresses enduring philosophical question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ppreciating the questions is essential for understanding psycholog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uch of psychology can be understood as an attempt to answer these questions empiricall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ppreciating the answers is central for grouping theories together into paradigm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aradigms are defined as a set of assumptions, concepts, values, and practices that constitutes a way of viewing reality for the community that shares them, especially in an intellectual disciplin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rgenhahn identifies 10 enduring philosophical ques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hat is the nature of human nature?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ow are the mind and body related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ativism  versus empiric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chanism versus vital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ationalism versus irrational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ow are humans related to nonhuman animal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hat is the origin of human knowledge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bjective versus subjective realit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problem of the self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Universalism versus relativ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609480" y="446040"/>
            <a:ext cx="8329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marL="812880" indent="-81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Ques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1 - What is nature of human nature?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termine what is universally true about huma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2 - How are the mind and body related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Materialist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Matter is only reality, thus everything must be explained in terms of matt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Idealist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Attempt to explain everything in terms of consciousnes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Monist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Believe in only one view: either materialist or idealis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Dualist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Believe that there are both physical events (materialism) and mental events (idealism). The question is, how are they related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Ques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ypes of dual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Interactionism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: The mind and body interac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Emergentism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: Mental states emerge from brain stat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Epiphenomenalism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: Mental processes are byproducts of brain process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Psychophysical parallelism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: Environmental events cause both mental events and behavior simultaneously, which are independent of each othe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Double aspectism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: Humans cannot be divided into mind and body; they are a unity of experience.  Mind and body are aspects of the same pers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5360" indent="-60336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ome dualists propose a pre-established harmony between mind and that is coordinated by an external agent (i.e. God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Occasionalism: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en a desire occurs in the mind, God causes the body to act; when events happen to the body, God causes the corresponding mental experien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Ques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3 - Nativism vs. Empiric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ativism (nature): Emphasizes the role of inherit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mpiricism (nurture):  Emphasizes the role of exper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ost psychologists take the position that human behavior is influenced by both nativism and empiricis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4: Mechanism vs.Vitalism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echanism: Behavior of all organisms can be explained as machines in terms of parts and law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Vitalism : Living things contain a force that does not exist in inanimate objects (the soul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Ques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5 – Rationalism vs. Irrational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ationalism: Emphasizes logical and systematic, thought processes in explanations of behavi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rrationalism: Emphasizes unconscious processes in behavior which cannot be pondered rationall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6 – How are humans related to nonhuman animals?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Quantitative Difference (degree): Studying animals can contribute to understanding human behavi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24120" indent="-5281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Qualitative Difference (kind): Studying animals cannot contribute to understanding human behavi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Ques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7 – Origin of Human Knowledg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pistemology: Study of the nature of knowledg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Radical empiricism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 All knowledge comes from sensory experience and mind that passively takes in that inform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Rationalism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 Although sensory information is important, the mind actively transforms the information in some way before knowledge is attained. (The mind is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active.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Nativists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 Propose that some ideas are a natural part of the mind (Examples: Plato and Descarte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Ques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8 – Objective vs. subjective realit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Naïve Realism: 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jective experience is exactly what is present in the physical world.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omething may be lost or gained in when translating from the physical to the subjective worl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Reification: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fallacy in which we tend to believe that something with a name has an independent existe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9:  Problem of the Self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Viewed as having a separate existence (instigator and evaluator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self as an autonomous power creates problems that psychology still struggles with toda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Issues and Goal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 this lecture we review each perspective, highlighting central points or issue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f interest is how to hold the three perspectives simultaneously when exploring Psych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imultaneous adoption of the scientific, historical, and philosophical perspectives amounts to exploring Psychology from a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"/>
              </a:rPr>
              <a:t>Philosophy/History of Science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oint of view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history/philosophy of science affords a broad appreciation of psychology, its nature, origins, and place in modern societ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ICAL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Ques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Q10 – Universalism vs. Relativ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Universalism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 The goal is to describe general laws and principles that govern the world and our perception of i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niversal truths can be discovered or inferr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Relativism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: Universal truths either do not exist, or if they do, they cannot be know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ruth is relative to the individual’s perspectives; there is no ultimate truth—just truth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umans influence what they observe, thus the search for universal truths independent of human existence is in vai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 Philosophy and History of Science grew out problems in tradition view of science.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raditional view of science is what you learned in elementary school: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33440" indent="-5331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ypothesize, observe, revis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raditional account does not account for the logical of science or the actual practice of scientists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ogical issues were addressed by Karl Popp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3348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ctual Practices were addressed by Thomas Kuh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Popper and the Logic of Scienc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Karl Popper (1902–1994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ce starts with a problem, which determines what observation are to be mad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pose solutions (conjectures) and find fault with solutions (refutation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us, science involves problems, theories (proposed solutions), and criticism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 scientific theory must be refutable – principle of falsifiabil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alsifiability:  Principle which makes theories scientific!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reud vs. Hu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Popper and the Logic of Scienc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Karl Popper contribution is the difference between confirmation and disconfirm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nfirmation is logically impossible as there are always alternative theories to refut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ories must make risky predictions – predictions that run a risk of being incorrec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tter theories make predictions that are riskie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ostdiction – explaining phenomena after they have already occurr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ce is unending search for better solutions to problems or better explanations of phenomena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Kuhn and the Practices of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omas Kuhn (1922 - 1996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tists view the world according to their theoretical commitments (paradigms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aradigm:  The entire constellation of beliefs, values, techniques, and so on shared by the members of a given scientific communit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se commitments help scientists “see” phenomena, but challenge the correspondence theory of tru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rrespondence theory of truth: The notion that the goal, when evaluating scientific laws or theories, is to determine whether or not they correspond to an external, mind-independent worl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Kuhn and the Practices of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omas Kuh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ientists’ commitment to a paradigm will continue until the failure of the paradigm to support productive researc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ormal science is when scientists work applying the paradig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ormal science is likened to puzzle solving and is guided by the restrictions of the paradigm.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searchers become emotionally involved with their paradigm and it becomes very difficult to give up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Kuhn and the Practices of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omas Kuh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ailure of a paradigm to account for anomalies will bring normal science to a hal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omalies – persistent observations that a currently accepted paradigm cannot expla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aradigms change as observations cannot be explained by the current paradigm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cience progresses as scientists are forced to change their paradigmatic commitment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s is a difficult process as belief systems are very difficult to chang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Kuhn and the Practices of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omas Kuh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tages of scientific developmen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23920" indent="-609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eparadigmatic st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22360" indent="-50796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Many rival schools of explanation with random fact gathering.   Eventually one school succeeds and becomes a paradigm and science continues.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23920" indent="-609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aradigmatic st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22360" indent="-50796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Science occurs until a new paradigm displaces the old one.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23920" indent="-609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volutionary st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22360" indent="-50796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A new paradigm displaces another one.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O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Kuhn and the Practices of Scientis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omas Kuh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hat is the status of Psychology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eparadigmatic vs. Multiparadigmatic disciplin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athering facts looking for paradig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ultiple competing paradigm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ome suggest that psychology needs to synthesize into one paradig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thers suggest that psychology will always have several coexisting paradigm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Kuhn vs. Popp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Kuhn’s and Popper’s views of science are at odds with each oth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opper stated that scientific problem solving is a creative activity (conjectures), unlike the puzzle solving that Kuhn describes it 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difference suggests that scientists are socialized into a way of thinking or are cognitively independen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opper’s analysis stresses logic and creativity while Kuhn’s analysis of sciences stresses convention and subjective (paradigmatic) factor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issues raises of question of whether science progresses rationall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What is Science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90400" indent="-53316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tanovich defined science as a process: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ystematic Empiricism: Evidence-based.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ublicly verifiable:  Ideas are open to scrutiny.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eals with solvable problems:  Only testable ideas.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590400" indent="-533160">
              <a:lnSpc>
                <a:spcPct val="90000"/>
              </a:lnSpc>
              <a:spcBef>
                <a:spcPts val="75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t by focusing on </a:t>
            </a:r>
            <a:r>
              <a:rPr b="0" i="1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cess</a:t>
            </a:r>
            <a:r>
              <a:rPr b="0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not </a:t>
            </a:r>
            <a:r>
              <a:rPr b="0" i="1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ontent,</a:t>
            </a:r>
            <a:r>
              <a:rPr b="0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the definition insures that psychology is scientific, 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Kant and Galileo (among others) argued that psychology could never become a science because of its focus on subjective experience (e.g., mental events)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View strongly held as late as the1800s, but less than 75 years later, psychology was heralded as a new science and quickly spread into popular culture.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Kuhn vs. Popp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ore on Kuhn vs. Popp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opper accepted the correspondence theory of truth, while Kuhn rejected this theor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ssumes that scientists create “reality”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Kuhn’s argues that that observations are incommensurable across paradigm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commensurability is a view that language constrains observations and that paradigm change in a language chang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is proposal is very philosophically significan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key in understanding the holist nature of meaning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HILOSPHY/HISTORY OF SCIENC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Kuhn vs. Popp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5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imes New Roman"/>
              </a:rPr>
              <a:t>Even more on Kuhn vs. Poppe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History of science is revealing of philosophically important issues in how conceptual change actually occurs.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Of interest, in our account of the history of psychology is how ideas evolve. 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marL="768240" indent="-711000">
              <a:spcBef>
                <a:spcPts val="75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imes New Roman"/>
              </a:rPr>
              <a:t>Were the psychology ideas of today shaped by…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a rigorous scientific process of  conjectures and refutations (Popper)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a more social process of conceptual change (Kuhn)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New paradigms emerged from the rejection of older less adequate ones.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What is Science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5040" indent="-577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cience was developed as a way to </a:t>
            </a: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answer questions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about nature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e issue is whether Psychology has answered any questions using scientific method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34960" indent="-5778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o ideas in psychology just come and go or are they accepted or rejected by scientific means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d Phrenology (18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belief that personality traits were determined by "reading" bumps on the skull) fall out of favor because…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34960" indent="-5778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idea was scientifically rejected     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34960" indent="-5778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lievers died off and other ideas took its pl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What is Science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595840" y="1599840"/>
            <a:ext cx="3548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5040" indent="-577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ctually, Phrenology is still with us in the form of the Modularity Hypothesis (localization of brain function) in cognitive neuroscience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6" name="Picture 2" descr="File:PhrenologyPix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7640" y="1641600"/>
            <a:ext cx="4187880" cy="521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What is Science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cience was developed as a way to answer questions without appeal to 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urch dogma (Darwin:  Evolutionary Theory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ast authorities (Copernicus: Heliocentric Theory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perstition (Galileo: Moons of Jupiter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bstract thought alone (Philosophy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unique contribution of science over other methods of arriving at truth is the use of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direct observation of nature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ut is the mind something “natural” of which you can have “direct observation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What is Science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cience itself is a combination of rationalism and empiricism (systematic empiricism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495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ationalism – mental operations or principles (rules of logic) must be employed to attain true knowledg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495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mpiricism – the source of all knowledge is sensory observ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cientific theories are mostly composed of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testable propositions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nd have two function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49536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Organize empirical observations.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49536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Provides guide for future observations.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CIENTIFIC PERSPECTIV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What is Science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ories are evaluated by assessing their testable proposition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f the theoretically derived propositions are tested experimentally and confirmed, then the theory gains strength, otherwise the theory will be revised or abandon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logic of the test of the theoretical proposition is the rational side of science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35040" indent="-577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analysis of the data and its use as evidence for or against a theoretically-based proposition is the empiricist side of science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kHoblit</dc:creator>
  <dc:description/>
  <dc:language>en-US</dc:language>
  <cp:lastModifiedBy> Eric Amsel</cp:lastModifiedBy>
  <cp:lastPrinted>2001-05-25T15:02:50Z</cp:lastPrinted>
  <dcterms:modified xsi:type="dcterms:W3CDTF">2011-08-30T15:03:32Z</dcterms:modified>
  <cp:revision>382</cp:revision>
  <dc:subject/>
  <dc:title>Stanovich Chap. 1</dc:title>
</cp:coreProperties>
</file>