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CB86-C252-49D8-B136-44260EF24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3248-8C0D-41FF-8F9A-61DB360ED95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79E9-0140-4F2F-923D-6C13CE2EF3E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0DF2-5749-4B39-93F9-50625750BF9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59A7-1934-4445-AB63-FEE30D9BD15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ACD6-8F83-4B44-90BF-5C5AC420719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942-DC79-4368-9CCE-F4349D5AD9A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A667-C462-4E57-8DFA-A06B1C5DD56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BF73-0202-412A-952A-F9AB616038B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585A-36A0-4807-B6C4-623FB12AD1E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16E-ED12-4612-B438-BF70238C235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3A90-839B-4584-A66D-3D11BF998D6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3D7C-F51F-414F-8167-F4683A61C0A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C523-79F9-46EA-ACF6-F9A25397624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823-6A48-468D-8CC7-A8ED70ADB06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129-7A24-48E4-8A14-4C1E72E53A8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A7D7-3778-4FC1-A176-784087A8EE3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C3B-FE80-4002-84EA-CB0C3A6560A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B53E8-DCBE-46A1-A696-8E09BF77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9E30B-31FF-43CE-ABE2-B1DE3AC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54A3E-DEAF-4E21-85DA-2E1A2FBE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9884-A4A2-4D3F-A09B-3FAC8E7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6832E-54EF-4F94-B1EC-4EBB3A94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D482-4120-4678-BC52-3B2AA7B0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F0CA-5E38-4744-8AAC-7B0770D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F74F9-36A7-4295-962E-9FC351C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B7AD2-2E10-44D0-B6A4-38CECB0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7683A-6CC0-497B-A825-B2A0654D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5C224-2BF5-45AC-AF62-815C7EF7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BCDDB-2E59-44F0-BA99-86E138CC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870-3E0A-46CB-A812-88F0B82056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000" y="1671120"/>
            <a:ext cx="853920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tion: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Why Take History and Systems in Psychology?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320" y="33480"/>
            <a:ext cx="449244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Social/Personality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Development Education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Journal of Orthopsychia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ultural Diversity &amp; Ethnic Minorit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evelopmental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mo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ealth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ducational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Family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Personality&amp; Social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 and Ag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 of Men and Masculinit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Professional Issues,  Pub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Policy</a:t>
            </a: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Journal of Orthopsychia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sulting Psychology Journ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Int. Journal of Stress  Manage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unseling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nsulting &amp; Clinical Psych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ofessional Psych: Research &amp; Practi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Servic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, Public Policy, and La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evention &amp; Trea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194000" y="0"/>
            <a:ext cx="49500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Theory, Reviews, Methodolog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Psychologis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temporary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ream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Psychotherapy Integra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Method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Review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therapy: Theory/Research/Practice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20040" y="6416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Science and Conceptual Chang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and why do psychological ideas about human nature change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cause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dynamic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views of human nature rise and wane from 1920s to 1940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haviorist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views of human nature quickly rose and fell as the scientific account for the discipline.  Why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y led to the rise and fall of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istic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w of human nature from the 1960s to 1980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triggered the present pervasiveness of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uro-science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ccount of  human nature? Will it last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Science and Conceptual Chang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process would you expect to underlie conceptual chang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Scientific Approac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New ideas emerge out of evidence of  the inadequacy of old ide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ashion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pproac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New ideas emerge because, like fashion, novelty is intrinsically goo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eath and Replacement Approac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Old ideas fade away as proponents of those ideas di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Premium of the New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New ideas in psychology are valued, even if not (yet) suppor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eas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ext’s Reasons to study History of Psycholog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spective: Appreciate how ideas evol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eper understanding: Realize the broader ideas underlying current issues in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cognition of fads or fashions: Distinguish ideas valued for their social relevance rather than tr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voiding repetition of mistakes: Understand unproductive intellectual avenues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source of valuable ideas: Value old ideas which can become new again (e.g., unconsciou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uriosity: Identify with one’s discipline’s pa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eas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t there may be a 7</a:t>
            </a:r>
            <a:r>
              <a:rPr b="0" lang="en-US" sz="3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Reason not in the textbook.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udying the history of psychology will make you more aware of the myths of the discipline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ke any institution socializing its young, undergraduate Psychology courses propagate of myths about the discipline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myth may be the extent to which psychology is  a pure science, not different than physic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lying diversity in psychology is an uniformity of accepting the discipline as scientific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s we will see in the class, the history presents a different story of this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Keith Stanovich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ovich’s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to Think Straight about Psychology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a defense of the discipline as scientifi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share the common value of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cience is a way of thinking about and observing the universe that leads to a deeper understanding of its workings (Stanovich, p. 8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ovich discusses three characteristics of sci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ystematic Empiricism: Evidence-bas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ublicly verifiable:  Ideas are open to scrutin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als with solvable problems:  Only testable idea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Sigmund Ko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och authored a respected history of the discipline then denied it was scientific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racteristically, psychological events are multiply-determined, ambiguous in their human meaning, polymorphous (multiformed), contextually environed or embedded in complex and vaguely bounded ways, evanescent (temporary) and labile (unstable) in the extreme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 has been misconceived as a science or as any kind of coherent discipline devoted to the empirical study of human being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URS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Featur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44400"/>
            <a:ext cx="8458200" cy="53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is course is designed to help students understand the discipline in new way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udents will learn about the assumptions underlying modern ideas in psychology (the Systems part) by exploring the conceptual origins and evolution of those ideas (the History part). 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course runs backwards, tracing back contemporary ideas to previous ideas of earlier times and ultimately to a Greek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is my hope that the course will arm you will skills to perform an “archeology of psychological knowledge” and sharpen your critical thinking about the discip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rite a brief characterization of each of the following professionals: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, Astrologist, Scient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st the most interesting idea(s) in psychology you have encountered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deas you found exciting, surprising, or importa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do psychology theories change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and why did Psychodynamic, Behavioral, and Humanistic, and Cognitive views of human nature rise and fall over tim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 Psychology Scientific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your image of psychologists like scientists?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y has been defined in textbooks as the scientific study of the mind and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 study people, psychologists, like other scientists, predict and explain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your image of psychologists and scientists different or the sam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strologist predict and explain of behavior but not scientifical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the eyes of psychology, astrology is a pseudosci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your image of psychologists and astrologists the same or differen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 Psychology Scientific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90400" indent="-5331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iscipline presents itself as scientific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see themselves as scientists and as very different than astrologis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ven psychologists who work in clinics or hospitals often (although not always) see themselves as scientist-practitioner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590400" indent="-533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are supposed to be practitioner-scientists like medical do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590400" indent="-533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activities of psychologists like doctors are based on the best scientific evidence, with no activities being performed without such evid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 Psychology Scientific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uriously, Hergenhahn’s textbook defines psychology differently than the standard definition of psychology in textbooks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y is defined by the professional activities of psychologists. (p. 2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y would Hergenhahn define psychology in such a circular and non-standard manner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wo reas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ical divers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fessional divers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Historic Diversit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efinition avoids fixing a permanent meaning of the discipline when viewing it historicall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single definition of psychology would apply in the history of the disciplin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torically psychology was defined as study of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or mind; the spirit; consciousness;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ically, psychology has involved different activities historically than it does now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fessional psychological activity has included examined responses to inkblots to identifying bumps on the hea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Professional Diversit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efinition acknowledges the range of backgrounds, approaches, and activities of psychologist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do you think it means that we can not agree about what is interesting, exciting or importa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oes it mean that psychology is in trouble because of the diversity of idea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uess how many divisions that there are in American Psychological Association? 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ivisi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uess how many journals American PA publishes?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APA Journal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0"/>
            <a:ext cx="4444920" cy="71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. Society for Gener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. Society for the Teaching of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. Experiment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. There is no Division 4 [more info]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. Evaluation, Measurement, and Statistic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6. Behavioral Neuroscience and Comparative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7. Development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8. Society for Personality and Soci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9. Society for the Psychological Study of Social Issues (SPSSI)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0. Society for the Psychology of Aesthetics, Creativity and the Art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1. There is no Division 11 [more info]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2. Society of Clinic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3. Society of Consulting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4. Society for Industrial and Organization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5. Education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6. Schoo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7. Society of Counseling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8. Psychologists in Public Service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9. Military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0. Adult Development and Aging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1. Applied Experimental and Engineering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2. Rehabilitation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3. Society for Consumer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4. Theoretical and Philosophic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5. Behavior Analysi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6. History of Psycholog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398840" y="0"/>
            <a:ext cx="47451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7. Society for Community Research and A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8. Psychopharmacology and Substance Abuse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9. Psychotherap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0. Society of Psychological Hypnosi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1. State Psychological Association Affair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2. Humanistic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3. Mental Retardation and Developmental Disabiliti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4. Population and Environment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5. Society for the Psychology of Women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6. Psychology of Religion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7. Child, Youth, and Family Servic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8. Health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9. Psychoanalysi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0. Clinical Neuro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1. American Psychology-Law Societ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2. Psychologists in Independent Practice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3. Family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4. Society for the Psychological Study of Lesbian, Gay, and Bisexual Issu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5. Society for the Psychological Study of Ethnic Minority Issu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6. Media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7. Exercise and Sport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8. Society for the Study of Peace, Conflict, and Violenc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9. Group Psychology and Group Psychotherap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0. Addiction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1. Society for the Psychological Study of Men and Masculinit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2. Internation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3. Society of Clinical Child and Adolescent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4. Society of Pediatric Psychology</a:t>
            </a: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4444920" cy="67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General Topic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Psychologis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PA Monito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temporary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ream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uropean Psychologis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istory of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Psychotherapy Integra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Bulleti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Method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Review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, Public Policy, and Law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Review of Gener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Basic Resear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Behavioral Neuroscien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mo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Abnorm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mparative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xperimental Psychology: Animal Behavior Process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pplied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Gener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uman Perception and Performan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Learning, Memory, and Cogni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Method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194000" y="0"/>
            <a:ext cx="495000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Applied &amp; Practic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linician's Research Diges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sulting Psychology Journal: Practice &amp; Research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ream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xperimental and Clinical Psychopharmac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Group Dynamics: Theory, Research, and Practi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ealth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International Journal of Stress Manage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Applied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nsulting and Clinic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unseling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ducation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xperimental Psychology: Applied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Occupational Health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Neuro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ofessional Psychology: Research and Practi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analytic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Servic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 of Men and Masculinit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therapy: Theory/Research/Practice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Rehabilitation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evention &amp; Treat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kHoblit</dc:creator>
  <dc:description/>
  <dc:language>en-US</dc:language>
  <cp:lastModifiedBy>Eric Amsel</cp:lastModifiedBy>
  <cp:lastPrinted>2001-05-25T15:02:50Z</cp:lastPrinted>
  <dcterms:modified xsi:type="dcterms:W3CDTF">2011-08-22T18:29:54Z</dcterms:modified>
  <cp:revision>198</cp:revision>
  <dc:subject/>
  <dc:title>Stanovich Chap. 1</dc:title>
</cp:coreProperties>
</file>