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60360" y="721800"/>
            <a:ext cx="4795920" cy="359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77FE-601A-451F-9FBB-847DEE5B2F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094A-9E52-4C5E-8685-2D9FD8242DD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D5D5-E9B8-4A9E-AFD9-B64397E6935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4693-C7F7-4EF1-8FB3-FF4996DF176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E66F-0108-4FB4-8D99-F780940C8FD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2FBE-72EE-4237-8910-DA0476EF967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E4CA-2367-4CA3-AA50-78482BDB758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19BD-A811-4115-94DE-ABD86F33E66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18F1-75BD-48D3-ACE6-4C082A969E2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A35D-DC7F-4E27-B6C2-6A7FAEF23D9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4689-6B1C-469D-87C1-2629342C14A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A17E-E531-4A47-AF70-E0ADB0E9784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3037-4D8E-449A-BD1F-B04F2336F77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3900-01C5-4BEE-BC6C-33BDDCA9C03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798F-4EAF-4953-BF52-6D892662E06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729C-88A7-4761-9039-5390F982CAD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6D7A-FE3C-4F65-8783-F14F4B5F484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B30A-594E-4DA5-911C-91C813C8174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BED6-2117-4570-8C73-C307778FC23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286A-BAC6-4416-9469-2C30A98A398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FABA-9699-462E-A707-6A870ECE932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F9DA-BCF6-40B7-AE0C-596A4F6CC1A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F873-5A6A-454C-A8C3-7858852F313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CE06-6749-43BD-B5C6-B8E2626B577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D24F-86EF-43B8-9CCF-33CDA61FD35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6C0C-D55E-42F4-A35E-3653ADFAD00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91E05-17BE-4D0A-8CEE-5644DDE5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23860-3D2C-48DC-B1A8-BB89CB2C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52BD3-F1F8-4D94-AA95-B9CE6028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FAE2F-A1EE-4E2E-B86F-BE0B1DEF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F32EF-1CBB-47D4-96A6-A3CBC282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96BCB-4250-4F1C-89E3-CEEEB431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CE797-B244-4AAE-8FAE-D980CAA3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D326B-CC23-4D12-BA5D-CA50ABC2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14DA3-F03D-4D0B-89C7-58A0F762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3E604-A45B-4D6B-8B07-1739C374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7470D-73FE-4F0B-A134-C65EDBED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8BE9E-94EF-4182-8D3D-2A53655F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</a:path>
                  <a:path stroke="0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</a:path>
                  <a:path stroke="0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  <a:lnTo>
                      <a:pt x="21598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3C0D-0DE7-43D7-A70E-828873F2764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7/Leibniz_23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7/Leibniz_23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7/Leibniz_23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pinoz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pinoz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pinoz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7/Leibniz_23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Lecture 18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Rationalism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Gottfried Wilhelm von Leibniz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onad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universe consisted of an infinite number of life units called mona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monad is like a living atom; all monads are active and consciou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nads differ in clarity of consciousness in a hierarch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 general the hierarchy goes from God, the highest, to humans, then to animals, followed by animals, plants, and nonliving matter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9" name="Picture 4" descr="File:Leibniz 2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5280" y="2133720"/>
            <a:ext cx="2552400" cy="310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Gottfried Wilhelm von Leibniz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ind-body issu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eibniz proposed a psycho-physical parallelism with a pre-established harmon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rgued that monads never influence each other; it only appears that they do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mind and body appear to influence each other, but they do not work in paralle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y work in harmony because God planned it that wa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2" name="Picture 4" descr="File:Leibniz 2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5280" y="2133720"/>
            <a:ext cx="2552400" cy="310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Gottfried Wilhelm von Leibniz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ercept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erceptions can be conscious or below consciousness (petites perception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s petites perceptions accumulate, their force causes appercep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w of Continuity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l differences in nature are characterized by small gradatio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ime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5" name="Picture 4" descr="File:Leibniz 2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5280" y="2133720"/>
            <a:ext cx="2552400" cy="310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Thomas Reid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omas Reid (1710 –1796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ottish philosopher and founder of the Scottish School of Common Sens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id claimed that our common sense (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sensus communi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) justify our belief in an external worl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Because all humans are convinced of the existence of physical reality, it must exist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rect Real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nsations are an accurate reflection of reality immediately, not after the mind has operated on them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8" name="Picture 2" descr="File:ThomasReid.jpg"/>
          <p:cNvPicPr/>
          <p:nvPr/>
        </p:nvPicPr>
        <p:blipFill>
          <a:blip r:embed="rId1"/>
          <a:stretch/>
        </p:blipFill>
        <p:spPr>
          <a:xfrm>
            <a:off x="6629400" y="2435400"/>
            <a:ext cx="2438280" cy="312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. Thomas Reid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asoning powers of the mind include several faculties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re than a classification, as done by other faculty psychologists (c.f., human mind consists of separate or trainable powers or faculties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ental faculties are active powers of the min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y actually existed and influenced people’s thoughts and behavi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1" name="Picture 2" descr="File:ThomasReid.jpg"/>
          <p:cNvPicPr/>
          <p:nvPr/>
        </p:nvPicPr>
        <p:blipFill>
          <a:blip r:embed="rId1"/>
          <a:stretch/>
        </p:blipFill>
        <p:spPr>
          <a:xfrm>
            <a:off x="6629400" y="2435400"/>
            <a:ext cx="2438280" cy="312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. Immanuel Ka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mmanuel Kant (1724 – 1804)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posed that the mind must add something to sensory data before knowledge can be attain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Up to now it has been assumed that all our cognition must conform to the objects; but ...let us once try whether we do not get farther with the problems of metaphysics by assuming that the objects must conform to our cogni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4" name="Picture 2" descr="http://upload.wikimedia.org/wikipedia/commons/thumb/4/43/Immanuel_Kant_%28painted_portrait%29.jpg/200px-Immanuel_Kant_%28painted_portrait%29.jpg"/>
          <p:cNvPicPr/>
          <p:nvPr/>
        </p:nvPicPr>
        <p:blipFill>
          <a:blip r:embed="rId1"/>
          <a:stretch/>
        </p:blipFill>
        <p:spPr>
          <a:xfrm>
            <a:off x="6527880" y="1905120"/>
            <a:ext cx="25398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. Immanuel Ka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15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quality of mind was provided by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a priori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(or before experience) categories of thought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10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A priori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categories of thought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Unity, totality, time, space, cause and effect, reality, quantity, quality, negation, possibility-impossibility, and existence-nonexistenc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7" name="Picture 2" descr="http://upload.wikimedia.org/wikipedia/commons/thumb/4/43/Immanuel_Kant_%28painted_portrait%29.jpg/200px-Immanuel_Kant_%28painted_portrait%29.jpg"/>
          <p:cNvPicPr/>
          <p:nvPr/>
        </p:nvPicPr>
        <p:blipFill>
          <a:blip r:embed="rId1"/>
          <a:stretch/>
        </p:blipFill>
        <p:spPr>
          <a:xfrm>
            <a:off x="6527880" y="1905120"/>
            <a:ext cx="25398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. Immanuel Ka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ur mental experienc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lways structured by the categories of though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ur “phenomenological experience” is an interaction of sensations and the categories of though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n never know the true physical reality just appearances (phenomena) that are controlled by the categories of though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0" name="Picture 2" descr="http://upload.wikimedia.org/wikipedia/commons/thumb/4/43/Immanuel_Kant_%28painted_portrait%29.jpg/200px-Immanuel_Kant_%28painted_portrait%29.jpg"/>
          <p:cNvPicPr/>
          <p:nvPr/>
        </p:nvPicPr>
        <p:blipFill>
          <a:blip r:embed="rId1"/>
          <a:stretch/>
        </p:blipFill>
        <p:spPr>
          <a:xfrm>
            <a:off x="6527880" y="1905120"/>
            <a:ext cx="25398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. Immanuel Ka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priori (prior to experienc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0560" indent="-660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mind adds the concept of time and space to sensory informatio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0560" indent="-660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y are both provided by an a priori category of though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tegorical Imperativ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0560" indent="-660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rational principle which governs or should govern moral behavi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0560" indent="-6606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imilar to older moral precepts such as the “golden rule”.</a:t>
            </a:r>
            <a:r>
              <a:rPr b="0" lang="en-US" sz="28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nthrop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0560" indent="-660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nonscientific way of studying how people actually behav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3" name="Picture 2" descr="http://upload.wikimedia.org/wikipedia/commons/thumb/4/43/Immanuel_Kant_%28painted_portrait%29.jpg/200px-Immanuel_Kant_%28painted_portrait%29.jpg"/>
          <p:cNvPicPr/>
          <p:nvPr/>
        </p:nvPicPr>
        <p:blipFill>
          <a:blip r:embed="rId1"/>
          <a:stretch/>
        </p:blipFill>
        <p:spPr>
          <a:xfrm>
            <a:off x="6527880" y="1905120"/>
            <a:ext cx="25398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. Johann Friedrich Herbar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ann Friedrich Herbart (1776 - 1841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rman philosopher and psychologist who began pedagogy – the study of way of teaching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d not believe psychology could be an experimental sc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mind acts as an integrated whole therefore it could not be fractionat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6" name="Picture 2" descr="File:Johann Friedrich Herbart.jpg"/>
          <p:cNvPicPr/>
          <p:nvPr/>
        </p:nvPicPr>
        <p:blipFill>
          <a:blip r:embed="rId1"/>
          <a:stretch/>
        </p:blipFill>
        <p:spPr>
          <a:xfrm>
            <a:off x="6647040" y="2362320"/>
            <a:ext cx="2420640" cy="2533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escartes’ notion of innate ideas is consistent with rational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ationalism is a view appealing to reason as a source of knowledge or justification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criterion of the truth is not sensory but intellectual and deductiv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ince the Enlightenment, rationalism is usually associated with the mathematical methods of Descartes, Leibniz, and Spinoza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s is commonly called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ntinental rationalism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, as distinguished from British empiricis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. Johann Friedrich Herbar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sychic Mechanics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deas had a force or energy of their own and the laws of association were not necessarily to bind the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deas have the power to attract or repel other ideas, depending on their compatibilit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deas attempt to gain expression in consciousness and compete with each other to do so.</a:t>
            </a:r>
            <a:r>
              <a:rPr b="0" lang="en-US" sz="28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9" name="Picture 2" descr="File:Johann Friedrich Herbart.jpg"/>
          <p:cNvPicPr/>
          <p:nvPr/>
        </p:nvPicPr>
        <p:blipFill>
          <a:blip r:embed="rId1"/>
          <a:stretch/>
        </p:blipFill>
        <p:spPr>
          <a:xfrm>
            <a:off x="6647040" y="2362320"/>
            <a:ext cx="2420640" cy="2533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. Johann Friedrich Herbar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pperceptive Mass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mpatible ideas that are in consciousness to which we are attending at given momen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deas outside apperceptive mass (incompatible ideas) are repressed by the powers of the ideas in the mas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ime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threshold between conscious and unconsciou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8240" indent="-6033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Goal was to mathematically express the relationships among the apperceptive mass, the limen, and the conflict among idea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Picture 2" descr="File:Johann Friedrich Herbart.jpg"/>
          <p:cNvPicPr/>
          <p:nvPr/>
        </p:nvPicPr>
        <p:blipFill>
          <a:blip r:embed="rId1"/>
          <a:stretch/>
        </p:blipFill>
        <p:spPr>
          <a:xfrm>
            <a:off x="6500880" y="2209680"/>
            <a:ext cx="256680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. Johann Friedrich Herbar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ffective Teaching: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view material already learned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epare students for new material by giving overview of upcoming materi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esent new materi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late new material to what has already been learn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how applications of new material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ive an overview of next material to be learned.</a:t>
            </a:r>
            <a:r>
              <a:rPr b="0" lang="en-US" sz="28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Picture 2" descr="File:Johann Friedrich Herbart.jpg"/>
          <p:cNvPicPr/>
          <p:nvPr/>
        </p:nvPicPr>
        <p:blipFill>
          <a:blip r:embed="rId1"/>
          <a:stretch/>
        </p:blipFill>
        <p:spPr>
          <a:xfrm>
            <a:off x="6500880" y="2209680"/>
            <a:ext cx="256680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Georg Wilhelm Friedrich Heg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.W.F. Hegel (1770 –1831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rman philosopher, and one of the creators of German ideal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developed a concept of mind or spirit that manifested itself in a set of contradictions and oppositions that it ultimately integrated and unit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Absolut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Universe is interrelated un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rue knowledge is attained by relating isolated instances to the “whole.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Picture 2" descr="http://aesthetictraditionalist.files.wordpress.com/2008/12/hegel_portrait_by_schlesinger_1831.jpg"/>
          <p:cNvPicPr/>
          <p:nvPr/>
        </p:nvPicPr>
        <p:blipFill>
          <a:blip r:embed="rId1"/>
          <a:stretch/>
        </p:blipFill>
        <p:spPr>
          <a:xfrm>
            <a:off x="6477120" y="2303640"/>
            <a:ext cx="263520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Georg Wilhelm Friedrich Heg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ur understanding progresses toward the absolute by the dialectic process,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irst have a thesis (a point of view) and an antithesis (opposite point of view),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n have a synthesis (a compromise between the thesis and the antithesis), which is a new point of view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is new point of view now becomes the thesis for the next dialectic proces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1" name="Picture 2" descr="http://aesthetictraditionalist.files.wordpress.com/2008/12/hegel_portrait_by_schlesinger_1831.jpg"/>
          <p:cNvPicPr/>
          <p:nvPr/>
        </p:nvPicPr>
        <p:blipFill>
          <a:blip r:embed="rId1"/>
          <a:stretch/>
        </p:blipFill>
        <p:spPr>
          <a:xfrm>
            <a:off x="6477120" y="2286000"/>
            <a:ext cx="2631960" cy="333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Georg Wilhelm Friedrich Heg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gel proposed the concept of alienation (self-estrangement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ter used in theories of Eric Fromm, Carl Rogers, and the existentialis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Picture 2" descr="http://aesthetictraditionalist.files.wordpress.com/2008/12/hegel_portrait_by_schlesinger_1831.jpg"/>
          <p:cNvPicPr/>
          <p:nvPr/>
        </p:nvPicPr>
        <p:blipFill>
          <a:blip r:embed="rId1"/>
          <a:stretch/>
        </p:blipFill>
        <p:spPr>
          <a:xfrm>
            <a:off x="6477120" y="2286000"/>
            <a:ext cx="2631960" cy="333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Rationalism vs. Empiric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ifferences between empiricism and rational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atus of Min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mpiricists describe a passive mind which acts in mechanical wa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ationalists proposed an active mind that acts on information from the senses and gives it mean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termin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mpiricists proposed that experience, memory, associations, and hedonism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determin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not only how a person thinks and acts but also his or her moralit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or rationalists, there are rational reasons for some acts or thoughts being judged more desirable than other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Rationalism vs. Empiric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ifferences between empiricism and rational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plana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mpiricists emphasize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imes New Roman"/>
              </a:rPr>
              <a:t>mechanical cause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of behavior, which emphasize the power of environmental factor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ationalists emphasize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imes New Roman"/>
              </a:rPr>
              <a:t>reason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for behavior. Which emphasize the power of reflection on optio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thod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mpiricists stress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imes New Roman"/>
              </a:rPr>
              <a:t>induction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which involves generalizing from observables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cien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ationalists stress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imes New Roman"/>
              </a:rPr>
              <a:t>deduction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ich involves inferring from first principles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athematic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Baruch Spinoza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aruch Spinoza 1632 – 1677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utch philosopher of Portuguese Jewish origi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sidered one of greatest rationalist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ntrary to Descartes, he proposed that God, nature, and mind were aspects of the same substanc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od, nature, and mind were inseparab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antheism:  God was natu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o understand nature is to understand God as God is present everywhere and in everything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4" name="Picture 2" descr="http://upload.wikimedia.org/wikipedia/commons/thumb/e/ea/Spinoza.jpg/200px-Spinoz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7680" y="1676520"/>
            <a:ext cx="23400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Baruch Spinoza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ontrary to Dualism, Spinoza proposed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Double Aspectism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ind and body were two aspects of the same thin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e really do not have free will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ature (God) is lawful and humans are part of natu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us thoughts and behavior are lawful – determine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Our “freedom” is realizing that everything that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is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ust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necessarily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be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and everything that happens must necessarily happen - because everything results from God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7" name="Picture 2" descr="http://upload.wikimedia.org/wikipedia/commons/thumb/e/ea/Spinoza.jpg/200px-Spinoz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7680" y="1676520"/>
            <a:ext cx="23400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Baruch Spinoza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leasure comes from entertaining clear ideas, which are conducive to the mind’s surviva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hen the mind entertains unclear ideas, it feels weak and vulner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assion is a general upheaval not associated with a particular thought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motion is linked to a particular though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0" name="Picture 2" descr="http://upload.wikimedia.org/wikipedia/commons/thumb/e/ea/Spinoza.jpg/200px-Spinoz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7680" y="1676520"/>
            <a:ext cx="23400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Nicolas de Malebranch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icolas de Malebranche (1638 –1715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ench rationalist philosoph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sought to demonstrate the active role of God in every aspect of the worl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posed mind-body Occasional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en a person has a desire to move a part of the body, God is aware of this and moves the body par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3" name="Picture 2" descr="Nicolas_Malebranche"/>
          <p:cNvPicPr/>
          <p:nvPr/>
        </p:nvPicPr>
        <p:blipFill>
          <a:blip r:embed="rId1"/>
          <a:stretch/>
        </p:blipFill>
        <p:spPr>
          <a:xfrm>
            <a:off x="6672240" y="2057400"/>
            <a:ext cx="23954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NTINENTAL RATIONALIST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Gottfried Wilhelm von Leibniz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ottfried Wilhelm von Leibniz (1646 - 1716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rman philosopher invented calculus independently of Newt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so invented the binary syste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sagreed with Locke, believing ideas don’t come from experie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deas are immaterial and cannot be caused by material activity such as sense activit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deas must be innate – which means the potential for an idea s innat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6" name="Picture 4" descr="File:Leibniz 2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5280" y="2133720"/>
            <a:ext cx="2552400" cy="310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Eric Amsel</dc:creator>
  <dc:description/>
  <dc:language>en-US</dc:language>
  <cp:lastModifiedBy> Eric Amsel</cp:lastModifiedBy>
  <cp:lastPrinted>2001-05-25T15:02:50Z</cp:lastPrinted>
  <dcterms:modified xsi:type="dcterms:W3CDTF">2011-11-03T12:09:54Z</dcterms:modified>
  <cp:revision>1043</cp:revision>
  <dc:subject/>
  <dc:title>Issues and Theories</dc:title>
</cp:coreProperties>
</file>