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6"/>
          </p:nvPr>
        </p:nvSpPr>
        <p:spPr>
          <a:xfrm>
            <a:off x="414648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260360" y="721800"/>
            <a:ext cx="4795920" cy="3597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7"/>
          </p:nvPr>
        </p:nvSpPr>
        <p:spPr>
          <a:xfrm>
            <a:off x="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8"/>
          </p:nvPr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C4CE-A4DE-44D3-9A11-8F88569830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27DF-F963-4AE3-9819-43AD3DDE0A80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5B90-AAB0-49B1-847B-78BBEDEC71B6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4DEA-1EAD-4E9D-996A-1439A3A143AA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2F53-F042-40F7-807B-C3DDD9AC494A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4F0A-1652-4689-9983-4485115A38FE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546E-F549-422F-811B-1A6CBF65111F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4196-B62F-4233-974B-342D551CEBFF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614E-E7BC-404B-A3D1-0DDA1687072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9100-14F9-47AE-9A9E-E2C63F6201D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87DC-8482-4ED3-970B-EC184B144C5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4930-DBA6-4692-8725-632AE7BED2F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5D51-EBC7-4C7A-981C-B7263FD8B4AA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E93C-F6A4-4171-AD21-17CA8CBF7046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2DC0-FA58-493A-9B6D-51AC12AE6E48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EAB3-75CD-43BF-8445-04F4FC358B53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9C52-F94F-4FB9-B1EF-DCE3DB72B34C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1B2B-20C2-4DDB-A795-83C6A4AA56E5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C366-A3D9-44C8-AC6B-EF865476D06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7C76-AE43-4AD8-A0F4-C551970C237D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B1DC-5043-4A9A-82C5-A069C41D4E38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8F6D-69F4-4EFB-A278-6F719D505C1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B866-69D1-4566-897D-F8575B3B6B0B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F87B-01A8-4170-B2B5-B70215B539A0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E35E-315D-4442-BC0C-3A2550114733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ED15-A0E4-496A-A35F-53C3854DA99F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1B9B-C4B7-4795-98CD-D73497EE1E63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F5A8-7B88-42FB-93BB-1A11D4792BC8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5B42-3C65-4603-8CEE-CD8699287405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3A28-04E7-4047-92BB-8DD7C127ABCB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009F-E5D9-4174-B977-5BC1DBB0A44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9E96-7626-4AC7-81B2-32BD4B899583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5D10-A498-4692-B48F-1A139182BD0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71C3-22D0-4AFE-BF9F-47769F9E38E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9CAE-C2C0-43D5-BF40-A41792F1E26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1C51-B3B3-4CE1-8CC6-75DC3BB2F71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3800-FF9B-4C10-9229-21A8C4780C5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92B5-379B-4B2A-BE44-9FAA8AE1B753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B2D6-91E2-4EDA-BC67-85471969EE97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B8D42-FF1B-4F83-A5AC-76A7DB024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C565D-19CF-401F-80FA-03705EC9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79CB9-186E-4888-8668-ABD91B3F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AB7D3-A84A-4854-812F-313B5E3C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E81A4-B2A1-4E36-B209-4E87D0D0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B5A08-0479-4F30-8F1C-1FAE073C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4A02B-E5DE-4DE5-90E4-DAF74080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8E6A8-245E-44D0-AECE-ED14DD43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C6A2C-5021-4BFE-8636-8AB0F319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47AD5-35DB-426E-A834-9959F70F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B28AF-DB04-49A5-9812-C7FE78631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4CE10-5549-4A46-B09B-8546D429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1066680" y="152280"/>
            <a:ext cx="6870960" cy="1270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vert1"/>
          <p:cNvPicPr/>
          <p:nvPr/>
        </p:nvPicPr>
        <p:blipFill>
          <a:blip r:embed="rId3"/>
          <a:stretch/>
        </p:blipFill>
        <p:spPr>
          <a:xfrm>
            <a:off x="228600" y="990720"/>
            <a:ext cx="36360" cy="402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3" name="Group 5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4" name="Rectangle 2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5" name="Group 5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6" name="Line 3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Line 4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Line 5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Line 6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Line 7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Line 8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Line 9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Line 10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Line 11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Line 12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Line 13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Line 14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Line 15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Line 16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Line 17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Line 18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Line 19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Line 20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Line 21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Line 22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Line 23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Line 24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Line 25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Line 26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Line 27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Line 28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Line 29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Line 30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Line 31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32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33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34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Line 35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Line 36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Line 37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Line 38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Line 39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Line 40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Line 41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Line 42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Line 43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Line 44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Line 45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Line 46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Line 47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Line 48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Line 49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Line 50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Line 51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Line 52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Line 53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Line 55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61"/>
            <p:cNvGrpSpPr/>
            <p:nvPr/>
          </p:nvGrpSpPr>
          <p:grpSpPr>
            <a:xfrm>
              <a:off x="2880" y="887400"/>
              <a:ext cx="6654600" cy="2851200"/>
              <a:chOff x="2880" y="887400"/>
              <a:chExt cx="6654600" cy="2851200"/>
            </a:xfrm>
          </p:grpSpPr>
          <p:sp>
            <p:nvSpPr>
              <p:cNvPr id="99" name="Line 57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0" name="Line 58"/>
              <p:cNvSpPr/>
              <p:nvPr/>
            </p:nvSpPr>
            <p:spPr>
              <a:xfrm flipH="1" flipV="1">
                <a:off x="2880" y="3052800"/>
                <a:ext cx="5097240" cy="144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1" name="Line 59"/>
              <p:cNvSpPr/>
              <p:nvPr/>
            </p:nvSpPr>
            <p:spPr>
              <a:xfrm flipH="1" flipV="1">
                <a:off x="607680" y="1487520"/>
                <a:ext cx="6049800" cy="144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2" name="Arc 60"/>
              <p:cNvSpPr/>
              <p:nvPr/>
            </p:nvSpPr>
            <p:spPr>
              <a:xfrm rot="16200000">
                <a:off x="675360" y="136944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8" h="43200">
                    <a:moveTo>
                      <a:pt x="43198" y="21879"/>
                    </a:moveTo>
                    <a:cubicBezTo>
                      <a:pt x="43045" y="33698"/>
                      <a:pt x="33420" y="43199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1691" y="-1"/>
                      <a:pt x="21783" y="0"/>
                      <a:pt x="21875" y="1"/>
                    </a:cubicBezTo>
                  </a:path>
                  <a:path stroke="0" w="43198" h="43200">
                    <a:moveTo>
                      <a:pt x="43198" y="21879"/>
                    </a:moveTo>
                    <a:cubicBezTo>
                      <a:pt x="43045" y="33698"/>
                      <a:pt x="33420" y="43199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1691" y="-1"/>
                      <a:pt x="21783" y="0"/>
                      <a:pt x="21875" y="1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Group 6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04" name="Line 62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5" name="Line 63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6" name="Arc 64"/>
              <p:cNvSpPr/>
              <p:nvPr/>
            </p:nvSpPr>
            <p:spPr>
              <a:xfrm rot="5400000">
                <a:off x="8092080" y="5317200"/>
                <a:ext cx="247320" cy="24948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249480"/>
                  <a:gd name="textAreaBottom" fmla="*/ 249840 h 249480"/>
                </a:gdLst>
                <a:ahLst/>
                <a:rect l="textAreaLeft" t="textAreaTop" r="textAreaRight" b="textAreaBottom"/>
                <a:pathLst>
                  <a:path fill="none" w="43198" h="43200">
                    <a:moveTo>
                      <a:pt x="21048" y="7"/>
                    </a:moveTo>
                    <a:cubicBezTo>
                      <a:pt x="21231" y="2"/>
                      <a:pt x="21414" y="-1"/>
                      <a:pt x="21598" y="0"/>
                    </a:cubicBezTo>
                    <a:cubicBezTo>
                      <a:pt x="33527" y="0"/>
                      <a:pt x="43198" y="9670"/>
                      <a:pt x="43198" y="21600"/>
                    </a:cubicBezTo>
                    <a:cubicBezTo>
                      <a:pt x="43198" y="33529"/>
                      <a:pt x="33527" y="43200"/>
                      <a:pt x="21598" y="43200"/>
                    </a:cubicBezTo>
                    <a:cubicBezTo>
                      <a:pt x="9775" y="43200"/>
                      <a:pt x="150" y="33696"/>
                      <a:pt x="-1" y="21875"/>
                    </a:cubicBezTo>
                  </a:path>
                  <a:path stroke="0" w="43198" h="43200">
                    <a:moveTo>
                      <a:pt x="21048" y="7"/>
                    </a:moveTo>
                    <a:cubicBezTo>
                      <a:pt x="21231" y="2"/>
                      <a:pt x="21414" y="-1"/>
                      <a:pt x="21598" y="0"/>
                    </a:cubicBezTo>
                    <a:cubicBezTo>
                      <a:pt x="33527" y="0"/>
                      <a:pt x="43198" y="9670"/>
                      <a:pt x="43198" y="21600"/>
                    </a:cubicBezTo>
                    <a:cubicBezTo>
                      <a:pt x="43198" y="33529"/>
                      <a:pt x="33527" y="43200"/>
                      <a:pt x="21598" y="43200"/>
                    </a:cubicBezTo>
                    <a:cubicBezTo>
                      <a:pt x="9775" y="43200"/>
                      <a:pt x="150" y="33696"/>
                      <a:pt x="-1" y="21875"/>
                    </a:cubicBezTo>
                    <a:lnTo>
                      <a:pt x="21598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BD64-0520-4ADF-8C13-FD111061B85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ranz_Brentano.jpe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Lecture 9:</a:t>
            </a:r>
            <a:br>
              <a:rPr sz="3600"/>
            </a:b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Volunteerism, Structuralism </a:t>
            </a:r>
            <a:br>
              <a:rPr sz="3600"/>
            </a:b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and other Early Approaches to Psychology 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  WUNDT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The Lab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760320" indent="-7038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Equipmen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56680" indent="-7041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lab looked like a </a:t>
            </a:r>
            <a:br>
              <a:rPr sz="2800"/>
            </a:b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atchmaker’s factory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52680" indent="-704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ecise equipment were fashioned for experiment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56680" indent="-7041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all Chronometer (created by Cattell) used in his reaction-time experiment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52680" indent="-704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hen the screen drops, the subject (S, left) is able to see a word written on a card. At the same time the chronoscope in front of the experimenter (E, right) starts running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52680" indent="-704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s soon as the S pronounces the word the lip-key in his mouth arrests the chronoscope, allowing the E to read the reaction tim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5181480" y="76320"/>
            <a:ext cx="3886200" cy="2666880"/>
            <a:chOff x="5181480" y="76320"/>
            <a:chExt cx="3886200" cy="2666880"/>
          </a:xfrm>
        </p:grpSpPr>
        <p:pic>
          <p:nvPicPr>
            <p:cNvPr id="191" name="Picture 2" descr=""/>
            <p:cNvPicPr/>
            <p:nvPr/>
          </p:nvPicPr>
          <p:blipFill>
            <a:blip r:embed="rId1"/>
            <a:stretch/>
          </p:blipFill>
          <p:spPr>
            <a:xfrm>
              <a:off x="5181480" y="1494360"/>
              <a:ext cx="3886200" cy="124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3" descr=""/>
            <p:cNvPicPr/>
            <p:nvPr/>
          </p:nvPicPr>
          <p:blipFill>
            <a:blip r:embed="rId2"/>
            <a:stretch/>
          </p:blipFill>
          <p:spPr>
            <a:xfrm>
              <a:off x="5181480" y="76320"/>
              <a:ext cx="3886200" cy="1436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  WUNDT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 Achievements and Contribution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chievements &amp; Contribution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ook achievements of others and his own early research on attention (pendulum experiment) created a unified program of research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etermined that this program must stress </a:t>
            </a: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selective attention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, which is a willed process and so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volitional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Volunteerism (derivative from volition) was Psychology’s first school or Kuhnian paradigm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is achievement may be more important that the having the first lab or journal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6715080" y="2362320"/>
            <a:ext cx="227664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  WUNDT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E. Nature of Volunteerism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019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Volunteeris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56680" indent="-7041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sychology’s goal was to understand both simple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basic processes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f the mind and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complex conscious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henomena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52680" indent="-7041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or simple phenomena, experimentation was to be used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52680" indent="-7041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or complex phenomena, experimentation could not be used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56680" indent="-7041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omplex phenomena considered to  be higher mental process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52680" indent="-7041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Only various forms of naturalistic observation could be used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6715080" y="2362320"/>
            <a:ext cx="227664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  WUNDT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E. Volunteerism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019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Volunteeris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Volunteering seeks to understand experienc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wo types of experienc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Mediate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experience and data are obtained via measuring devices and thus is not direct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Immediate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experience and data are events in human consciousness as they occurr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Volunteerism holds that immediate experience is the subject matter of psycholog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6715080" y="2362320"/>
            <a:ext cx="227664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  WUNDT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E. Volunteerism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Volunteeris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00600" indent="-8046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Volunteerism studies two types of immediate experience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52680" indent="-704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ensations :  Occurs when a sense organ is stimulated and impulse reaches the brain. Described in terms of modality, intensity, and qualit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52680" indent="-704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eelings : Accompanied sensations and could be described along three dimension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960920" indent="-603360">
              <a:spcBef>
                <a:spcPts val="45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pleasantness – unpleasantnes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960920" indent="-603360">
              <a:spcBef>
                <a:spcPts val="45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excitement – calm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960920" indent="-603360">
              <a:spcBef>
                <a:spcPts val="45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strain – relax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6715080" y="2362320"/>
            <a:ext cx="227664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  WUNDT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E. Volunteerism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796320" indent="-79632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Volunteerism’s Account of percepti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45160" indent="-69696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erception is interaction betwee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36840" indent="-69696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stimulation pres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36840" indent="-69696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physical makeup of the pers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36840" indent="-69696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erson’s past experience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45160" indent="-69696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part of field that is attended  to said to be is apperceived (selectively attended)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145160" indent="-69696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reative synthesi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36840" indent="-69696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lements which are attended to can be arranged and rearranged as the person wills, thus arrangements not experienced before they can be produced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6715080" y="2362320"/>
            <a:ext cx="227664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  WUNDT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E. Volunteerism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Volunteeris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ental chronometr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undt used a method developed by Donders (1818-1889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2070000" indent="-81252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Donders was the one of the founders of the science of ophthalmology (with  Helmholtz)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2070000" indent="-81252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o measure differences in reaction time to different mental activities required by experimental situation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oday, mental chronometry is one of the most common tools used for making inferences about learning, memory, and attentio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6705720" y="685800"/>
            <a:ext cx="2276280" cy="28195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6705720" y="365760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  WUNDT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E. Volunteerism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788400" indent="-7884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Volunteeris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76120" indent="-7884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ental vs. Psychic Causalit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4200" indent="-78804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Physical causality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reated as a polar opposite to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Psychological causalit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964880" indent="-6897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Physical causality is a reality because events could be predicted on the basis of antecedent condition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964880" indent="-6897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Psychological causality was not possibl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4200" indent="-78804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lthough willed, selective attention and creative synthesis  is not physically caused by antecedent conditions which can be know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6705720" y="2362320"/>
            <a:ext cx="227628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  WUNDT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E. Volunteerism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796320" indent="-79632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Volunteeris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88360" indent="-7963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Volkerpsychogie or Cultural Psycholog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36840" indent="-6969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igher mental processes could not be studied experimentall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985040" indent="-6969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hey were reflected in human culture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536840" indent="-6969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igher mental processes could be inferred from the study of such cultural products as religion, social customs, myths, history, language, morals, art, and the law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985040" indent="-6969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wenty year study of these things culminated in his 10-volume work “Cultural Psychology.”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6715080" y="2362320"/>
            <a:ext cx="227664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  WUNDT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. Issues, Consequences and Significance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Wundt rejected materialis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greed with Muller’s vitalism and rejected Helmholtz’s materialism with regard to the mind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nsciousness …cannot be possibly be derived from any physical qualities of material molecules or atoms”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ut he also was a determinist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cknowledge that the process underlying volitions may not be known or knowable but they are controlled by law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6715080" y="2362320"/>
            <a:ext cx="227664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Introduct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We will be discussing the founding of Psychology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undt’s laboratory in Leipzig (1879)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is theory of Volunteerism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itchner’s laboratory in Cornell (1892)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is theory of Structuralism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e will consider other contemporaneous psychological ideas including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henomenologis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Otto Kulp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Vaihing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bbinghou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  WUNDT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.  Issues, Consequences and Significance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isrepresentation of Wund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undt has been portrayed in texts inaccuratel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is a rationalist and accepts mental holism (can not identify element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owever he is presented as an empiricist-positivist whose psychology is based on fundamental element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ay be due in part to students of Wundt’s who misrepresented or misinterpreted him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6715080" y="2362320"/>
            <a:ext cx="227664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  TITCHNE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 Issues, Consequences and Significance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Edward Titchener (1867-1927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itchener was English and a student of Wundt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 becoming a professor of psychology and founded a psychology laboratory in the United States at Cornell Universit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 founded the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 Experimentalists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n alternative group to the APA which was by invitation onl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Known for Structuralism, which was distinct from Volunteeris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6858000" y="2133720"/>
            <a:ext cx="2133720" cy="315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  TITCHNE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 Structuralism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itchener’s structuralism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tructuralism seeks to understand phenomena as a complex system of interrelated part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itchener’s structuralism is consistent with this difinition.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is structuralism addressed the elements and relations of consciousnes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is is different than Wundt’s holism and rationalism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6858000" y="2133720"/>
            <a:ext cx="2133720" cy="315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  TITCHNE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 Structuralism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796320" indent="-79632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itchener’s structuralism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88360" indent="-7963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sychology should addresses the what, how, &amp; why of mental lif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80400" indent="-7959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What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s learned by introspection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2028600" indent="-7959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Cataloging basic mental elements that make up conscious experience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580400" indent="-7959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How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addresses the way that the elements combined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80400" indent="-7959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Why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involves neurological correlates of mental event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2028600" indent="-7959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He only sought to describe mental experience or the structure of the min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580400" indent="-7959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Giving rise to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Structuralis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6858000" y="2133720"/>
            <a:ext cx="2133720" cy="315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  TITCHNE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 Introspect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2485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itchener’s introspecti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ore complicated and required more of the subject than Wundt’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ntrospection in Titchener’s laboratory required subjects to describe the basic, raw, elemental experiences which form complex cognitive experience.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 wanted subjects to report on sensations, not perception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If in the report the subject responded with the name of the object rather than the elemental aspects of the stimulus, the subject committed a 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stimulus error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6858000" y="2133720"/>
            <a:ext cx="2133720" cy="315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  TITCHNE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  Conclusion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onclusions regarding consciousness (the mind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ree elements of min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Sensation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(elements of perception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Image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(elements of ideas) and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Affection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(elements of emotions)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elements could be known only by their attribute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re are 5 attributes of sensations and imag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five include quality, intensity, duration, clearness, and extensity (not content)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6858000" y="2133720"/>
            <a:ext cx="2133720" cy="315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  TITCHNE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  Conclusion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2485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onclusions regarding consciousness (the mind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ffections (emotions) could have the attributes of only quality, intensity, and duratio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itchener did not agree with Wundt’s tridimensional theory of emo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motions were described in terms of one dimension: pleasantness – unpleasantnes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motional can occur with sensational elements to create unique patterns of experienc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6858000" y="2133720"/>
            <a:ext cx="2133720" cy="315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  TITCHNE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  Conclusion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2485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804600" indent="-80460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onclusions regarding consciousness (the mind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00600" indent="-8046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aw of Contiguit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52680" indent="-704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lements combine by the British Empiricists’ laws of contiguity (association), rejecting Wundt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200600" indent="-8046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sychological Processes and Continuity of Mental Even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52680" indent="-704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hysiological processes give psychological processes a continuity they otherwise would not have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52680" indent="-704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Nervous system used to explain characteristics of mind (not a cause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6858000" y="2133720"/>
            <a:ext cx="2133720" cy="315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  TITCHNE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  Conclusion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2485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onclusions regarding consciousness (the mind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context theory of mean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hat gives meaning (content) to sensations is called the context theory of meanin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hat gives sensations and events meaning is the images and events with which the sensation has been associated contiguously in the past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se associations form a core or a context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6858000" y="2133720"/>
            <a:ext cx="2133720" cy="315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  TITCHNE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  Conclusion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2485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itchener and Wund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ike Wundt, Titchener did not appear to be a materialist about min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extbook proposes that Titchener’s mind-body positions include double aspectism and epiphenomenalis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is reflects a disinterest in the question, as it required specula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Unlike Wundt, Titchener rejected  volitional consciousnes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mbraced associationism and rejected rational process of attention and creative synthesi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lso embraced positivism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6858000" y="2133720"/>
            <a:ext cx="2133720" cy="315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  WUNDT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Introduct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Wilhelm Wundt (1832 - 1920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German medical doctor, physiologist, psychologist, and professo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studied briefly with Müller, before becoming an assistant to Hermann von Helmholtz in 1858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reated first Psychology lab (1879)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2025720" indent="-7113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tudied basic and higher-ordered thinking and applied issues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lso formed the first journal for psychological research (1881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2025720" indent="-711360"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sychological studi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6781680" y="2362320"/>
            <a:ext cx="2210040" cy="2735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  TITCHNE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E.  Decline of Structuralism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2485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Decline of Structuralis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tructuralism declined quickly after Titchner’s death.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eople began to question the use of introspection as a viable method in research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evelopment of the study of animal behavi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lack of interest in practical implications on the part of structuralist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development of behaviorism and objective methods of research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6858000" y="2133720"/>
            <a:ext cx="2133720" cy="315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  OTHER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 Phenomenologis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2485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henomenology was another German movement. 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ranz Clemens Brentano (1838-1917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important aspect of the mind was not what was in it but what it di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47880" indent="-53352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Mental processes are aimed at performing some function (Act Psychology)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847880" indent="-53352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All mental acts incorporate something outside of itself (which he called intentionality)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847880" indent="-53352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He employed phenomenological introspection – introspective analysis of intact, meaningful experience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6" name="Picture 5" descr="200px-Franz_Brentan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2590920"/>
            <a:ext cx="2286000" cy="3279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  OTHER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 Phenomenologis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019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henomenolog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arl Stumpf (1848 – 1936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Like Brentano, Stumpf argued for study of intact, meaningful experiences, phenomenolog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nfluenced the development of Gestalt psycholog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47880" indent="-53352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he three “founders” of Gestalt psychology studied with Stumpf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tumpf and a student Oskar Phungst helped investigate the Clever Hans phenomenon.</a:t>
            </a: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6629400" y="220968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  OTHER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 Phenomenologis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804600" indent="-80460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henomenolog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00600" indent="-8046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dmund Husserl (1859-1938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96600" indent="-80424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rgued that there are two types of introspec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48240" indent="-49032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One focuses on the intentionality described by Brentano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848240" indent="-49032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econd focuses on subjective experience which include mental essences (pure phenomenology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596600" indent="-804240">
              <a:spcBef>
                <a:spcPts val="4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His goal was to create a taxonomy of the mind based on the mental essences by which humans experience themselve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596600" indent="-804240">
              <a:spcBef>
                <a:spcPts val="4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Examined sensory content (meanings and essences) not elements (intensity, duration etc.)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6477120" y="2209680"/>
            <a:ext cx="2517480" cy="3305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  OTHER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  Oswald Külpe and the Wutzburg School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7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Oswald Külpe (1862- 1915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Külpe (and the Wutzburg School) challenged Wundt,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oposed imageless thought and that the higher mental processes could be studied experimentally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47880" indent="-5335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Method called systematic experimental introspection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847880" indent="-5335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Now called </a:t>
            </a:r>
            <a:r>
              <a:rPr b="0" i="1" lang="en-US" sz="2000" spc="-1" strike="noStrike">
                <a:solidFill>
                  <a:srgbClr val="40458c"/>
                </a:solidFill>
                <a:latin typeface="Times New Roman"/>
              </a:rPr>
              <a:t>Verbal Report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instellung (or mental set) causes one to behave in a ways unaware that they are doing so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47880" indent="-5335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he mental set can be induced by instruction or by past experience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847880" indent="-5335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upports Wundt but not Titchener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5" name="Picture 1" descr=""/>
          <p:cNvPicPr/>
          <p:nvPr/>
        </p:nvPicPr>
        <p:blipFill>
          <a:blip r:embed="rId1"/>
          <a:stretch/>
        </p:blipFill>
        <p:spPr>
          <a:xfrm>
            <a:off x="6934320" y="2286000"/>
            <a:ext cx="2209680" cy="3000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  OTHER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Hans Vaihinger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Hans Vaihinger (1852-1933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roposed that societal living requires that we give meaning to our sensations, and we do that by inventing terms, concepts, and theories and then acting “as if” they were tru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ictional thinking is part of all other reasoning about the world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nnected to James’ Pragmatism, Adler’s Psychodynamic theory, and Kelley’s Personal  Construct theor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8" name="Picture 8" descr="http://upload.wikimedia.org/wikipedia/en/8/80/Vaihinger.jpg"/>
          <p:cNvPicPr/>
          <p:nvPr/>
        </p:nvPicPr>
        <p:blipFill>
          <a:blip r:embed="rId1"/>
          <a:stretch/>
        </p:blipFill>
        <p:spPr>
          <a:xfrm>
            <a:off x="6553080" y="2362320"/>
            <a:ext cx="238140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  OTHER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 Hermann Ebbinghaus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Hermann Ebbinghaus (1850-1909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esearched learning and memory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irst time learning and memory studied as they occurred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28800" indent="-457200"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</a:rPr>
              <a:t>It illustrated that these processes could be studied experimentally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any of his findings are still cited today and most of the major conclusions reached are still valid toda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1" name="Picture 8" descr="http://upload.wikimedia.org/wikipedia/en/8/80/Vaihinger.jpg"/>
          <p:cNvPicPr/>
          <p:nvPr/>
        </p:nvPicPr>
        <p:blipFill>
          <a:blip r:embed="rId1"/>
          <a:stretch/>
        </p:blipFill>
        <p:spPr>
          <a:xfrm>
            <a:off x="6629400" y="2286000"/>
            <a:ext cx="2381400" cy="2819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  OTHER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 Hermann Ebbinghaus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Hermann Ebbinghau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etho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developed nonsense syllables to use as stimuli in his research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28800" indent="-45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Controlled for meaningfulness of the stimuli used in memory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828800" indent="-45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he subject is to learn (memorize) a series of syllables by looking at them sequentially until mastery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n after various time intervals they were to relearn the same list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28800" indent="-45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he difference in number of exposures to relearn the list in comparison to the number of exposure to mastery at the initial exposure was called saving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4" name="Picture 8" descr="http://upload.wikimedia.org/wikipedia/en/8/80/Vaihinger.jpg"/>
          <p:cNvPicPr/>
          <p:nvPr/>
        </p:nvPicPr>
        <p:blipFill>
          <a:blip r:embed="rId1"/>
          <a:stretch/>
        </p:blipFill>
        <p:spPr>
          <a:xfrm>
            <a:off x="6629400" y="2286000"/>
            <a:ext cx="2381400" cy="2819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  OTHER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 Hermann Ebbinghaus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Hermann Ebbinghau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ore rapid forgetting during the first hours following learning and slower thereafte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Overlearning (continuing to study past mastery) decreased the rate of forgetting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istributed practice was more effective than massed practi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7" name="Picture 8" descr="http://upload.wikimedia.org/wikipedia/en/8/80/Vaihinger.jpg"/>
          <p:cNvPicPr/>
          <p:nvPr/>
        </p:nvPicPr>
        <p:blipFill>
          <a:blip r:embed="rId1"/>
          <a:stretch/>
        </p:blipFill>
        <p:spPr>
          <a:xfrm>
            <a:off x="6629400" y="2286000"/>
            <a:ext cx="2381400" cy="2819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  WUNDT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 Studen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Wilhelm Wundt (1832 - 1920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undt's students include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Oswald Külpe (a professor at the University of Würzburg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James McKeen Cattell (the first professor of psychology in the U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G. Stanley Hall (the father of the child and adolescent psychology movement, President of Clark University and APA founder),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harles Hubbard Judd (Director of University of Chicago’s School of Education at the, home to Dewey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6781680" y="2362320"/>
            <a:ext cx="2210040" cy="2735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  WUNDT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Studen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Wilhelm Wundt (1832 - 1920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undt's students include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ugo Münsterberg (contributed to the development of industrial psychology and taught at Harvard University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dward Bradford Titchener (founded the first psychology laboratory in the United States at Cornell University),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Lightner Witmer (founder of the first psychological clinic in the US and coined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Clinical Psychology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6781680" y="2362320"/>
            <a:ext cx="2210040" cy="2735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  WUNDT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Studen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Wilhelm Wundt (1832 - 1920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undt's students include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harles Spearman (who developed the two-factor theory of intelligence and several important statistical analyse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nstantin Rădulescu-Motru (Personalist philosopher and head of the Philosophy department at the University of Bucharest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6781680" y="2362320"/>
            <a:ext cx="2210040" cy="2735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  WUNDT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The Lab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562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Wundt’s lab was heralded by J.M. Cattell in 1888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laboratory was 4 rooms but expanding to 6 room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n international collection of 20 researchers worked in groups of at least two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2025720" indent="-7113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wo researchers needed with the one acting as subject, the other taking charge of the apparatus and registering the results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researcher would published the study in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Psychological Studie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6248520" y="2743200"/>
            <a:ext cx="2749320" cy="2514600"/>
            <a:chOff x="6248520" y="2743200"/>
            <a:chExt cx="2749320" cy="2514600"/>
          </a:xfrm>
        </p:grpSpPr>
        <p:pic>
          <p:nvPicPr>
            <p:cNvPr id="173" name="Picture 2" descr=""/>
            <p:cNvPicPr/>
            <p:nvPr/>
          </p:nvPicPr>
          <p:blipFill>
            <a:blip r:embed="rId1"/>
            <a:stretch/>
          </p:blipFill>
          <p:spPr>
            <a:xfrm>
              <a:off x="6248520" y="4408200"/>
              <a:ext cx="2749320" cy="84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3" descr=""/>
            <p:cNvPicPr/>
            <p:nvPr/>
          </p:nvPicPr>
          <p:blipFill>
            <a:blip r:embed="rId2"/>
            <a:stretch/>
          </p:blipFill>
          <p:spPr>
            <a:xfrm>
              <a:off x="6255720" y="3572280"/>
              <a:ext cx="2742120" cy="88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4" descr=""/>
            <p:cNvPicPr/>
            <p:nvPr/>
          </p:nvPicPr>
          <p:blipFill>
            <a:blip r:embed="rId3"/>
            <a:stretch/>
          </p:blipFill>
          <p:spPr>
            <a:xfrm>
              <a:off x="6255720" y="2743200"/>
              <a:ext cx="2742120" cy="886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  WUNDT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The Lab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56386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ethodology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undt’s primarily method was introspecti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undt’s introspection used laboratory instruments to present stimuli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subject was to respond with a simple response such as saying “yes” or “no”, pressing a ke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se responses were made without any description of internal event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6248520" y="2743200"/>
            <a:ext cx="2749320" cy="2514600"/>
            <a:chOff x="6248520" y="2743200"/>
            <a:chExt cx="2749320" cy="2514600"/>
          </a:xfrm>
        </p:grpSpPr>
        <p:pic>
          <p:nvPicPr>
            <p:cNvPr id="179" name="Picture 2" descr=""/>
            <p:cNvPicPr/>
            <p:nvPr/>
          </p:nvPicPr>
          <p:blipFill>
            <a:blip r:embed="rId1"/>
            <a:stretch/>
          </p:blipFill>
          <p:spPr>
            <a:xfrm>
              <a:off x="6248520" y="4408200"/>
              <a:ext cx="2749320" cy="84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3" descr=""/>
            <p:cNvPicPr/>
            <p:nvPr/>
          </p:nvPicPr>
          <p:blipFill>
            <a:blip r:embed="rId2"/>
            <a:stretch/>
          </p:blipFill>
          <p:spPr>
            <a:xfrm>
              <a:off x="6255720" y="3572280"/>
              <a:ext cx="2742120" cy="88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4" descr=""/>
            <p:cNvPicPr/>
            <p:nvPr/>
          </p:nvPicPr>
          <p:blipFill>
            <a:blip r:embed="rId3"/>
            <a:stretch/>
          </p:blipFill>
          <p:spPr>
            <a:xfrm>
              <a:off x="6255720" y="2743200"/>
              <a:ext cx="2742120" cy="886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  WUNDT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The Lab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5715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ultiple research directions in 1888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sychophysics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easurement of sensa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sychometry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uration of mental process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ime-sens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ime-relations of perceptions estimation of intervals of tim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ssociation of idea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time it takes for one idea to suggest anoth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84" name="Group 6"/>
          <p:cNvGrpSpPr/>
          <p:nvPr/>
        </p:nvGrpSpPr>
        <p:grpSpPr>
          <a:xfrm>
            <a:off x="6248520" y="2743200"/>
            <a:ext cx="2749320" cy="2514600"/>
            <a:chOff x="6248520" y="2743200"/>
            <a:chExt cx="2749320" cy="2514600"/>
          </a:xfrm>
        </p:grpSpPr>
        <p:pic>
          <p:nvPicPr>
            <p:cNvPr id="185" name="Picture 2" descr=""/>
            <p:cNvPicPr/>
            <p:nvPr/>
          </p:nvPicPr>
          <p:blipFill>
            <a:blip r:embed="rId1"/>
            <a:stretch/>
          </p:blipFill>
          <p:spPr>
            <a:xfrm>
              <a:off x="6248520" y="4408200"/>
              <a:ext cx="2749320" cy="84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3" descr=""/>
            <p:cNvPicPr/>
            <p:nvPr/>
          </p:nvPicPr>
          <p:blipFill>
            <a:blip r:embed="rId2"/>
            <a:stretch/>
          </p:blipFill>
          <p:spPr>
            <a:xfrm>
              <a:off x="6255720" y="3572280"/>
              <a:ext cx="2742120" cy="88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4" descr=""/>
            <p:cNvPicPr/>
            <p:nvPr/>
          </p:nvPicPr>
          <p:blipFill>
            <a:blip r:embed="rId3"/>
            <a:stretch/>
          </p:blipFill>
          <p:spPr>
            <a:xfrm>
              <a:off x="6255720" y="2743200"/>
              <a:ext cx="2742120" cy="886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16:44:57Z</dcterms:created>
  <dc:creator>Eric Amsel</dc:creator>
  <dc:description/>
  <dc:language>en-US</dc:language>
  <cp:lastModifiedBy>Eric Amsel</cp:lastModifiedBy>
  <cp:lastPrinted>2001-05-25T15:02:50Z</cp:lastPrinted>
  <dcterms:modified xsi:type="dcterms:W3CDTF">2011-09-28T16:57:53Z</dcterms:modified>
  <cp:revision>323</cp:revision>
  <dc:subject/>
  <dc:title>Issues and Theories</dc:title>
</cp:coreProperties>
</file>