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60360" y="721800"/>
            <a:ext cx="4795920" cy="359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37CD-440C-4819-B4A2-AA16A43DC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8289-00F0-481F-A185-346303EEB98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A212-6A21-42F1-A7F4-C8DFE208B82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CC5B-0E03-448C-9541-5C7BA9784ED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61A1-059C-4057-89F6-741B215E9B8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8FF5-275E-4A10-8388-5CDA3D97109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1242-A15A-4988-A011-B5117C34A9C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FBA3-5AE3-482C-B82E-EC42189399C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F6FE-BB7B-4C7A-BC42-70B8FD87828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A5EC-74C6-49E3-BB5F-A64DD4DE1F6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1A21-7439-4A08-9388-637A1792091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4824-2126-4407-9B05-97CB602463A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77BF-FE28-4A98-9675-D58AA8D1E18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9264-7B47-4633-8A42-4F1C0544670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7F25-D46B-48AC-A2CC-9D43F653C18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E8CE-0055-4BAC-BC1F-F4FDE00BE02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101C-D37D-4B64-84D2-E317480C098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DBB0-417D-4BEC-A3C4-6683D00670B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C92B-E75B-4DF3-B1CB-484094C87C9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E8C2-D938-4121-9305-F3B7F6A8A9F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35AD-D102-4343-AC6E-79A7BA6DDA2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91B4-B030-4102-8789-E54D60260AB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E9E4-52C8-431B-BFB8-7242A95E6D9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649B-3921-436C-8005-B760B46D222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980C-FF42-4B5C-9638-72A39921E4E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0235-F971-411E-ACAD-AE7616197BE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2E50-7A8C-465A-820B-202AD74BAEF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0E7F-6D73-468A-B17C-1CCEA0D0CD8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C1AC-8AB8-4619-911B-37FF44A7E4D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A536-EAC2-4225-AF79-DD38B4FC172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2142-2725-44C0-A1A7-9F607FBAE8A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D8F1-364D-42F9-9060-EC1E171F12D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9A85-D9DC-45C5-8042-17DCDF3B8CC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C037-D4B0-4ED1-87E3-52ED4D549A3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BD42-79AD-4202-824B-3D54CAA19E9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EDC1-23A4-4D2D-9667-9CA765374DD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5333-6A83-4058-82F7-EC0F743E9BA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781C-A6FE-440B-B9BC-F7981376451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D702-2E6D-4942-95AF-BD8307E8B62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7F90-E9AD-4E33-B32E-A764BAB7205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C313-0CFD-4F52-893C-7E517604B9B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472E-28FA-4154-B522-1F205C2EEE6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F2810-4873-4642-8A1D-B6947E04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5EC44-8644-429B-BA2C-C5797A8B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41F4B-7A0A-4897-8533-1FD943F3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8CD30-92B7-41EC-B162-C4C9933B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93463-DB84-4900-8636-12A41860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441ED-452C-49F6-9960-18136242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DF240-3479-41A5-883C-123ED2D4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C2EEE-17DC-46E8-B443-FBB956C3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78D91-09AA-4482-BCC3-BC663075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37805-E31C-46A2-BE1A-68C1E061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256D7-694D-4009-B7E3-55181E09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BE28A-D13C-4FF4-B8D1-67A596F8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</a:path>
                  <a:path stroke="0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</a:path>
                  <a:path stroke="0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  <a:lnTo>
                      <a:pt x="21598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C852-774A-45A7-9839-2CFCF207745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Lecture 12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The Rise and Fall of Behaviorism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ussian Physiology of Reflex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van Petrovitch Pavlov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r details of Classical Conditioning, see the textboo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applied objective physiological measures to study the association between stimulus and respon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xplained how reflexes can be modified by environmental association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ven explained neurosi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Experimental  neurosis occurs when excitatory and inhibitory conditioned tendencies are brought into conflict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7010280" y="2286000"/>
            <a:ext cx="1981440" cy="2801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ussian Physiology of Reflex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van Petrovitch Pavlov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avlov’s Signal System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irst-signal system or “the first signals of reality.”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79560" indent="-5079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timuli (conditioned stimuli) that come to signal biologically significant event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cond-signal system or “signals of signals”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79560" indent="-5079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umans learn to respond to symbols of physical events (use of language, words are symbols referring to events).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ow opinion of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ut big influence on the discipline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7010280" y="2286000"/>
            <a:ext cx="1981440" cy="2801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ussian Physiology of Reflex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van Petrovitch Pavlov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avlov’s Signal System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irst-signal system or “the first signals of reality.”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79560" indent="-5079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timuli (conditioned stimuli) that come to signal biologically significant event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cond-signal system or “signals of signals”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79560" indent="-5079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umans learn to respond to symbols of physical events (use of language, words are symbols referring to events).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ow opinion of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ut big influence on the discipline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7010280" y="2286000"/>
            <a:ext cx="1981440" cy="2801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ussian Physiology of Reflex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ladimir Mikhailovich Bekhterev (1857–1927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urophysiologist who noted the role of the hippocampus in memory around 1900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founded the field of psycho-reflex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An objective study of relations between environmental influences and overt behavior. In huma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ritical of Pavlov's work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e transformed and applied it from dog secretions to human behavior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7" name="Picture 5" descr="bekhterev"/>
          <p:cNvPicPr/>
          <p:nvPr/>
        </p:nvPicPr>
        <p:blipFill>
          <a:blip r:embed="rId1"/>
          <a:stretch/>
        </p:blipFill>
        <p:spPr>
          <a:xfrm>
            <a:off x="6543720" y="2438280"/>
            <a:ext cx="251460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Wats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Broadus Watson (1878–1958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under and promoter of behavior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bjective methodology applicable to humans and anima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hysiological ba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ritical paper was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Psychology as the Behaviorist Views It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(1913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olemical t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mphasis on applic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0" name="Picture 4" descr="watsolg"/>
          <p:cNvPicPr/>
          <p:nvPr/>
        </p:nvPicPr>
        <p:blipFill>
          <a:blip r:embed="rId1"/>
          <a:stretch/>
        </p:blipFill>
        <p:spPr>
          <a:xfrm>
            <a:off x="6705720" y="2286000"/>
            <a:ext cx="2276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Wats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Broadus Wat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art at Chicago with Dewe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t Harvard he worked with James Angell and Jacques Loeb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hows that the behavior of simple organisms could be explained as being automatically elicited by stimul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fluenced by his early research with rats running in maze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Early research running rats in mazes helped him formulate some of his later ideas regarding a purely objective science of psychology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3" name="Picture 4" descr="watsolg"/>
          <p:cNvPicPr/>
          <p:nvPr/>
        </p:nvPicPr>
        <p:blipFill>
          <a:blip r:embed="rId1"/>
          <a:stretch/>
        </p:blipFill>
        <p:spPr>
          <a:xfrm>
            <a:off x="6705720" y="2286000"/>
            <a:ext cx="2276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Wats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Broadus Wat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1908 announces behaviorist views and 1913 publishes the so-called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Behaviorist Manifest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logy is a purely objective experimental branch of natural scien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 theoretical goal is the prediction and control of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trospection forms no essential part of its metho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behaviorist, in his efforts to get a unitary scheme of animal response, recognizes no dividing line between man and bru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6" name="Picture 4" descr="watsolg"/>
          <p:cNvPicPr/>
          <p:nvPr/>
        </p:nvPicPr>
        <p:blipFill>
          <a:blip r:embed="rId1"/>
          <a:stretch/>
        </p:blipFill>
        <p:spPr>
          <a:xfrm>
            <a:off x="6705720" y="2286000"/>
            <a:ext cx="2276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Wats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744840" indent="-6894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Broadus Wat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33280" indent="-6897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ur types of behavio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xplicit (overt) learned behavi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4880" indent="-6897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alking, writing,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mplicit (covert) learned behavi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4880" indent="-6897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ncreased heart rate caused by a feared stimulu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xplicit unlearned behavi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4880" indent="-6897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grasping, blinking, sneezing,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mplicit learned behavi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4880" indent="-6897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glandular secretio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33280" indent="-6897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ll behavior, including thinking, falls into one of the catego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9" name="Picture 4" descr="watsolg"/>
          <p:cNvPicPr/>
          <p:nvPr/>
        </p:nvPicPr>
        <p:blipFill>
          <a:blip r:embed="rId1"/>
          <a:stretch/>
        </p:blipFill>
        <p:spPr>
          <a:xfrm>
            <a:off x="6705720" y="2286000"/>
            <a:ext cx="2276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Wats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Broadus Wat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ur methods of researc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bservation, naturalistic or controll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ditioned-reflex method, proposed by Pavlov and Bechtere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esting, meant taking samples of behavior and not measurement of “capacity” or “personality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Verbal reports, which were treated as any other type of overt behavior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2" name="Picture 4" descr="watsolg"/>
          <p:cNvPicPr/>
          <p:nvPr/>
        </p:nvPicPr>
        <p:blipFill>
          <a:blip r:embed="rId1"/>
          <a:stretch/>
        </p:blipFill>
        <p:spPr>
          <a:xfrm>
            <a:off x="6705720" y="2286000"/>
            <a:ext cx="2276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Wats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Broadus Wat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nguage &amp; thinking as behavi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eech overt behavior, while thinking was sub-vocal speech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re were a few simple reflex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No complex innate behavior; only experience impacts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umans inherit basic reflexes and emotions of fear, rage, and lov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se Emotions elicited by stimuli and others are derived from the 3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29160" indent="-5281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ittle Albert and emotional condition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5" name="Picture 4" descr="watsolg"/>
          <p:cNvPicPr/>
          <p:nvPr/>
        </p:nvPicPr>
        <p:blipFill>
          <a:blip r:embed="rId1"/>
          <a:stretch/>
        </p:blipFill>
        <p:spPr>
          <a:xfrm>
            <a:off x="6705720" y="2286000"/>
            <a:ext cx="2276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Rise and Fall of Behaviorism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t started off slowly in 1910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atson’s 1913 manifesto,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sychology as the Behaviorist Views It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, claimed that introspective psychology was unscientific because it did not deal with objective stat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re is a complete rejectionof mentalism byWatson in the 1910s and Skinner in the 1940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y the 1940s and 1950s, behaviorism reigned supreme in American experimental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re was an emphasis on learning and experience over inheritance of traits in every sphere of applied and theoretical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Wats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52760" indent="-696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Broadus Wat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89280" indent="-597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posed that children should be raised in an objective mann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2600" indent="-5227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ittle displays of affection; treated as adults; receive sex educa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89280" indent="-597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ntiguity and Frequenc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2600" indent="-5227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vents associated in time, which produces conditioning of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89280" indent="-597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dopted physical monism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2600" indent="-5227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witched to a physical monism mind-body position, rejecting mental events (consciousness) altogethe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Picture 4" descr="watsolg"/>
          <p:cNvPicPr/>
          <p:nvPr/>
        </p:nvPicPr>
        <p:blipFill>
          <a:blip r:embed="rId1"/>
          <a:stretch/>
        </p:blipFill>
        <p:spPr>
          <a:xfrm>
            <a:off x="6705720" y="2286000"/>
            <a:ext cx="2276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Wats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Broadus Wat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atson’s Behaviorism had two long-lasting effec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logy’s main goal changed from description and explanation of states of consciousness to the prediction and control of behavio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vert behavior was the almost-exclusive subject matter of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1" name="Picture 4" descr="watsolg"/>
          <p:cNvPicPr/>
          <p:nvPr/>
        </p:nvPicPr>
        <p:blipFill>
          <a:blip r:embed="rId1"/>
          <a:stretch/>
        </p:blipFill>
        <p:spPr>
          <a:xfrm>
            <a:off x="6705720" y="2286000"/>
            <a:ext cx="2276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McDouga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liam McDougall (1871 – 1938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wrote a number of highly influential textbook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as particularly important in the development of the theory of instinct and of social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ritiqued Watson’s behaviorism for its lack of instinct and purpos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work was very well known and respected among lay peopl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6858000" y="2362320"/>
            <a:ext cx="21430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McDouga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liam McDougal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fined psychology as the science of behavi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ental events valued and could be studied objectively by observing their influence on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havior is goal-directed and stimulated by instinctual motiv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inimized environmental events and emphasized purposive nature of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6858000" y="2362320"/>
            <a:ext cx="21430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McDouga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liam McDougal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lieved that all behavior is stimulated by instinctual ener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stincts provides motivation to act in certain way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ingle event or thought tends to elicit several instinctual tendenc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ssociating multiple instincts with a single object or thought creates a senti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st human social behavior is governed by sentimen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858000" y="2362320"/>
            <a:ext cx="21430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McDouga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cDougall vs. Wat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 Instinc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atson denied humans instincts whereas for McDougall they motivated of all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 Reinforcem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atson rejected reinforcement in learning whereas for McDougall reinforcement was a process of need reduction central to learn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 Deba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cDougall is seen as the narrow victor.over Watrson in debat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6858000" y="2362320"/>
            <a:ext cx="21430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haracteristics of Neobehavio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23920" indent="-609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ere radical empiricis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l theoretical terms must b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operationally defined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as demanded by Logical Positivists of the Vienna Circle (philosophers committed to eliminating metaphysics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23920" indent="-6094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onhuman animals should be used as research participants for two reasons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levant variables are easier to control in animals than when using human subject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erceptual and learning processes in animals differ only in degree from those processes in human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formation gained from research with nonhuman animals can be generalized to human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haracteristics of Neobehavio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23920" indent="-6094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earning processes are of prime importance because learning is the primary mechanism by which organisms adjust to a changing environment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23920" indent="-6094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spite agreeing on a few important issues, there were major differences among the neo-behaviorist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olm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Hu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Gutheri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kinn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 E. C. Tolma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dward Chance Tolman (1886 - 1959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merican psychologist best known for his studies of learning in rats using maz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major theoretical contributions came in his 1932 book,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urposive Behavior in Animals and M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sychological Review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papers included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The determinants of behavior at a choice point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1938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Cognitive maps in rats and men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(1948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Principles of performance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1955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7139160" y="2514600"/>
            <a:ext cx="20048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 E. C. Tolma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dward Chance Tolma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urposive and molar behavi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udied purposive (molar) behavior in contrast to the molecular behavior that he saw Watson studying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ats used to avoid introspecti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ats guarded against even indirect introspection that could occur if humans were experimental participant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gnitive intervening variabl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o Tolman, cognitive processes (hypotheses, expectations, beliefs, and sometimes cognitive maps) intervene between stimuli and response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139160" y="2514600"/>
            <a:ext cx="20048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Rise and Fall of Behaviorism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y 1965, the tide began to tur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re was the “cognitive revolution" and “humanistic psychology” which embraced the very mentalism which Behaviorism  sought to reject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hy behaviorism declined is complicate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haviorism was demonstrated to be overly simplistic and inadequate philosophically and empiricall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haviorism no longer theoretically dominan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ut Behavior Modification, Applied Behavior Analysis, and Cognitive Behavioral Therapy remain viable approaches in applied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 E. C. Tolma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5530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dward Chance Tolma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earning can occur without reinforcement or motiv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istinguished  learning &amp; performa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earning takes place constantly as the organism interacts with its environment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Whether the organism uses what it has learned is determined by its motivational sta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4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erformance is translation of learning into behavior</a:t>
            </a: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atent Learning:  Tolman &amp; Honzik, (1930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atent Extinction:  In extinction, an animal’s expectation is modified by a lack of contingency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7139160" y="2514600"/>
            <a:ext cx="20048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 Clark L. Hu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ark Leonard Hull (1984 - 195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merican who explained motivation and learning by scientific law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most significant works were th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Mathematico-Deductive Theory of Rote Learning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(1940), and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rinciples of Behavior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(1943), established his formal analysis of learning and conditioning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del is couched in biological terms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rganisms suffer deprivation. Deprivation creates needs. Needs activate drives. Drives activate behavior. Behavior is goal directed. Achieving goals have survival valu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315200" y="2743200"/>
            <a:ext cx="169560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 Clark L. Hu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ark Leonard Hull (1984 - 195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ull’s hypothetico-deductive theory of lear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6640" indent="-528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sed intervening variables as Tolman, but used them more extensivel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6640" indent="-528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rom summarizing the research on learning, he formed postulates from which he inferred theorems that yielded testable proposition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10440" indent="-452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ull’s intervening variables were primarily physiological, in contrast to the cognitive variables of Tolman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10440" indent="-452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is final theory had 17 postulates and 133 theorem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315200" y="2743200"/>
            <a:ext cx="169560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 Clark L. Hu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ark Leonard Hull (1984 - 195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inforcement: Drive-reduction theory of reinforcemen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 biological need creates a drive and the decrease of drive constitutes reinforce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abit strength: An increase in habit strength constitutes learnin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number of reinforced pairings between an environmental situation and a respons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action potential: Probability a learned response will occu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unction of amount of drive and habit strength and other intervening variab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7315200" y="2743200"/>
            <a:ext cx="169560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 Clark L. Hu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ark Leonard Hull (1984 - 195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all’s legac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o trace of Hull’s theory in textbooks, yet there is of Tolma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clarity of its predictions generated lots of research on Hull’s theor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searchers devised projects to test the theory’s predictions and validit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ard to call this a failur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oday its legacy is mathematical psychology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7315200" y="2743200"/>
            <a:ext cx="169560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Edwin R. Guthri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dwin R. Guthrie (1984 - 195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merican who played an important role in the development of the contiguity theory of learning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tiguity (how close in time two events must be for a bond to be created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inforcement (any means of increasing the likelihood that an event will be repeated) are central to explaining the learning proces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developed a one-trial, contiguity, non-reinforcement theory of lear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17064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Edwin R. Guthri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dwin R. Guthri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tails of contiguity learning in textbook but some general issue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imuli which accompany a movement will on its recurrence, tend to be followed by that movemen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05200" indent="-7041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Rejected the law of frequency and postulated one-trial learning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istinguished movements and act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05200" indent="-7041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ovement:  A specific response to a stimuli configuration in which an association is learned at full strength after one exposure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2005200" indent="-7041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Act:  Made up of movements and a skill is made up of ac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17064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 B. F. Skinn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rrhus Frederic Skinner (1904 – 1990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merican who discovered the operant conditioning which was the basis of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 approach to psychology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The Experimental Analysis of Behavior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and a philosophy of psychology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Radical Behavioris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kinner was listed as the most influential psychologist of the 20th C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published 21 books and 180 artic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7238880" y="2930400"/>
            <a:ext cx="176220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 B. F. Skinn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52760" indent="-696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rrhus Frederic Skinn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0560" indent="-522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adical Behavior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43880" indent="-4478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cientists were to collect empirical facts and then infer knowledge from the fact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92080" indent="-4478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cience is to be descriptive and inductive rather than theoretical and deductive.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70560" indent="-522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unctional analysis of behavio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43880" indent="-4478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 analysis of the relations between environmental and behavioral event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92080" indent="-4478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nternal events have no place in such an analysis because they are events also and thus need to be explained also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792080" indent="-4478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nternal events cannot serve as explanations or causes of behavior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7238880" y="2930400"/>
            <a:ext cx="176220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 B. F. Skinn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721800" indent="-668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rrhus Frederic Skinn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6840" indent="-6206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perant behavio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2680" indent="-6202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wo types of behavi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54640" indent="-4654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Respondent behavior  is reflexive behavior  in which Watson and Pavlov were interest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754640" indent="-4654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Operant behavior is influenced by its consequences. (Gets around calling it volitional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6840" indent="-6206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perant conditioning occurs as behavior affected by its consequenc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2680" indent="-6202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inforcement  is when a consequence increases the rate/probability of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54640" indent="-4654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 reinforcer can be anything as long as its effect is an increase in behavior probability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7238880" y="2930400"/>
            <a:ext cx="176220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The Context of Behavior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zeitgeist of the time resulted in the developing of behaviorism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bjective psychology was already established in Russia and several functionalists were discussing openly many ideas later emphasized by John Wats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success of animal research also contributed greatly to the development of behavioris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strain resulting from proposals for a strict objective science of psychology but the continued use of introspection created the atmosphere that ultimately led to the “behaviorist revolution.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 B. F. Skinn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52760" indent="-696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rrhus Frederic Skinn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08280" indent="-404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perant conditioning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00680" indent="-404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unishment is when a consequence decreases the rate/probability of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48520" indent="-4046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Reinforcement exerts better control over behavior than punishment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08280" indent="-4042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lection of behavior by consequence is a Darwinian idea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00680" indent="-4046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organism produces a variety of behavio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48520" indent="-4046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ome will result in consequences that will increase the behavior (reinforcing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748520" indent="-4046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se behaviors will be selected as part of the organism’s repertoire while others will no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7238880" y="2930400"/>
            <a:ext cx="176220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 B. F. Skinn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rrhus Frederic Skinn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havior Analy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kinner and other behavior analysts have always sought to apply operant principles to solve practical problem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Applied behavior analysis has provided a behavior technology to change behavior in multitudes of setting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minent area is application of to help people in educational setting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roblems ranging from psychosis, drug addiction, mental retardation/ learning disabilities, speech disorders, shyness, phobias, and juvenile delinquency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7238880" y="2930400"/>
            <a:ext cx="176220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The Context of Behavior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wo sections to the present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rigins of Behaviorism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ussian Physiology of Reflex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merican Foundations: J.B. Wats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ritish Foundation:  MacDougal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eoBehavio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dward Chase Tolma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lark Leonard Hul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dwin R. Guthri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. F. Skinn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ussian Physiology of Reflex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van Mikhailovich Sechenov (1829–1905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henov's major interest was neurophysiology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showed that brain activity is linked to electric currents and was the first to introduce electrophysiolog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cused on the nature and inhibition of spinal reflex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udying the physiology of reflexes was important port of the context of the founding of behavioris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6" name="Picture 4" descr="sechenov"/>
          <p:cNvPicPr/>
          <p:nvPr/>
        </p:nvPicPr>
        <p:blipFill>
          <a:blip r:embed="rId1"/>
          <a:stretch/>
        </p:blipFill>
        <p:spPr>
          <a:xfrm>
            <a:off x="6781680" y="2057400"/>
            <a:ext cx="2198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ussian Physiology of Reflex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van Mikhailovich Sechenov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henov's work laid the foundations for the study of reflexes, animal and human behavior, and neurosc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oughts do not cause behavi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oth internal behavior (mental processes) and external behavior are reflexive in that they are triggered by external stimulatio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ciple of external stimulation also seen in Vyogtsky’s work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9" name="Picture 4" descr="sechenov"/>
          <p:cNvPicPr/>
          <p:nvPr/>
        </p:nvPicPr>
        <p:blipFill>
          <a:blip r:embed="rId1"/>
          <a:stretch/>
        </p:blipFill>
        <p:spPr>
          <a:xfrm>
            <a:off x="6781680" y="2057400"/>
            <a:ext cx="2198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ussian Physiology of Reflex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van Mikhailovich Sechenov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posed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93280" indent="-5972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in purpose of the central nervous system was to inhibit reflexive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93280" indent="-5972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velopment establishes inhibitory control over reflexive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93280" indent="-5972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jected the idea of spontaneous or un-elicited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only valid Psychological approach was the objective methods of physi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2" name="Picture 4" descr="sechenov"/>
          <p:cNvPicPr/>
          <p:nvPr/>
        </p:nvPicPr>
        <p:blipFill>
          <a:blip r:embed="rId1"/>
          <a:stretch/>
        </p:blipFill>
        <p:spPr>
          <a:xfrm>
            <a:off x="6781680" y="2057400"/>
            <a:ext cx="2198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ussian Physiology of Reflex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van Petrovitch Pavlov (1849–1936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on the Nobel Prize in 1904 for his work in physi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uring work on the physiology of the digestive system, he discovered the conditioned reflex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Noted that objects or events associated with presentation of food also produced gastric secretion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Referred to secretions as “conditional” (mistranslated as conditioned) responses because they depended on something els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7010280" y="2286000"/>
            <a:ext cx="1981440" cy="2801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Eric Amsel</dc:creator>
  <dc:description/>
  <dc:language>en-US</dc:language>
  <cp:lastModifiedBy>Eric Amsel</cp:lastModifiedBy>
  <cp:lastPrinted>2001-05-25T15:02:50Z</cp:lastPrinted>
  <dcterms:modified xsi:type="dcterms:W3CDTF">2011-10-13T13:13:57Z</dcterms:modified>
  <cp:revision>610</cp:revision>
  <dc:subject/>
  <dc:title>Issues and Theories</dc:title>
</cp:coreProperties>
</file>