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8944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E44-37AE-4768-9623-B4C22D521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6FE2-499A-430A-B315-E7E0A45BF3D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3A09-19D6-4A3D-912E-48B46226579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EFD-7E8E-4251-B10C-BF1C4CDDC97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F55-F3D8-44D9-A26E-C2855FD5724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B9B-A5EF-47B0-BF1D-B54910AAC31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404D-7494-46A9-A1D2-B37E8264179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DAA-EE0A-43CA-94D3-11B17643C6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7D3-9A2B-4A54-87D1-D18E9348BC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3EE-D7F8-4C93-97E5-02961B39F4A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BDEA-072B-4153-B06C-505F43A5B92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0F5E-435E-4ED2-9499-C4CAB06A19B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A6E2-ED8E-44D9-89E6-8C3CF337810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84EA-7844-4718-9173-58EAC39377F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8A7-16F5-4536-A353-58509E46D5C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D17-8DA5-4648-93E5-C0EEC724CFE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CE6E-3C10-4481-A7AE-3074974C06E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04E-A73C-4254-9A15-8D43EAE1FDE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0EF-0A4C-46AB-A2F9-6A895E25A06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4E1-0C62-4A88-A500-2924BEB6B20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E37E-9BF0-4A03-ADA1-EC65F3E8298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B3A-6C08-4BB7-8718-4221412FA5DA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5DE-1D91-483E-908B-CB2FB08DCAF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0B8-AFAE-4947-A440-48A07159AA5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03D5-0608-4E2A-AC93-284F955C537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980D-02DD-423D-930F-CBF1F334E72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9E03-E2CA-484C-A96E-3F7E7114A55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A72F-5E34-4DCC-B254-494926BF5FC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1C0F-C5A3-41DD-9A95-6B5235968AD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3EE-026D-4983-B3A2-F6606106F31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1B6-9991-4A22-AB39-1419B66FED4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31E-DF41-4F16-B2DC-1190ED26AF3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2E2D-D02A-4A56-B450-29FDCBDB14E0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9366-25B2-43AB-9739-CEF4F1991B2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6C88-AD82-44EE-A976-EE60A51CEB4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EEBD-D153-41AF-A133-2826198FBC5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0E91-5E0B-454D-8517-BBB3EDC97C7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26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93E-4606-4F45-9914-2047490CBBCD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3037-9386-4F34-8A05-78BEDF72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1394-9E94-4ABA-B481-ECB541E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B2E21-7B3B-48C6-A1E9-E272D5F4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4E59E-B7A9-4010-8CCC-86D8B0EE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6FBCA-1330-4A06-9543-34BDB80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E419F-15D4-4BA1-857C-4B446F91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B023-BC84-452C-B73C-F747287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9771-34AE-45FD-A2AD-3E1C0D7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83933-03E1-4773-9E7E-6D66693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7EFCD-F24A-4DE1-83CD-7E1E73B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AF65-5FFA-4293-A1B6-E8842B24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A25E-DBF9-4AC1-BA22-9607A571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prstGeom prst="pie">
                <a:avLst/>
              </a:pr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88A-6DE3-4DFE-B5E5-A57CB1CC73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erman_idealis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Lecture 10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Darwinian Influence and the Rise of Mental Testing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an Lamarck (1744 -1829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rly proponent of the idea that evolution occurred and proceeded in accordance with natural law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heory of inheritance of acquired characteristics stated that environmental changes during the lifetime of the organism resulted in structural changes in plants and animal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changes would be passed on to the offspring, which in turn enhanced their chance for survival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692760" y="2895480"/>
            <a:ext cx="245124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bert Spencer (1820 –1903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pencer applied his view of evolution to everything in the universe, including the human mind and societi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rough evolution, differentiation occurs and systems become increasingly complex and move toward perf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ined the phrase, “survival of the fittest, which was later used by Darwin as a key explanatory concept in evolu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pencer-Bain principle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cation of evolutionary theory to selection of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the probability of a behavior occurring in the future is a function of whether it is followed by a pleasurable event or a painful event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rnerstone of Behaviorism (Thorndike and Skinner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oposed that propensities for various behavioral responses could be passed to offspring (Lemarkia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rvival of the fit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pplied to societies and entities within societies (businesse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entities evolve and those which are “more perfected”, survive and those, which do not, do not surviv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cial Darwinis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mpatible with the capitalism and individualism in the US at th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f natural forces were allowed to operate freely, societies and individuals would approximate perf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ngerously misconceived Darw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olution not perfected progre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The 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Darwin (1809 – 1892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eb.12th was his 200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birthda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was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of 6 children of a wealthy society doctor and financ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 a student he was interested natural histo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1828, as Cambridge student he became a friend of botany professor and naturalist John Stevens Henslow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nslow nominated Darwin as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gentleman naturalist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d travel companion to Robert FitzRoy on the HMS 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eag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048440" y="2209680"/>
            <a:ext cx="209556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Voyage of the Beagl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voyage of the Beagl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23920" indent="-609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uring the 5-year expedition, he was to collect artifacts supporting Biblical cre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uring the voyage he collected hundreds of specimens and made hundreds of observa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also read the book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rinciples of Geology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hich made him start doubting the Biblical accou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6324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Voyage of the Beagl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voyage of the Beagl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th all of these observations, Darwin’s ideas of evolution were in their infancy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ading Malthus’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ssay on the Principles of Populatio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vided him with the mechanism/ principle to complete the formulation of the theor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principle wa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Natural Sele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63244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Theory of Evolu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Natural Struggle for Surviva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01240" indent="-5972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ore offspring than can survive within a given environment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cies variability results in individual differences in characteristics with some more conducive to the organism’s survival within 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articular environmental conditions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environmental pressure) than other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01240" indent="-5972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itness defined solely in terms of ability to survive and reprodu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93280" indent="-59724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Not a progression toward perf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41120" indent="-59724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volution just happens due to environmental pressur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The Theory of Evolu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Theory of Evolu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56680" indent="-7041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arwin’s writi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initial book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On the Origin of Specie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referred to humans very litt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escent of Man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kes case for humans being a product of evolu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52680" indent="-7041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Expressions of Emotions in Man and Animal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is most directly related to psycholog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860480" indent="-5025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He argues that human emotions are remnants of animal emotions that had once been necessary for survival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860480" indent="-5025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Launched modern comparative psychology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Impac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pac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heory was revolutionary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ill affects the thinking and research of social and biological scientists and philosophers today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the traditional view of human nature and our place in the univer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flict with the church due to Darwin’s estimates of the earth’s 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inuing debate with educators regarding the teaching of evolutio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Perhaps the most important scientific theory in the 19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 Century is Darwin’s evolu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59: 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On the Origin of Species by Means of Natural Selection, or the Preservation of Favoured Races in the Struggle for Lif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68: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variation of animals and plants under domestic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71: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Descent of Man, and Selection in Relation to Sex</a:t>
            </a: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</a:rPr>
              <a:t>1872:  </a:t>
            </a:r>
            <a:r>
              <a:rPr b="0" i="1" lang="en-US" sz="2600" spc="-1" strike="noStrike">
                <a:solidFill>
                  <a:srgbClr val="40458c"/>
                </a:solidFill>
                <a:latin typeface="Times New Roman"/>
              </a:rPr>
              <a:t>The Expression of the Emotions in Man and Animal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lnSpc>
                <a:spcPct val="90000"/>
              </a:lnSpc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</a:rPr>
              <a:t>We will consider the impact of evolution on psychology.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ARWI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 Impac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Impact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fluenced all areas of psycholog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layed a significant role in the development of Functionalism (next lecture) and subsequently of Behaviorism (two weeks)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volutionary Psychology has also used Darwin’s definitions to account for human social behaviors and cognitive process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19130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rancis Galton (1822 - 1911)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alf-cousin of Darw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nglish, anthropologist, eugenicist, psychometrician, and statistician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rst to apply statistical methods to study human differences and inheritance of intelligenc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ounded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Psychometric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(the science of measuring mental faculties) and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ifferential Psycholog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70000" indent="-81252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Introduced use of questionnaires to collect data; Coined term eugenics and phrase "nature versus nurture;“ Developed correl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ritability and Eugenic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otential for high intelligence was inheri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that the potential for high intelligence was inherited, but it must be nurtured by a proper environmen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is contributed to the nature-nurture controvers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idence of inheritance of human abilities led to his advocating of eugenics, or selective breed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81080" indent="-6094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ought the government should support marriages of desirabl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eveloped the “anthropometric laboratory”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in response to his desire to measure the individual differences among huma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llected data on more than 9,000 huma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elieved sensory acuity was related to intelligence and could therefore be used as a means to measure intellig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ata analytic techniqu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nitially examined loads of data using scatter plots to observe the correlation between variab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thematical formulation for the correlation coefficient later developed by Pear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 also observed a regression toward the mea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 states that data points on a particular variable will tend to cluster around the mean for that characteristic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RANCIS DALT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Achievement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ontributions of Galton:  A list of firsts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udy of the nature-nurture ques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se of questionnaires in researc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use of word-association tes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conduction of twin stud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udy of image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development of correlational technique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90520" cy="20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A. Introduc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volution theory gave rise to testing of individual differences in mental abilitie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Ironic that a theory of the origin of the species as a whole has a legacy of individual difference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telligence testing is probably one of the things that Psychologist can point to as evidence of scientific progress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metrics remains an viable part of modern psycholog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sychometrics is the field of study concerned with the theory and technique of educational and psychological measurement, which includes the measurement of knowledge, abilities, attitudes, and personality trait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B.  James McKeen Catt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ames Cattell (1860 – 194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ent of Wund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early Galtonian-type tests in the U.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se tests used measure of basic processes of mind developed in Leipzi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rrelational analysis indicated little relation among the tests and little correlation between the tests and success in colleg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ith these negative findings, the interest in mental testing fad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22543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C.  Alfred Bine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lfred Binet (1857 – 1911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psychologist who explored complex, higher-order processes that vary by ag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the Binet-Simon (with Theodore Simon) intelligence sca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 was a valid means to distinguish between normal children and those with mental deficienci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inet believed that intelligence was diverse set of abilities rather than one overarching abili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057400" cy="228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D. William Ster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illiam Stern (1871 – 1938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lliam Stern introduced the term mental age and a new formula for the intelligence quoti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Q = MA/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elieved that mental orthopedics could prepare disadvantaged children for school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orthopedics consisted of exercises that improve a child’s will, attention, and discipli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spcBef>
                <a:spcPts val="4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se abilities were ones Binet thought were necessary for effective educ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162920" y="2590920"/>
            <a:ext cx="169524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e late 18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and 19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Century is full of ideas of change, progress, and development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stability and permanence of thought and ideas of the middle ages gave way to dynamic views of change, progress, and develop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me of these ideas aare premised on the perfecting notions of transformation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se ideas are inspired from the industrial revolution (which changed everything) and the Enlightenm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hilosophical movement of the 17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and 18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centuries emphasizing scientific rationality and human freedom (French and American revolutions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Charles Spea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Spearman (1863 -194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factor analysi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complex statistical technique based on correlations between elements (questions) which identifies a set of related elements or factor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ased on factor analysis he proposed a two-factor theory of intellig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68520" indent="-7113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 two-factor theory consists of a specific factor and a general factor (G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927840" y="2590920"/>
            <a:ext cx="206388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E. Charles Spea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harles Spearman (1863 -1945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is conclusions about the nature of intelligence are important for three reasons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emphasized the unitary nature of intelligence in contrast to Binet’s emphasis on diversity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arman viewed intelligence has being largely inherited, which Binet rejected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pearman’s conception of intelligence was embraced by the new testing movement in the U.S. rather than Binet’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927840" y="2590920"/>
            <a:ext cx="206388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F. Cyril Bur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yril Burt (1883 – 197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urt is known for his studies on the effect of heredity on intelligenc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 “research findings” caused a scandal in the area of heritability of intelligen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612800" indent="-812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urt was accused of having fabricated and falsified his data on intelligence testing for which he was later acquitted in the court of scientific opin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ereditary basis of IQ verified by twin studies and adoption stud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 Henry Goddard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enry Goddard (1866 -1957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200600" indent="-8046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ranslated the Binet-Simon scale into English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studied the relationship between family background and intellig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Goddard and several leading scientists urged that those with mental deficiencies be sterilized and/or segregated from the rest of society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596600" indent="-804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tates actually passed sterilization laws which continued until 1970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is also led to the mental testing of immigrants, which in turn was very controversi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2049120" indent="-8042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policy led to an increase in deportatio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945480" y="2590920"/>
            <a:ext cx="2122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.  Lewis Terma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760320" indent="-703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ewis Terman (1877 – 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12400" indent="-6033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dopted the Binet-Simon into the Stanford-Binet tes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7960" indent="-5025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verage score for children of different ages to be 100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12400" indent="-603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tended that intelligence was largely inheri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7960" indent="-5025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greed with many of the ideas of Goddar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ducted a longitudinal study on gifted children that continued for more than 80 year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960920" indent="-60336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 primary results were: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The gifted child becomes a gifted adul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 Robert Yerk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Yerkes (1876 -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computation of IQ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organized the testing program for the army in World War I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Army Alpha test for literate people and the Army Beta for those who were illiter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llowing WWI intelligence level was deteriora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Yerkes, Goddard, and Terman claimed problem due to immigration and “intellectually inferior” people were reproducing at a faster rate than normal or above-normal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.  Robert Yerk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44840" indent="-6894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bert Yerkes (1876 -1956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nged computation of IQ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 organized the testing program for the army in World War I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eveloped the Army Alpha test for literate people and the Army Beta for those who were illitera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33280" indent="-6897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ollowing WWI intelligence level was deteriora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21360" indent="-68976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Yerkes, Goddard, and Terman claimed problem due to immigration and “intellectually inferior” people were reproducing at a faster rate than normal or above-normal peopl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ELLIGENCE TESTING MOVEMENT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Modern Views of IQ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752760" indent="-6966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mains some tension in the modern view of IQ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of the one hand, research supports IQ as a genetically determined (40% - 80%) basis of social mobility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errnstein &amp; Murray’s (1994)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ell Curve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serted many of the claims of psychologists of a generation earli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145160" indent="-696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n the other hand, research recognizes a critical role played by  early experience and education in IQ and its developmen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536840" indent="-6969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ch research was the basis of Head Start in the 1960s and continues to be considered one of the most successful social program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uguste Comte (1798-1857)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rench philosopher and founder of sociology and positivism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sitivism:  only authentic knowledge is that based on actual sense experienc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ociety undergoes three phases in its quest for the truth according to the universal Law of three stag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Theological: God reigns supreme over human existenc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etaphysical: A time steeped in logical rationalism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ositive: Individual rights are more important than the rule of any one person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013520" y="2362320"/>
            <a:ext cx="213048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Georg Wilhelm Friedrich Hegel (1770 –1831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 philosopher, and one of the creators of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imes New Roman"/>
                <a:hlinkClick r:id="rId1"/>
              </a:rPr>
              <a:t>German idealism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veloped dialectic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 integrated and developmental account of the relation of mind and natu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ind manifested itself in contradictions and oppositions that is ultimately integrated and united without eliminating either pole or reducing it to the other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ster/slave dialect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051680" y="3200400"/>
            <a:ext cx="209232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Karl Marx (1818 –1883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German, credited as the founder of political Communism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x argued that capitalism, like previous socioeconomic systems, will produce internal tensions which will lead to its destruction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ialectical materialis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inciple of chang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Just as capitalism replaced feudalism, communism will in its turn replace capitalism and lead to a stateless, classless societ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90512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r Charles Lyell (1797 - 1875)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cottish lawyer and was the foremost geologist of his da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ublished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ulti-volum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rinciples of Geology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from 1830 to 1833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ubtitle was "An attempt to explain the former changes of the Earth's surface by reference to causes now in operation"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Uniformitarianism, that the earth was shaped entirely by slow-moving forces still in operation today, acting over a very long period of time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hallenged the geological reality of Noah’s Flood and other biblical event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20368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Change, Progress, and Develop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omas Robert Malthus (1766-1834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nglish political economist and demographer who wrote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Essay on the Principles of Popula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osed that populations size and food supply were kept in balance by events such as war, starvation, and disease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sumed that natural events could and do select who will survive and have children and who will not survi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98144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.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 Evolution Before Darwi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Early Greek Idea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lato and Aristotle both had a form of evolutionary ideas, but neither one truly believed in evolu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ristian thought added the idea of the divine crea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By the 18th and early 19th century, several prominent people were postulating a theory of evolution—including Darwin’s grandfath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768240" indent="-711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What was missing from these early theories was a mechanism to account for the theory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Eric Amsel</dc:creator>
  <dc:description/>
  <dc:language>en-US</dc:language>
  <cp:lastModifiedBy> Eric Amsel</cp:lastModifiedBy>
  <cp:lastPrinted>2001-05-25T15:02:50Z</cp:lastPrinted>
  <dcterms:modified xsi:type="dcterms:W3CDTF">2009-02-15T01:37:11Z</dcterms:modified>
  <cp:revision>419</cp:revision>
  <dc:subject/>
  <dc:title>Issues and Theories</dc:title>
</cp:coreProperties>
</file>