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60280" y="682200"/>
            <a:ext cx="4538520" cy="34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6D03-2548-4161-8DF1-1FEAB11BB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2B50-8B66-4741-8494-E4DCCCFB786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15FF-3965-435D-849E-8F54FA5B071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A804-99F4-4A7A-80DA-30ECDA677E8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C44F-890F-4652-BA13-65FF8AF51DD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8C0D-A8BC-4E5E-B2EB-681E725652F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7593-2C18-44B8-87D6-5B3917C5CFA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5D04-CCD9-4ABC-B2BB-23A810C4B5D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5AC9-5AF8-4F8B-94C8-43EC78AC66C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0C18-D0B6-4725-BCDE-9F5628F3BA9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26F4-B9BD-44F3-8852-E8FA7374A01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EF16-DAC6-4A83-92BE-B6FD0AD6B59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E564-E45F-433A-9EB0-EC41A7CAD4D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7C61-3297-43A2-A6B7-6A5AE78C2D6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D8EF-E595-4212-AADD-16E762F2566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45CA-0D1A-4167-835C-0546E0CF4C3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8AB0-EFC9-4996-9812-1D74510ACD0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7F5E-026E-4F0D-A4FE-7E48242B4BB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CD7D-3607-4F43-80EF-0B49CFAE200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D56A-94DB-4567-8918-142008C9B18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8409-89DD-4E93-9707-CF964EE6966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7BB0-39B2-4F66-A9A6-F0B2DE9E29C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E138-BF35-4E58-AF63-2B2AD7071D9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9FDA-37AF-4BB2-A9DF-40144806160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FF7B-DF39-47D4-9A10-B933F46D9EB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E9C7-F1F5-422D-B016-B0CA51B65E8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E856-0673-4526-9FD2-9A34229A8A6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495F-086F-4C07-A5B0-6E1EEB30998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EB14-CBC5-4F35-B7EA-A9B42C0A09E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928CD-8EB2-4918-A888-CE10338D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94E01-4388-4233-B4B1-8498116F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45534-0964-45EA-99F8-EDBDFD28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04636-116C-47C2-9DA3-0EF56AAB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89EAE-A00E-4394-954D-17EB434E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49001-02D5-4955-BE74-43DD033B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5630D-33C8-4F07-8763-DC34F083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C0CAD-669A-40C4-998E-7BB618DF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EB48C-D37C-49B1-A2C7-B56DEC70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F3E6B-6165-40EF-8E8A-8923BC39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68E83-95A2-42EB-A69B-DF4EDCD0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54A76-CA0C-47D9-9D17-53610ADC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1720" y="5315400"/>
                <a:ext cx="247680" cy="24948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D98A-4BFC-44EF-8EF3-0AB96231F30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dterms.com/script/main/art.asp?articlekey=208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renology.com/index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renology.com/index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hrenology.com/index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orenz_and_Tinbergen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los_wilson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Noam_chomsky_cropped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CABB-DB5D-44C3-824E-3ED60C9D884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Focus on the Body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Psychobiology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urological basis of behavior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t has its origins in ancient Greek philosophy through Descartes and the growth of medical 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story of the modern view of brain function is a fight between those who claim a mass action vs. localization of function in the brai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bates during the 18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and early 19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Centuries were between those who believed that brain function could be localized to particular brain regions and those who believed that the brain acted as a whol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rain debate in the early to mid 19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Centur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anz Joseph Gall (1757-1828) and Johann Spurzheim (1776-1832) developed phren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idea that specific human behaviors and characteristics could be deduced by the pattern and size of bumps on the skull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rie-Jean-Pierre Flourens (1794-1867) believed that parts of the brain had separate functions, but each of these areas functioned globally as a who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lourens supported his theories with experiments in which he removed areas of the brain (mostly in pigeons) and showed that behavioral deficits increased with size of the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hlinkClick r:id="rId1"/>
              </a:rPr>
              <a:t>ablation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rain debate in the late 1800s and early 1900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itsch (1838-1927), Hitzig (1838-1907), Broca (1824-1888) and Wernicke (1848-1904) in the late 1800s provided strong data to support the localization of func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ernicke and Broca identified the specific areas of the brain central in the production and comprehension of speech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olgi (1834-1902)  and Brown-Sequard (1817-1894) among others championed a brain that acted as a who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olgi argued for nerve nets and Brown Sequard found other brain areas contribute to language,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rain debat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debate is ultimately resolved with the notion of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neurological network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interaction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ree key figures in the resolu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arl S. Lashle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jected specific localization of memori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onald O. Hebb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ed the neurological network id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oger W. Sper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lit brai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Karl Lashle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arl Lashley (1890–1958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riginally wanted to support the associationism of Watson with neurophysiological evid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as searching for the elusive engram, the neurophysiological locus of memory and learning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nt decades searching for it and eventually conceded that it was not possible to locate the engra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sed the albation method in a learning paradig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3" name="" descr="Karl Lash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3880" y="266688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Karl Lashle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arl Lashle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ss action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oss of ability to perform a learned behavior following destruction of parts of the cortex is related more to the amount than location of destru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quipotentialit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y part of a functional area of the brain can perform the function associated with that area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f, following an ablation, any part of the area is spared, the function would still be maintaine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6" name="" descr="Karl Lash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7240" y="2743200"/>
            <a:ext cx="22226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Karl Lashle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arl Lashle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 best known paper,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shley (1951)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The Problem of Serial Order in Behavior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addressed how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haviors consisting of a sequence of steps performed in some particular order, might be controll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e warned that the behaviorist "chaining" account for serial order can not account for such serial ordered behavior key for language and complex behavior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haviorism may be unable to account for uniquely human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9" name="" descr="Karl Lash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7240" y="2743200"/>
            <a:ext cx="22226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Donald O. Hebb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onald O. Hebb (1904 – 1985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shley student, Penfeld associat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Organization of Behavior (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1949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ostulated neural interconnections called cell assemblies, which are complex package of neur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y develop with experience and experiences result from activated cell assembli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verberating neural activity allows neurons that were temporarily separated to become associat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959520" y="2819520"/>
            <a:ext cx="201636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Donald O. Hebb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onald O. Heb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ell assemblies become neurologically integrated to form phase sequenc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 phase sequence is “a temporally integrated series of assembly activities; it amounts to one current in the stream of thought.”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arning involves the slow buildup of cell assemblies and phase sequenc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an be explained associationisticall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arranging  cell assemblies and phase sequences for insight and creativi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59520" y="2819520"/>
            <a:ext cx="201636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Roger Sperr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ger Sperry (1913-199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obel Prize winner (1981) for his split brain researc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utting (ablating) the corpus callosum and the optic chiasm essentially splits the brain into two separate brains with no exchange of inform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arly work was with animals but later he studied epileptic humans with their corpus callosum cut to limit seizur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21286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Definition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iological psychology is the application of the principles of biology to the study of mental processes and behavi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goal of the work is to understand the biological processes underlying psychological phenomena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iological psychologists are often be interested in measuring some biological variable in an attempt to relate it quantitatively or qualitatively to a psychological or behavioral vari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r example, biological theories explain schizophrenia by relating it to dysfunctional neurological processes (excess dopamine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Roger Sperr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ger Sperr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mispheric specializ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ach hemisphere is a conscious syste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oth the left and the right hemisphere may be conscious simultaneously in different, even in mutually conflicting, mental experiences that run along in parall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search indicates caution in too much speculation regarding specialization and its impact on learning and educational practic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21286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Roger Sperr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ger Sperr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teractionis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rry was an interactionist concerning the mind-body proble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believed that consciousness emerges from brain processes and once emerged has a causal relationship to behavior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But each hemisphere has its own consciousness -- perceiving, thinking, remembering, reasoning, willing, and emoting, all at a characteristically human level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21286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Behavioral Genetic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ehavioral Genetics study whether variations on behavioral and psychology phenomena are directly related to variation is gen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itabilit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search by various researchers have investigated the heritability of intelligence and personality characteristics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amily studies, Twin studies, and Adoption studies are research techniqu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re is still much argument and discussion regarding these highly sensitive subjec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Etholog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60199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t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dern ethology began in the 1930s with Tinbergen (1907-1988) and Lorenz (1903-1989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y were joint winners of 1973 Nobel Prize in medicin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tudied species-specific behavior in an animal’s natural environment to explain behavior in terms of evolutionary theo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ickleback territoriality and duck imprinting reflect typical species behavior under specific environmental condi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3224160"/>
            <a:ext cx="2362320" cy="181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553080" y="510552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Kontad Lorenz (right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with Nikolaas Tinbergen (left), 197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Sociobiology 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ciobi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pularized by Edward O. Wil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1975 book,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Sociobiology: The New Synthesi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was very controversi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mplex ant social behaviors were explained by genetic contro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iogramma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nherited structures that predisposes organisms toward certain kinds of social activiti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eash Principl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re is a close relationship between culture and the satisfaction of biological need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Biology holds culture on a leas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5105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. O Wils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3124080"/>
            <a:ext cx="2210040" cy="187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Evolutionary Psycholog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volutionary Psyc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goal of EP is to understand the design of the human mind which promotes evolutionary adaptation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P holds that humans ar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daptation executor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mechanism activato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P explores why and how as a species humans evolved adaptive abilities and skills to solve the problems of survival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y are people social? How do humans choose mates? Why do people behave in altruistic ways?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Evolutionary Psycholog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volutionary Psychology is different from 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behavior geneticist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which us interested in genetic based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difference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between peop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P is relatively disinterested in divers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Ethology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in exploring evolutionary basis of other psychological functioning than just social behavior.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ority is given to the evolution of  tendencies to process certain kinds of information (language,  inferenc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ociobiology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, who assume humans are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fitness maximizers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reproductive success)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P is more interested in the evolution of underlying mechanisms leading to adapt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Evolutionary Psycholog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5562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volutionary Psyc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oam Chomsk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entral figure in evolutionary psychology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rgues that the human brain is genetically programmed to generate languag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ach child is born with brain structures that make it relatively easy to learn the rules of languag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ase for an evolved language module dismissed hope of a behaviorist account of a human language acquisi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2133720"/>
            <a:ext cx="26258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Genetics and Behaviorism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enetics and Behavio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enetic challenge to the universality of the laws of learning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eller and Marion Breland observed instinctive behavior began to interfere with the performance of operantly trained behavior (instinctual drift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reparedness continuu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fferent animals are biologically prepared to form certain associations and contraprepared to form others and this has been selected for through evolutionary principl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Definition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resulting accounts of behavior are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physical explanations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which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reduce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psychological phenomena to biological process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ductionism is the basic idea that complex behavior can be explained by the breaking it down into simpler more smaller componen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iological reductionism differentiates this paradigm from all others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iological reductionism is more than finding the biological correlates of psychological phenomena, it is understanding the psychological phenomena as biological 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Definition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sychobiology involves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physical explanation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 of behavior which is unlike other paradigms which offer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design explanations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hysical Explanation: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xplanation of the behavior of a system by reference to what the system is made up of and laws that apply to its working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esign Explanation: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xplanation of the behavior of a system by reference to its func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eople may be designed to learn from experience (Behavioral Psychology), process information (cognitive Psychology), psychologically grow and actualized (Humanistic Psychology) live in a community (Socio-cultural Psycholog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e review two key issues in understanding the basis of human behavior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urological basis of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at is the role of the brain in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enetic basis of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role of hereditary in shaping human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oth assume  that human being are determined by internal biological forc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assumption does not fit well with prevailing American values of cultu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enetic basis of behavior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1869, Francis Galton (1822 –1911, Darwin’s cousin) published the first empirical work in human behavioral genetics,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Hereditary Geniu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alton intended to demonstrate that "a man's natural abilities are derived by inheritance, under exactly the same limitations as are the form and physical features of the whole organic world."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conducted a family study on the inheritance of giftedness and tale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laims that genetic differences IQ explains group differences in race back a social issue in the 1960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enetic basis of behavior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initial impetus behind behavioral genetic research was to demonstrate that there were indeed genetic influences on behavio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psychology, this phase lasted for the first half of the 20th century largely because of the overwhelming influence of behaviorism in the fiel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ter behavioral genetic research focused on quantitative metho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dern behavioral genetic research emphasizes applying techniques from molecular genetics to analyze individual genes that influence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enetic basis of behavior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netic basis of behavior is the focus of ethology, sociobiology and evolutionary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Ethology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s a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ranch of zoology and is the scientific study of the evolutionary basis of animal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Sociobiology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s a neo-Darwinian synthesis of scientific disciplines that explains social behavior in all species by considering the evolutionary advantages of the behavior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Evolutionary psycholog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attempts to explain mental and psychological traits—such as memory, perception, or language—as the functional products of natural sele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mportant differences between these approac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enetic basis of behavior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ociobiology and Evolutionary Psychology address what is universal or species-specific in human social and cognitive behavio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contrast, Behavioral Genetics is the study of the genetic basis of human vari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reproductive process ensures that each individual born form a unique ovum has unique genetic cod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re is a genetic basis for what makes us the same as and what makes us different from everybody els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Eric Amsel</cp:lastModifiedBy>
  <cp:lastPrinted>2001-05-25T15:02:50Z</cp:lastPrinted>
  <dcterms:modified xsi:type="dcterms:W3CDTF">2009-01-28T01:21:59Z</dcterms:modified>
  <cp:revision>240</cp:revision>
  <dc:subject/>
  <dc:title>Issues and Theories</dc:title>
</cp:coreProperties>
</file>