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60360" y="721800"/>
            <a:ext cx="4795920" cy="35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1C94-6575-46E8-8EB8-4875C65683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2740-1590-4C73-AB2D-D4A89811B19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1787-C5F3-4799-BD69-E982EA86657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D788-9806-4AF1-A191-545D839A57D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6968-80AE-49FC-9881-B365C7CC874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CD8A-AE9F-40EF-B22C-D02D932A421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FB75-78A6-492C-ADEA-9B1007AFABC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2B0B-38A8-457B-9E0D-7B64D14FC90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D120-81B1-4184-86EF-FE2F2F341B5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BF03-E5F4-472E-87CC-EF1FA4DAC10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1F48-4FD4-48DE-A222-05FFC493E10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D92C-6121-42E1-8BE6-CE30D6590E6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62A4-4696-4FED-BABF-88D302BEFCA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D273-55F4-4088-90F1-B02C4A39623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E352-CD6D-4D97-8859-271B6104D8D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4C41-21FA-4792-980D-1BB74C7C000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B75E-6871-4E3D-B26D-4F35C25EF3F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FC0B-E59F-4350-A020-E026D78E34E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B6F3-6E2F-4CAD-B152-8EBC2723B04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08A3-561D-4043-ABE7-CB7823DD97B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D798-1E1F-4D50-99B0-A9DECB2CAB3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DB55-C764-4B7D-A6C1-CE7355F9BC1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FDC0-D822-40D1-B4B7-7C54D6D94B9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0F1C-607C-42F7-9288-360DC97F09B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85EE-EC9B-4F50-82D1-8D10724AAAC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6996-0B34-4CFC-B605-8F5AF0D20A2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67A2-81E3-4289-91A7-20B0D5843B0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6A34-3C77-4A92-91C3-5E8BFBBF5FB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DC52-B4B3-4093-9D47-389FA0AC31A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8ED0-19E2-4062-8F42-63D5BF54A21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4667-561E-4712-A8E0-D894F99D6CD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BC30-B2A7-49C2-B90C-E9ACBADA141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7197-F2E1-441A-B42D-9F54110BFB9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6A44-E322-491D-A5ED-AE231AAB0D7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389B-C774-4A23-A837-640D5FE18B3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6CB1-8697-433F-BF33-D7CAA7E76CD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81B6-D8AB-426D-A64A-9D562D05A8E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C77A-2042-4358-B079-1B146D36004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9EB7-C869-4F59-AF5D-9871CE7738C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8133-2ED1-4A2C-ADA4-D2B6B4DFE87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9DBB-6E3F-4756-A3C7-242561F6625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26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07E1-42CF-4577-9166-04C6B4F9B9D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E2EAD-DEBE-4789-8702-968CD602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9CE1F-1B04-47FA-BDE0-67738329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53757-0546-4BD3-A476-81A370DA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EC781-76C7-41F1-946E-BAB0584A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2D9B5-C14C-4CB4-82B5-3271291A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EC0A0-72C4-4F11-A800-9B8B310E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C7D01-7416-44A2-B4A4-60161D13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8B3B2-0FB6-4562-8F94-686D2A3E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823FA-8805-474E-9858-2E13D004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6724C-5AD2-414B-9D8A-14F7848C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887A9-D453-4A99-BA2C-996768C7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AC825-7E88-419E-86AE-BAE6403F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</a:path>
                  <a:path stroke="0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</a:path>
                  <a:path stroke="0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  <a:lnTo>
                      <a:pt x="21598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ED69-3A26-423B-AAF9-175D69C89E7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Lecture 12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The Rise and Fall of Behaviorism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Petrovitch Pavlov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r details of Classical Conditioning, see the textboo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applied objective physiological measures to study the association between stimulus and respon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xplained how reflexes can be modified by environmental associatio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en explained neurosi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xperimental  neurosis occurs when excitatory and inhibitory conditioned tendencies are brought into conflict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7010280" y="2286000"/>
            <a:ext cx="1981440" cy="280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Petrovitch Pavlov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vlov’s Signal System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rst-signal system or “the first signals of reality.”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79560" indent="-507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timuli (conditioned stimuli) that come to signal biologically significant event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cond-signal system or “signals of signals”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79560" indent="-507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umans learn to respond to symbols of physical events (use of language, words are symbols referring to events).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ow opinion of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ut big influence on the discipline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7010280" y="2286000"/>
            <a:ext cx="1981440" cy="280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Petrovitch Pavlov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vlov’s Signal System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rst-signal system or “the first signals of reality.”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79560" indent="-507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timuli (conditioned stimuli) that come to signal biologically significant event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cond-signal system or “signals of signals”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79560" indent="-5079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umans learn to respond to symbols of physical events (use of language, words are symbols referring to events).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ow opinion of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ut big influence on the discipline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7010280" y="2286000"/>
            <a:ext cx="1981440" cy="280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ladimir Mikhailovich Bekhterev (1857–1927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europhysiologist who noted the role of the hippocampus in memory around 1900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founded the field of psycho-reflex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n objective study of relations between environmental influences and overt behavior. In huma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ritical of Pavlov's work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e transformed and applied it from dog secretions to human behavior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7" name="Picture 5" descr="bekhterev"/>
          <p:cNvPicPr/>
          <p:nvPr/>
        </p:nvPicPr>
        <p:blipFill>
          <a:blip r:embed="rId1"/>
          <a:stretch/>
        </p:blipFill>
        <p:spPr>
          <a:xfrm>
            <a:off x="6543720" y="2438280"/>
            <a:ext cx="251460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 (1878–1958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under and promoter of behavior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bjective methodology applicable to humans and anima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hysiological ba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ritical paper was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Psychology as the Behaviorist Views It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1913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olemical t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mphasis on applic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0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rt at Chicago with Dewe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t Harvard he worked with James Angell and Jacques Loeb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hows that the behavior of simple organisms could be explained as being automatically elicited by stimul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fluenced by his early research with rats running in maz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arly research running rats in mazes helped him formulate some of his later ideas regarding a purely objective science of psychology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3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1908 announces behaviorist views and 1913 publishes the so-called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Behaviorist Manifest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y is a purely objective experimental branch of natural sci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 theoretical goal is the prediction and control of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trospection forms no essential part of its metho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behaviorist, in his efforts to get a unitary scheme of animal response, recognizes no dividing line between man and bru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6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744840" indent="-6894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33280" indent="-6897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ur types of behavio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xplicit (overt) learned behavi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4880" indent="-689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alking, writing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mplicit (covert) learned behavi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4880" indent="-689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ncreased heart rate caused by a feared stimulu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xplicit unlearned behavi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4880" indent="-689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grasping, blinking, sneezing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mplicit learned behavi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4880" indent="-6897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glandular secreti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33280" indent="-6897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ll behavior, including thinking, falls into one of the catego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9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ur methods of researc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bservation, naturalistic or controll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ditioned-reflex method, proposed by Pavlov and Bechtere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esting, meant taking samples of behavior and not measurement of “capacity” or “personality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Verbal reports, which were treated as any other type of overt behavio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2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anguage &amp; thinking as behavi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ech overt behavior, while thinking was sub-vocal speech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re were a few simple reflex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o complex innate behavior; only experience impacts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umans inherit basic reflexes and emotions of fear, rage, and lov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Emotions elicited by stimuli and others are derived from the 3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29160" indent="-5281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ittle Albert and emotional condition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5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Rise and Fall of Behavioris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t started off slowly in 1910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atson’s 1913 manifesto,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sychology as the Behaviorist Views It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, claimed that introspective psychology was unscientific because it did not deal with objective sta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re is a complete rejectionof mentalism byWatson in the 1910s and Skinner in the 1940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y the 1940s and 1950s, behaviorism reigned supreme in American experimental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re was an emphasis on learning and experience over inheritance of traits in every sphere of applied and theoretical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52760" indent="-696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89280" indent="-597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that children should be raised in an objective mann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ittle displays of affection; treated as adults; receive sex educa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89280" indent="-597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ntiguity and Frequenc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ents associated in time, which produces conditioning of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89280" indent="-597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dopted physical monis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witched to a physical monism mind-body position, rejecting mental events (consciousness) altogeth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Wats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Broadus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atson’s Behaviorism had two long-lasting effec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y’s main goal changed from description and explanation of states of consciousness to the prediction and control of behavio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vert behavior was the almost-exclusive subject matter of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1" name="Picture 4" descr="watsolg"/>
          <p:cNvPicPr/>
          <p:nvPr/>
        </p:nvPicPr>
        <p:blipFill>
          <a:blip r:embed="rId1"/>
          <a:stretch/>
        </p:blipFill>
        <p:spPr>
          <a:xfrm>
            <a:off x="6705720" y="2286000"/>
            <a:ext cx="22762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McDoug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McDougall (1871 – 1938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rote a number of highly influential textbook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as particularly important in the development of the theory of instinct and of social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ritiqued Watson’s behaviorism for its lack of instinct and purpos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work was very well known and respected among lay peopl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6858000" y="2362320"/>
            <a:ext cx="21430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McDoug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McDougal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fined psychology as the science of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ental events valued and could be studied objectively by observing their influence on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havior is goal-directed and stimulated by instinctual motiv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inimized environmental events and emphasized purposive nature of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6858000" y="2362320"/>
            <a:ext cx="21430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McDoug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McDougal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lieved that all behavior is stimulated by instinctual ener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stincts provides motivation to act in certain way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ingle event or thought tends to elicit several instinctual tendenc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ssociating multiple instincts with a single object or thought creates a senti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st human social behavior is governed by sentimen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858000" y="2362320"/>
            <a:ext cx="21430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merican Behaviorism:  McDoug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cDougall vs. Wat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 Instinc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atson denied humans instincts whereas for McDougall they motivated of all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 Reinforcem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atson rejected reinforcement in learning whereas for McDougall reinforcement was a process of need reduction central to learn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 Deba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cDougall is seen as the narrow victor.over Watrson in debat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6858000" y="2362320"/>
            <a:ext cx="21430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haracteristics of Neobehavio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ere radical empiricis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l theoretical terms must b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operationally defined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as demanded by Logical Positivists of the Vienna Circle (philosophers committed to eliminating metaphysics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nhuman animals should be used as research participants for two reasons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levant variables are easier to control in animals than when using human subjec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erceptual and learning processes in animals differ only in degree from those processes in human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formation gained from research with nonhuman animals can be generalized to human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haracteristics of Neobehavio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arning processes are of prime importance because learning is the primary mechanism by which organisms adjust to a changing environment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spite agreeing on a few important issues, there were major differences among the neo-behaviorist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olm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Hu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Guther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kinn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 E. C. Tol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dward Chance Tolman (1886 - 1959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erican psychologist best known for his studies of learning in rats using maz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major theoretical contributions came in his 1932 book,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urposive Behavior in Animals and M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sychological Review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papers included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The determinants of behavior at a choice point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1938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Cognitive maps in rats and me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(1948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Principles of performance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1955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139160" y="2514600"/>
            <a:ext cx="20048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 E. C. Tol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dward Chance Tolma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urposive and molar behavio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udied purposive (molar) behavior in contrast to the molecular behavior that he saw Watson studying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ts used to avoid introspecti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ats guarded against even indirect introspection that could occur if humans were experimental participan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gnitive intervening variabl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o Tolman, cognitive processes (hypotheses, expectations, beliefs, and sometimes cognitive maps) intervene between stimuli and respons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139160" y="2514600"/>
            <a:ext cx="20048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Rise and Fall of Behaviorism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y 1965, the tide began to tur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re was the “cognitive revolution" and “humanistic psychology” which embraced the very mentalism which Behaviorism  sought to reject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y behaviorism declined is complicate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haviorism was demonstrated to be overly simplistic and inadequate philosophically and empiricall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haviorism no longer theoretically domina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ut Behavior Modification, Applied Behavior Analysis, and Cognitive Behavioral Therapy remain viable approaches in applied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 E. C. Tol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5530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dward Chance Tolma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Learning can occur without reinforcement or motiv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istinguished  learning &amp; performa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earning takes place constantly as the organism interacts with its environment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Whether the organism uses what it has learned is determined by its motivational sta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4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erformance is translation of learning into behavior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atent Learning:  Tolman &amp; Honzik, (1930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atent Extinction:  In extinction, an animal’s expectation is modified by a lack of contingency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139160" y="2514600"/>
            <a:ext cx="20048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 Clark L. Hu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ark Leonard Hull (1984 -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erican who explained motivation and learning by scientific law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most significant works were th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Mathematico-Deductive Theory of Rote Learning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1940), and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rinciples of Behavior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1943), established his formal analysis of learning and conditioning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del is couched in biological terms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rganisms suffer deprivation. Deprivation creates needs. Needs activate drives. Drives activate behavior. Behavior is goal directed. Achieving goals have survival valu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169560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 Clark L. Hu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ark Leonard Hull (1984 -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ull’s hypothetico-deductive theory of lear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sed intervening variables as Tolman, but used them more extensivel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rom summarizing the research on learning, he formed postulates from which he inferred theorems that yielded testable propositio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10440" indent="-452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ull’s intervening variables were primarily physiological, in contrast to the cognitive variables of Tolman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10440" indent="-452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is final theory had 17 postulates and 133 theorem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169560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 Clark L. Hu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ark Leonard Hull (1984 -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inforcement: Drive-reduction theory of reinforceme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biological need creates a drive and the decrease of drive constitutes reinforce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bit strength: An increase in habit strength constitutes learnin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number of reinforced pairings between an environmental situation and a respons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action potential: Probability a learned response will occu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unction of amount of drive and habit strength and other intervening variab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169560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 Clark L. Hu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ark Leonard Hull (1984 -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ll’s legac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 trace of Hull’s theory in textbooks, yet there is of Tolma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clarity of its predictions generated lots of research on Hull’s theo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searchers devised projects to test the theory’s predictions and valid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ard to call this a failur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oday its legacy is mathematical psychology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7315200" y="2743200"/>
            <a:ext cx="169560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Edwin R. Guthri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dwin R. Guthrie (1984 -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erican who played an important role in the development of the contiguity theory of learning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tiguity (how close in time two events must be for a bond to be created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inforcement (any means of increasing the likelihood that an event will be repeated) are central to explaining the learning proces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developed a one-trial, contiguity, non-reinforcement theory of lear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7064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 Edwin R. Guthri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dwin R. Guthri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tails of contiguity learning in textbook but some general issu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imuli which accompany a movement will on its recurrence, tend to be followed by that movemen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05200" indent="-7041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Rejected the law of frequency and postulated one-trial learning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istinguished movements and ac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05200" indent="-7041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ovement:  A specific response to a stimuli configuration in which an association is learned at full strength after one exposur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05200" indent="-7041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ct:  Made up of movements and a skill is made up of ac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7064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B. F. Skinn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rrhus Frederic Skinner (1904 – 1990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erican who discovered the operant conditioning which was the basis of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 approach to psychology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The Experimental Analysis of Behavior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and a philosophy of psychology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Radical Behavior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kinner was listed as the most influential psychologist of the 20th 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published 21 books and 180 artic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7238880" y="2930400"/>
            <a:ext cx="176220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B. F. Skinn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52760" indent="-696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rrhus Frederic Skinn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0560" indent="-522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dical Behavior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43880" indent="-4478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cientists were to collect empirical facts and then infer knowledge from the fac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92080" indent="-4478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cience is to be descriptive and inductive rather than theoretical and deductive.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70560" indent="-522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unctional analysis of behavio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43880" indent="-4478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 analysis of the relations between environmental and behavioral even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92080" indent="-4478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nternal events have no place in such an analysis because they are events also and thus need to be explained also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792080" indent="-4478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nternal events cannot serve as explanations or causes of behavior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7238880" y="2930400"/>
            <a:ext cx="176220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B. F. Skinn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721800" indent="-6681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rrhus Frederic Skinn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6840" indent="-6206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perant behavio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2680" indent="-6202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wo types of behavi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54640" indent="-465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Respondent behavior  is reflexive behavior  in which Watson and Pavlov were interest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754640" indent="-4654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Operant behavior is influenced by its consequences. (Gets around calling it volitional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96840" indent="-6206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perant conditioning occurs as behavior affected by its consequenc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2680" indent="-6202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inforcement  is when a consequence increases the rate/probability of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54640" indent="-465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reinforcer can be anything as long as its effect is an increase in behavior probability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7238880" y="2930400"/>
            <a:ext cx="176220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The Context of Behavio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zeitgeist of the time resulted in the developing of behaviorism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bjective psychology was already established in Russia and several functionalists were discussing openly many ideas later emphasized by John Wats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uccess of animal research also contributed greatly to the development of behavior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strain resulting from proposals for a strict objective science of psychology but the continued use of introspection created the atmosphere that ultimately led to the “behaviorist revolution.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B. F. Skinn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52760" indent="-696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rrhus Frederic Skinn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08280" indent="-404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perant conditioning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00680" indent="-404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nishment is when a consequence decreases the rate/probability of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48520" indent="-4046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Reinforcement exerts better control over behavior than punishment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08280" indent="-4042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lection of behavior by consequence is a Darwinian idea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00680" indent="-4046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organism produces a variety of behavio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48520" indent="-4046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ome will result in consequences that will increase the behavior (reinforcing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748520" indent="-4046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se behaviors will be selected as part of the organism’s repertoire while others will no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7238880" y="2930400"/>
            <a:ext cx="176220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NEO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.  B. F. Skinne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Burrhus Frederic Skinn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havior Analy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kinner and other behavior analysts have always sought to apply operant principles to solve practical problem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pplied behavior analysis has provided a behavior technology to change behavior in multitudes of setting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minent area is application of to help people in educational setting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7880" indent="-533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roblems ranging from psychosis, drug addiction, mental retardation/ learning disabilities, speech disorders, shyness, phobias, and juvenile delinquency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7238880" y="2930400"/>
            <a:ext cx="176220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The Context of Behavior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wo sections to the present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rigins of Behaviorism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ussian Physiology of Reflex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erican Foundations: J.B. Wats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ritish Foundation:  MacDougal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eoBehavior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dward Chase Tolma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lark Leonard Hul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dwin R. Guthri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. F. Skinn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Mikhailovich Sechenov (1829–1905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henov's major interest was neurophysiolog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showed that brain activity is linked to electric currents and was the first to introduce electrophysiolog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cused on the nature and inhibition of spinal reflex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udying the physiology of reflexes was important port of the context of the founding of behavior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6" name="Picture 4" descr="sechenov"/>
          <p:cNvPicPr/>
          <p:nvPr/>
        </p:nvPicPr>
        <p:blipFill>
          <a:blip r:embed="rId1"/>
          <a:stretch/>
        </p:blipFill>
        <p:spPr>
          <a:xfrm>
            <a:off x="6781680" y="2057400"/>
            <a:ext cx="2198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Mikhailovich Sechenov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henov's work laid the foundations for the study of reflexes, animal and human behavior, and neuro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oughts do not cause behavi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oth internal behavior (mental processes) and external behavior are reflexive in that they are triggered by external stimula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ciple of external stimulation also seen in Vyogtsky’s work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9" name="Picture 4" descr="sechenov"/>
          <p:cNvPicPr/>
          <p:nvPr/>
        </p:nvPicPr>
        <p:blipFill>
          <a:blip r:embed="rId1"/>
          <a:stretch/>
        </p:blipFill>
        <p:spPr>
          <a:xfrm>
            <a:off x="6781680" y="2057400"/>
            <a:ext cx="2198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Mikhailovich Sechenov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3280" indent="-597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in purpose of the central nervous system was to inhibit reflexive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3280" indent="-597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ment establishes inhibitory control over reflexive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3280" indent="-597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jected the idea of spontaneous or un-elicited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only valid Psychological approach was the objective methods of physi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2" name="Picture 4" descr="sechenov"/>
          <p:cNvPicPr/>
          <p:nvPr/>
        </p:nvPicPr>
        <p:blipFill>
          <a:blip r:embed="rId1"/>
          <a:stretch/>
        </p:blipFill>
        <p:spPr>
          <a:xfrm>
            <a:off x="6781680" y="2057400"/>
            <a:ext cx="2198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RIGINS OF BEHAVIORISM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ussian Physiology of Reflex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van Petrovitch Pavlov (1849–1936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on the Nobel Prize in 1904 for his work in physi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uring work on the physiology of the digestive system, he discovered the conditioned reflex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Noted that objects or events associated with presentation of food also produced gastric secretion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25720" indent="-711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Referred to secretions as “conditional” (mistranslated as conditioned) responses because they depended on something el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7010280" y="2286000"/>
            <a:ext cx="1981440" cy="280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Eric Amsel</cp:lastModifiedBy>
  <cp:lastPrinted>2001-05-25T15:02:50Z</cp:lastPrinted>
  <dcterms:modified xsi:type="dcterms:W3CDTF">2011-10-13T13:13:57Z</dcterms:modified>
  <cp:revision>610</cp:revision>
  <dc:subject/>
  <dc:title>Issues and Theories</dc:title>
</cp:coreProperties>
</file>