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6"/>
          </p:nvPr>
        </p:nvSpPr>
        <p:spPr>
          <a:xfrm>
            <a:off x="414648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260360" y="721800"/>
            <a:ext cx="4795920" cy="3597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7200" rIns="97200" tIns="48600" bIns="48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7"/>
          </p:nvPr>
        </p:nvSpPr>
        <p:spPr>
          <a:xfrm>
            <a:off x="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8"/>
          </p:nvPr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9BFF-9811-4C1D-A55C-7A82CE23FF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D29A-C113-432A-A313-7B77BC40A458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28C6-2EEA-4BAE-9E9D-405058D90BB4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BAE3-67B0-4E08-BFD1-0333C2EE8347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F41F-3FED-41A9-BECD-9F6FE54E1BD2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1946-314A-4A34-8110-ECFF8CCDBADB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92C7-7EED-4FF5-A11A-520306608F23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B569-B5A6-4132-9417-810E6C218551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597A-6EC4-4E8C-B822-EC65D0DFA112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5829-D8C5-4FE3-BFD8-5B6E88F4A2DE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ED61-DF95-4B15-8645-5E86C3BD4909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C1B0-B957-44EB-9EF5-49ECD624D09F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634A-CFBD-437D-BD23-EF5F04C7B246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D0AE-9DDA-42A2-8EBF-2A43C17D7DB6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7E4D-3CA8-4EFA-98B1-0325659D9295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137D-EE8F-46AE-BBD0-334358307052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F979-5F9D-46F4-A14C-9A7A990C5A2C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FA8A-A72F-4CBC-9171-24A561F5EC41}" type="slidenum">
              <a:rPr b="0" lang="en-US" sz="13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A6176C-8D6C-441C-A095-AB89303CA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1D70B-158A-40FC-BF2E-61F8FBFB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C9C52-EB76-4649-8DC1-7D8FD573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3486B-CCC4-4546-8BEF-BC55EF46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EBD5E-3B22-46E9-B034-1451882E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09480" y="4572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B1E81-C91D-4D3E-B0DC-59C43E31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01141-F20E-4927-8735-A05C5207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0E761-2FED-43EA-AE75-077F9629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9993D-5BD1-4DD8-BF18-4CF479D2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E2007-FD0C-418B-9648-6D39CB60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99AA3-1549-4857-A8FB-778EFF52E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C8E38-4DF3-4EC9-82CC-3775C12AD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4572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1066680" y="152280"/>
            <a:ext cx="6870960" cy="1270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vert1"/>
          <p:cNvPicPr/>
          <p:nvPr/>
        </p:nvPicPr>
        <p:blipFill>
          <a:blip r:embed="rId3"/>
          <a:stretch/>
        </p:blipFill>
        <p:spPr>
          <a:xfrm>
            <a:off x="228600" y="990720"/>
            <a:ext cx="36360" cy="402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3" name="Group 56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4" name="Rectangle 2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5" name="Group 5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6" name="Line 3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Line 4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Line 5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Line 6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Line 7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Line 8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Line 9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Line 10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Line 11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Line 12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Line 13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Line 14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Line 15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Line 16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Line 17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Line 18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Line 19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Line 20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Line 21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Line 22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Line 23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Line 24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Line 25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Line 26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Line 27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Line 28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Line 29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Line 30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Line 31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Line 32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Line 33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34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Line 35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Line 36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Line 37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Line 38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Line 39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Line 40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Line 41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Line 42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Line 43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Line 44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Line 45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Line 46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Line 47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Line 48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Line 49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Line 50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Line 51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Line 52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Line 53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57240">
                  <a:solidFill>
                    <a:srgbClr val="cfdbf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Line 55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Group 61"/>
            <p:cNvGrpSpPr/>
            <p:nvPr/>
          </p:nvGrpSpPr>
          <p:grpSpPr>
            <a:xfrm>
              <a:off x="2880" y="887400"/>
              <a:ext cx="6654600" cy="2851200"/>
              <a:chOff x="2880" y="887400"/>
              <a:chExt cx="6654600" cy="2851200"/>
            </a:xfrm>
          </p:grpSpPr>
          <p:sp>
            <p:nvSpPr>
              <p:cNvPr id="99" name="Line 57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0" name="Line 58"/>
              <p:cNvSpPr/>
              <p:nvPr/>
            </p:nvSpPr>
            <p:spPr>
              <a:xfrm flipH="1" flipV="1">
                <a:off x="2880" y="3052800"/>
                <a:ext cx="5097240" cy="144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1" name="Line 59"/>
              <p:cNvSpPr/>
              <p:nvPr/>
            </p:nvSpPr>
            <p:spPr>
              <a:xfrm flipH="1" flipV="1">
                <a:off x="607680" y="1487520"/>
                <a:ext cx="6049800" cy="144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2" name="Arc 60"/>
              <p:cNvSpPr/>
              <p:nvPr/>
            </p:nvSpPr>
            <p:spPr>
              <a:xfrm rot="16200000">
                <a:off x="675360" y="136944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8" h="43200">
                    <a:moveTo>
                      <a:pt x="43198" y="21879"/>
                    </a:moveTo>
                    <a:cubicBezTo>
                      <a:pt x="43045" y="33698"/>
                      <a:pt x="33420" y="43199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1691" y="-1"/>
                      <a:pt x="21783" y="0"/>
                      <a:pt x="21875" y="1"/>
                    </a:cubicBezTo>
                  </a:path>
                  <a:path stroke="0" w="43198" h="43200">
                    <a:moveTo>
                      <a:pt x="43198" y="21879"/>
                    </a:moveTo>
                    <a:cubicBezTo>
                      <a:pt x="43045" y="33698"/>
                      <a:pt x="33420" y="43199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1691" y="-1"/>
                      <a:pt x="21783" y="0"/>
                      <a:pt x="21875" y="1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Group 6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04" name="Line 62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5" name="Line 63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1260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6" name="Arc 64"/>
              <p:cNvSpPr/>
              <p:nvPr/>
            </p:nvSpPr>
            <p:spPr>
              <a:xfrm rot="5400000">
                <a:off x="8092080" y="5317200"/>
                <a:ext cx="247320" cy="24948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249480"/>
                  <a:gd name="textAreaBottom" fmla="*/ 249840 h 249480"/>
                </a:gdLst>
                <a:ahLst/>
                <a:rect l="textAreaLeft" t="textAreaTop" r="textAreaRight" b="textAreaBottom"/>
                <a:pathLst>
                  <a:path fill="none" w="43198" h="43200">
                    <a:moveTo>
                      <a:pt x="21048" y="7"/>
                    </a:moveTo>
                    <a:cubicBezTo>
                      <a:pt x="21231" y="2"/>
                      <a:pt x="21414" y="-1"/>
                      <a:pt x="21598" y="0"/>
                    </a:cubicBezTo>
                    <a:cubicBezTo>
                      <a:pt x="33527" y="0"/>
                      <a:pt x="43198" y="9670"/>
                      <a:pt x="43198" y="21600"/>
                    </a:cubicBezTo>
                    <a:cubicBezTo>
                      <a:pt x="43198" y="33529"/>
                      <a:pt x="33527" y="43200"/>
                      <a:pt x="21598" y="43200"/>
                    </a:cubicBezTo>
                    <a:cubicBezTo>
                      <a:pt x="9775" y="43200"/>
                      <a:pt x="150" y="33696"/>
                      <a:pt x="-1" y="21875"/>
                    </a:cubicBezTo>
                  </a:path>
                  <a:path stroke="0" w="43198" h="43200">
                    <a:moveTo>
                      <a:pt x="21048" y="7"/>
                    </a:moveTo>
                    <a:cubicBezTo>
                      <a:pt x="21231" y="2"/>
                      <a:pt x="21414" y="-1"/>
                      <a:pt x="21598" y="0"/>
                    </a:cubicBezTo>
                    <a:cubicBezTo>
                      <a:pt x="33527" y="0"/>
                      <a:pt x="43198" y="9670"/>
                      <a:pt x="43198" y="21600"/>
                    </a:cubicBezTo>
                    <a:cubicBezTo>
                      <a:pt x="43198" y="33529"/>
                      <a:pt x="33527" y="43200"/>
                      <a:pt x="21598" y="43200"/>
                    </a:cubicBezTo>
                    <a:cubicBezTo>
                      <a:pt x="9775" y="43200"/>
                      <a:pt x="150" y="33696"/>
                      <a:pt x="-1" y="21875"/>
                    </a:cubicBezTo>
                    <a:lnTo>
                      <a:pt x="21598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2B6F-3D01-486D-BC4B-CB2E1644AFD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97000" y="1671120"/>
            <a:ext cx="8539200" cy="17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troduction:</a:t>
            </a:r>
            <a:br>
              <a:rPr sz="4000"/>
            </a:b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Why Take History and Systems in Psychology?  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2320" y="33480"/>
            <a:ext cx="449244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Verdana"/>
                <a:ea typeface="Arial"/>
              </a:rPr>
              <a:t>Social/Personality,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Verdana"/>
                <a:ea typeface="Arial"/>
              </a:rPr>
              <a:t>Development Education</a:t>
            </a: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American Journal of Orthopsychiatr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Cultural Diversity &amp; Ethnic Minority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Psych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Developmental Psych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Emot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Health Psych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Journal of Educational Psych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Journal of Family Psych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Journal of Personality&amp; Social Psych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Psychology and Aging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Psychology of Men and Masculinit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Verdana"/>
                <a:ea typeface="Arial"/>
              </a:rPr>
              <a:t>Professional Issues,  Publi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Verdana"/>
                <a:ea typeface="Arial"/>
              </a:rPr>
              <a:t>Policy</a:t>
            </a:r>
            <a:r>
              <a:rPr b="1" lang="en-US" sz="1800" spc="-1" strike="noStrike">
                <a:solidFill>
                  <a:srgbClr val="40458c"/>
                </a:solidFill>
                <a:latin typeface="Verdana"/>
                <a:ea typeface="Arial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American Journal of Orthopsychiatr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Consulting Psychology Journal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Int. Journal of Stress  Management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Journal of Counseling Psych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Journal of Consulting &amp; Clinical Psych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Professional Psych: Research &amp; Practic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Psychological Assessment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Psychological Servic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Psychology, Public Policy, and Law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Prevention &amp; Treatment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4194000" y="0"/>
            <a:ext cx="495000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Verdana"/>
                <a:ea typeface="Arial"/>
              </a:rPr>
              <a:t>Theory, Reviews, Methodology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American Psychologist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Contemporary Psychology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Dreaming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Journal of Psychotherapy Integration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Psychological Assessment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Psychological Methods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Psychological Review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Psychotherapy: Theory/Research/Practice/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7520040" y="641664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RETUR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MAGE OF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Science and Conceptual Chang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How and why do psychological ideas about human nature change?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69120" indent="-585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What caused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sychodynamic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views of human nature rise and wane from 1920s to 1940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69120" indent="-585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ehaviorist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views of human nature quickly rose and fell as the scientific account for the discipline.  Why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69120" indent="-585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Why led to the rise and fall of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Humanistic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view of human nature from the 1960s to 1980s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69120" indent="-58536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What triggered the present pervasiveness of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neuro-science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ccount of  human nature? Will it last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MAGE OF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D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Science and Conceptual Chang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What process would you expect to underlie conceptual change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he Scientific Approach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: New ideas emerge out of evidence of  the inadequacy of old idea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he </a:t>
            </a:r>
            <a:r>
              <a:rPr b="1" i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Fashion</a:t>
            </a:r>
            <a:r>
              <a:rPr b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Approach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: New ideas emerge because, like fashion, novelty is intrinsically good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he Death and Replacement Approach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: Old ideas fade away as proponents of those ideas di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he Premium of the New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: New ideas in psychology are valued, even if not (yet) supported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Why Study the History of Psychology 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Reason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ext’s Reasons to study History of Psychology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9360" indent="-6037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erspective: Appreciate how ideas evolv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99360" indent="-6037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Deeper understanding: Realize the broader ideas underlying current issues in psycholog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99360" indent="-6037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ecognition of fads or fashions: Distinguish ideas valued for their social relevance rather than truth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99360" indent="-6037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voiding repetition of mistakes: Understand unproductive intellectual avenues.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99360" indent="-6037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 source of valuable ideas: Value old ideas which can become new again (e.g., unconscious)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99360" indent="-6037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uriosity: Identify with one’s discipline’s past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Why Study the History of Psychology 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Reason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5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ut there may be a 7</a:t>
            </a:r>
            <a:r>
              <a:rPr b="0" lang="en-US" sz="3000" spc="-1" strike="noStrike" baseline="30000">
                <a:solidFill>
                  <a:srgbClr val="40458c"/>
                </a:solidFill>
                <a:latin typeface="Times New Roman"/>
                <a:ea typeface="Times New Roman"/>
              </a:rPr>
              <a:t>th</a:t>
            </a:r>
            <a:r>
              <a:rPr b="0" lang="en-US" sz="3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Reason not in the textbook.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64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tudying the history of psychology will make you more aware of the myths of the discipline.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64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Like any institution socializing its young, undergraduate Psychology courses propagate of myths about the discipline. 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64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One myth may be the extent to which psychology is  a pure science, not different than physic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550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Underlying diversity in psychology is an uniformity of accepting the discipline as scientific.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64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s we will see in the class, the history presents a different story of this. 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Why Study the History of Psychology 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Keith Stanovich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tanovich’s </a:t>
            </a:r>
            <a:r>
              <a:rPr b="0" i="1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How to Think Straight about Psychology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s a defense of the discipline as scientific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79200" indent="-5914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sychologists share the common value of scienc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48920" indent="-517320"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cience is a way of thinking about and observing the universe that leads to a deeper understanding of its workings (Stanovich, p. 8)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79200" indent="-59148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tanovich discusses three characteristics of scienc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48920" indent="-517320"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ystematic Empiricism: Evidence-based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48920" indent="-517320"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ublicly verifiable:  Ideas are open to scrutiny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48920" indent="-517320"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Deals with solvable problems:  Only testable idea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Why Study the History of Psychology 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 Sigmund Koch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Koch authored a respected history of the discipline then denied it was scientific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haracteristically, psychological events are multiply-determined, ambiguous in their human meaning, polymorphous (multiformed), contextually environed or embedded in complex and vaguely bounded ways, evanescent (temporary) and labile (unstable) in the extreme.”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sychology has been misconceived as a science or as any kind of coherent discipline devoted to the empirical study of human being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103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V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E COURSE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  Feature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544400"/>
            <a:ext cx="8458200" cy="531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his course is designed to help students understand the discipline in new way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tudents will learn about the assumptions underlying modern ideas in psychology (the Systems part) by exploring the conceptual origins and evolution of those ideas (the History part). 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he course runs backwards, tracing back contemporary ideas to previous ideas of earlier times and ultimately to a Greek!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t is my hope that the course will arm you will skills to perform an “archeology of psychological knowledge” and sharpen your critical thinking about the discipl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-812880">
              <a:buClr>
                <a:srgbClr val="660066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TRODUCTION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Question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Write a brief characterization of each of the following professionals: 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sychologist, Astrologist, Scientis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List the most interesting idea(s) in psychology you have encountered. 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deas you found exciting, surprising, or important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How do psychology theories change?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How and why did Psychodynamic, Behavioral, and Humanistic, and Cognitive views of human nature rise and fall over time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MAGE OF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Is Psychology Scientific?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s your image of psychologists like scientists? 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sychology has been defined in textbooks as the scientific study of the mind and behavio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o study people, psychologists, like other scientists, predict and explain behavio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s your image of psychologists and scientists different or the same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strologist predict and explain of behavior but not scientificall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n the eyes of psychology, astrology is a pseudoscien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s your image of psychologists and astrologists the same or different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MAGE OF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Is Psychology Scientific?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590400" indent="-533160">
              <a:lnSpc>
                <a:spcPct val="90000"/>
              </a:lnSpc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he discipline presents itself as scientific. 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990720" indent="-5335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sychologists see themselves as scientists and as very different than astrologis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590400" indent="-533160">
              <a:lnSpc>
                <a:spcPct val="90000"/>
              </a:lnSpc>
              <a:spcBef>
                <a:spcPts val="799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Even psychologists who work in clinics or hospitals often (although not always) see themselves as scientist-practitioner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590400" indent="-5331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sychologists are supposed to be practitioner-scientists like medical doctor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590400" indent="-5331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he activities of psychologists like doctors are based on the best scientific evidence, with no activities being performed without such evidenc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MAGE OF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A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Is Psychology Scientific?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uriously, Hergenhahn’s textbook defines psychology differently than the standard definition of psychology in textbooks!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sychology is defined by the professional activities of psychologists. (p. 2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Why would Hergenhahn define psychology in such a circular and non-standard manner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wo reason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Historical diversit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rofessional diversit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MAGE OF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Historic Diversity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he definition avoids fixing a permanent meaning of the discipline when viewing it historically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No single definition of psychology would apply in the history of the disciplin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istorically psychology was defined as study of the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psyche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, or mind; the spirit; consciousness; behavio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Historically, psychology has involved different activities historically than it does now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409760" indent="-6094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rofessional psychological activity has included examined responses to inkblots to identifying bumps on the head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29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MAGE OF PSYCHOLOGY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.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Professional Diversity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he definition acknowledges the range of backgrounds, approaches, and activities of psychologist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What do you think it means that we can not agree about what is interesting, exciting or important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Does it mean that psychology is in trouble because of the diversity of ideas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Guess how many divisions that there are in American Psychological Association?  (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Divisions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390680" indent="-5335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Guess how many journals American PA publishes? (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APA Journals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0" y="0"/>
            <a:ext cx="4444920" cy="71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1. Society for General Psycholog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2. Society for the Teaching of Psycholog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3. Experimental Psycholog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4. There is no Division 4 [more info]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5. Evaluation, Measurement, and Statistics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6. Behavioral Neuroscience and Comparative Psycholog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7. Developmental Psycholog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8. Society for Personality and Social Psycholog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9. Society for the Psychological Study of Social Issues (SPSSI)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10. Society for the Psychology of Aesthetics, Creativity and the Arts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11. There is no Division 11 [more info]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12. Society of Clinical Psycholog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13. Society of Consulting Psycholog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14. Society for Industrial and Organizational Psycholog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15. Educational Psycholog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16. School Psycholog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17. Society of Counseling Psycholog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18. Psychologists in Public Service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19. Military Psycholog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20. Adult Development and Aging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21. Applied Experimental and Engineering Psycholog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22. Rehabilitation Psycholog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23. Society for Consumer Psycholog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24. Theoretical and Philosophical Psycholog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25. Behavior Analysis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26. History of Psychology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4398840" y="0"/>
            <a:ext cx="474516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27. Society for Community Research and Act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28. Psychopharmacology and Substance Abuse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29. Psychotherap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30. Society of Psychological Hypnosis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31. State Psychological Association Affairs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32. Humanistic Psycholog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33. Mental Retardation and Developmental Disabilities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34. Population and Environmental Psycholog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35. Society for the Psychology of Women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36. Psychology of Religion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37. Child, Youth, and Family Services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38. Health Psycholog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39. Psychoanalysis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40. Clinical Neuropsycholog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41. American Psychology-Law Societ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42. Psychologists in Independent Practice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43. Family Psycholog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44. Society for the Psychological Study of Lesbian, Gay, and Bisexual Issues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45. Society for the Psychological Study of Ethnic Minority Issues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46. Media Psycholog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47. Exercise and Sport Psycholog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48. Society for the Study of Peace, Conflict, and Violenc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49. Group Psychology and Group Psychotherap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50. Addictions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51. Society for the Psychological Study of Men and Masculinit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52. International Psycholog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53. Society of Clinical Child and Adolescent Psychology</a:t>
            </a:r>
            <a:br>
              <a:rPr sz="1400"/>
            </a:br>
            <a:r>
              <a:rPr b="0" lang="en-US" sz="1400" spc="-1" strike="noStrike">
                <a:solidFill>
                  <a:srgbClr val="40458c"/>
                </a:solidFill>
                <a:latin typeface="Arial"/>
                <a:ea typeface="Arial"/>
              </a:rPr>
              <a:t>54. Society of Pediatric Psychology</a:t>
            </a: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RETUR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bf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0" y="0"/>
            <a:ext cx="4444920" cy="67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Verdana"/>
                <a:ea typeface="Arial"/>
              </a:rPr>
              <a:t>General Topic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American Psychologist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APA Monitor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Contemporary Psychology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Dreaming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European Psychologist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History of Psychology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Journal of Psychotherapy Integration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Psychological Assessment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Psychological Bulletin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Psychological Methods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Psychological Review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Psychology, Public Policy, and Law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Review of General Psychology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Verdana"/>
                <a:ea typeface="Arial"/>
              </a:rPr>
              <a:t>Basic Researc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Behavioral Neuroscience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Emotion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Journal of Abnormal Psychology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Journal of Comparative Psychology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Journal of Experimental Psychology: Animal Behavior Processes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Applied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General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Human Perception and Performance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Learning, Memory, and Cognition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Psychological Method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4194000" y="0"/>
            <a:ext cx="4950000" cy="59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Verdana"/>
                <a:ea typeface="Arial"/>
              </a:rPr>
              <a:t>Applied &amp; Practice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Clinician's Research Digest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Consulting Psychology Journal: Practice &amp; Research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Dreaming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Experimental and Clinical Psychopharmacology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Group Dynamics: Theory, Research, and Practice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Health Psychology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International Journal of Stress Management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Journal of Applied Psychology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Journal of Consulting and Clinical Psychology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Journal of Counseling Psychology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Journal of Educational Psychology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Journal of Experimental Psychology: Applied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Journal of Occupational Health Psychology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Neuropsychology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Professional Psychology: Research and Practice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Psychoanalytic Psychology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Psychological Assessment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Psychological Services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Psychology of Men and Masculinity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Psychotherapy: Theory/Research/Practice/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Rehabilitation Psychology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Verdana"/>
                <a:ea typeface="Arial"/>
              </a:rPr>
              <a:t>Prevention &amp; Treatment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16:44:57Z</dcterms:created>
  <dc:creator>kHoblit</dc:creator>
  <dc:description/>
  <dc:language>en-US</dc:language>
  <cp:lastModifiedBy>Eric Amsel</cp:lastModifiedBy>
  <cp:lastPrinted>2001-05-25T15:02:50Z</cp:lastPrinted>
  <dcterms:modified xsi:type="dcterms:W3CDTF">2011-08-22T18:29:54Z</dcterms:modified>
  <cp:revision>198</cp:revision>
  <dc:subject/>
  <dc:title>Stanovich Chap. 1</dc:title>
</cp:coreProperties>
</file>