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1C8-88C2-4769-9647-A45230383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0111-8548-4BDC-AF82-0BFE6503598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8B44-94DD-41FB-B335-AECD63C54C4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6D21-7126-4429-956D-CE2BA1F38E3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B2A1-B597-4D53-958F-4CC7E9AA5DD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3D95-1F5A-49C0-920C-CB6080A3D54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E712-D981-4D85-AD2E-47EDD64FA5F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588-3904-4FF0-A676-A24E2A4E6AB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E253-0094-4A32-9A9C-C4244FB23A0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DD62-A51B-493C-8BB2-B4B70D913BB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81F-8107-4C16-95B5-4A892F9549B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674F-C94E-4179-BC45-16DA903200B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28DA-4E04-4038-A9A7-5116CEC34D1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3A27-2659-44BC-BA7A-EC87630B3F4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49EA-03D6-488D-85BC-95ECC9A1D56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351A-1225-4296-A3C7-A950BE0E052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1AB8-8F59-446D-96CF-FCE2185FEA1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12EC-F85B-4A16-9AF6-93ED223DA5D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760-924A-45B6-9972-1A413187A90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E1D-3E5D-430E-A1A2-97AA41E5A7F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B749-B369-4AEE-B489-B1003072078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712-3CC6-4838-8E2B-F4F668B6D90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6CCB-DF5C-47FA-9855-6B5942D4801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9A64-5ABE-4FD2-A137-EB3408377A7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A745-52F3-435B-99E1-61535DADB1A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F457-94FD-4AD1-AAF5-F1FF9952E3D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359D-9FFB-4D79-8638-11E358E1D09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9AE1-335D-4C47-AC33-D780BDA7C89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0946-6B7C-4D69-8A42-28AAA91619A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025C-D322-49C8-B8A4-3029A612EAB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1F1-BF0D-4218-86C0-48BD46F2025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B4A6-B962-4769-BF2C-229D302328D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0F71F-4A84-4D74-85AC-D6F4ECB3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8A74B-D919-4DAF-B777-CD2E0E3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295EE-C064-4948-959F-0A57241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8EF6-F377-4C80-A963-064665FA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C71FA-78AB-43FE-BA58-05DFEA4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9B6B9-55E9-4006-ABEB-9ECDB63B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7B660-0331-4538-A9F9-585774C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79165-627E-446B-951C-AA32218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AD286-4C5B-4D55-B4CD-26B95DFA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9B763-211C-4C7B-A08E-74128FE9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AE409-4A5D-4919-969B-4C7F52D1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EEFB5-73A0-4FC7-8CD8-52049FB3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5DA-F27C-447A-9F08-F90D7862C3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Functionalism, the US brand of Psychology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James (1842- 191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agmat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belief that if an idea works, it is vali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dical empiric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l consistently reported aspects of human experience are worthy of stu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posed Wundt’s approach to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cifically challenged Wundt’s experiential not cultural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tral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ream of consciousne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sonal to the individu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inuous; cannot be divided up for analy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ways chang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lective; some events are selected for further consideration while others are no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ctional; purpose is to aid the individual in adapting to the environm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tral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udy of the Sel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ee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ponents of self (empirical self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terial self : Body, family, and all things own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ocial self: Self known by others; many social selv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piritual self : State of consciousness, one’s own subjective real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elf as a knower is the awareness of one’s empirical self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was among the first to examine self-este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tral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bits (instincts) are formed as an activity is repea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had a neurophysiological explanation of habit forma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ory of emo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t (stimulus) causes a bodily reaction/behavior, which is then experienced as an emo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36560" indent="-796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ce must assume determinism, including psychology, but for certain approaches, the assumption of free will might be fruitfu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pecula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 idea of an action precedes and causes that ac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most cases, ideas and actions flow immediately and automatically producing habitual or reflexive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r voluntary behavior, ideas of various behavioral possibilities are retained from previous experi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ecollection and selection (by mental effort) of a behavior is a prerequisite to voluntary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pecula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agmatism is the cornerstone of functional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s, thoughts, or beliefs must be judged by their consequenc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it works for the individual than it is appropriat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uth must be judged by its effectiveness in the situ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works is true for that circumsta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Hugo Münsterberg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ugo Münsterberg (1863 – 191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sagreed with James on many points regarding behavior and consciousne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ated that behavior causes ideas rather than ideas cause behavior as James had stat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one of if not the first applied psychologi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tudied clinical psychology and he wrote books on forensic psychology, and industri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6924600" y="243828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Mary Whiton Calki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ry Whiton Calkins (1863 – 193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ttended seminars with James and researched with Münsterber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omen could not enroll in Harvard so she unofficially took the Ph.D. exam but could not receive her degre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a paired-associate technique to study the influence of frequency, recency, and vividness on mem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self psychology, which was her major contribution to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34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 (1844 - 192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ests in childhood development and evolutionary theor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 president of APA and of Clar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earned his doctorate in psychology under William James at Harvard, after which he spent time at Wundt's la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1882 (until 1888) he is appointed Prof. of Psychology and Pedagogics at Johns Hopkins where he organized the first psychology laborat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unded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merican Journal of Psycho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7018200" y="2666880"/>
            <a:ext cx="2125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 (1844 - 192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luenced by Darwin’ evolutionary  and Haeckel's recapitulation theo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capitulation theory states that the development of an individual through their lifetime mirrors the evolution of the speci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l’s developmental ideas were greatly influenced by this theor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work in this area did much to stimulate educational psychology and start the child development movement in the U.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7018200" y="2666880"/>
            <a:ext cx="2125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arly psychology full of conceptual tension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’s laboratory in 1879 is an important date in the history of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haps as important is the 1890 publication of William James’ Principles of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predates Titchener’s Structuralism in the US and is best conceived as a competito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James’ book is often seen as the foundation of a new uniquely US approach psychological called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unctionalism and Structuralism seems to be the paradigmatic battle that Kuhn had talked abou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 (1844 - 192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l work on Adolescence is revolution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ins the phrase “Storm and Stress” to characterize adolesc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10800" indent="-5227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had several ideas about adolescence including ideas about sexual behavior, religious conversion, and sex-segregated school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lso believed that adolescence was a good time to study human instinctual makeup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ll also focused on the study of the end of the lifespa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018200" y="2666880"/>
            <a:ext cx="2125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267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responsible for inviting largely unknown Freud and Jung to visit and deliver lectures in early Sept,  1909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lliam James, James Cattell, William Stern, and E. B. Titchener were in the aud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202280" cy="308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Francis Sumner and Kenneth Clark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is Sumner (1895 -195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 Stanley Hall’s last Ph.D. stud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 African American psychologist and taught at Howard Univers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mner supervised Kenneth Clar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enneth B. (1914 - 2005) and Mamie P. Clark (1917-1983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Known for their 1940s studies using dolls to assess children's race attitud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work contributed to the Supreme Court ruling that racial segregation in public education was unconstitutio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951200" cy="2286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7086600" y="3581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rancis Sumne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7162920" y="4324320"/>
            <a:ext cx="1752480" cy="2095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7162920" y="638172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enneth Clar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Dewey (1859 –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philosopher, psychologist, and education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wey, along with Charles Sanders Peirce and William James, is recognized as one of the founders of the philosophical school of pragmatis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is also one of the founders of functional psych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was a leading representative of the progressive movement in U.S. schooling during the first half of the 20th centur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orked inder G. Stanley Hall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Dewey (1859 –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The Reflex Arc Concept in Psych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” begins functional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the three elements of the reflex (sensory processes, brain processes, motor response) must be viewed as a coordinated system directed toward a goal, usually related to the survival of the organis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tial in creating “progressive” education, which stated that education should be student-oriented and not subject-oriented and students should learn by do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Angell (1869 - 1949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sented the three major points of function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ctional psychology is interested in mental operations, not conscious eleme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ntal processes mediate between the needs of the organism and the environment. Mental functions help the organism surviv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d and body cannot be separated, they act as a unit in an organism’s struggle for surviv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7086600" y="2971800"/>
            <a:ext cx="19051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arvey Carr (1873 - 195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cause learning is a major tool used in adjusting to the environment, it was a major concern of functional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r proposed the adaptive act, which has three compon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motive that acts as a stimulus for behavior (such as hunger or thirst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environmental setting or the situation the organism is i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response that satisfies the motiv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858000" y="2590920"/>
            <a:ext cx="214776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James Catte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M. Cattell (1860 - 194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1891 moved to Columbia University where he became Department Head of Psychology, Anthropology, and Philosoph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psychology should be applying its methods in all human activity because that is what humans do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ugh his many editorships and ownerships of journals (including Psychological Review), he advanced the discipline of psychology and particularly function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Robert S. Woodwort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bert S. Woodworth (1869-196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ested in what and why of people’s behavior, particularly moti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called his brand of psychology dynamic psych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formulated the symbols S-O-R to include the organism and particularly the organism’s motiv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text, Experimental Psychology, remained the standard text in experimental psychology for two decad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323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E. L. Thorndik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. L. Thorndik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orndike studied animal behavior true to functionalism’s use of various method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imal research in psychology helped by Conwy Morgan’s (1894) can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603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In no case may we interpret an action as the outcome of the exercise of a higher psychical faculty, if it can be interpreted as the outcome of the exercise of one which stands lower in the psychological sc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garet Floy Washburn (1908) published several books and articles on animal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157880" y="2819520"/>
            <a:ext cx="1833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Psychology in the 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haskin’s (1975) History of US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one: moral and mental philosoph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included topics such as ethics, divinity, and philosoph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learn psychology was to learn the accepted theology of the da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ce of Samuel Johnson and John Lock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two: intellectual philosoph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ecame a separate discipline and US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ced by the Scottish common sense philosophers of Thomas Reid and William Hamilt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E. L. Thorndik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. L. Thorndik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sed the apparatus called a puzzle box to study trial-and-error learning using ca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bserved the sequence of learning resulting in cats learning to escape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made the following conclusion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earning is incremen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earning occurs automatically without being mediated by think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me principles of learning apply to all mammal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157880" y="2819520"/>
            <a:ext cx="1833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E. L. Thorndik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. L. Thorndik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’s first learning theo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bines associationism and hedonism and consists of the laws of exercise and of effec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w of effect states  associations followed by a “satisfying state of affairs” are strengthened and by  “annoying state of affairs” it will be weakened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w of exercise states that the more an association is practiced, the stronger it becom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orndike went on to abandon the law of exercise and discarded the second part of the law of effec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157880" y="2819520"/>
            <a:ext cx="1833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Psychology in the 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haskin’s (1975) History of US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three: the U.S. Renaiss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ecomes an empirical science and by the late 1880’s there is an uniquely US tak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ublishing of John Dewey’s textbook, the first issue of the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American Journal of Psycholo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James’s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rinciples of Psychology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(1890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egan emphasizing individual differences, adaptation to the environment, and practica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four: function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ce, emphasis on the individual, and evolutionary theory combined into the school of functional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Function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 understanding of psychological processes by their casual relations to one another and to sensory inputs and behavioral outpu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ver a well-defined schoo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 not have one recognized leader or an agreed-on method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mon themes, however, ran through the work of whose calling themselves functional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pposed the elementarism of structur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jected the reduction of psychological processes into basic elem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Function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cus was to understand the function of the mi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cus was not upon a description of its attribu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function was to aid the organism in adapting to its environm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 practical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ired to be a practical science and findings to the improvement of the human condi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search on many participa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rticipants included animals, children, and abnormal humans and the use of any methodology that was usefu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Function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erned with “why” of mental process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led directly to an interest in moti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ccepted both mental processes and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oth accepted as legitimate for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terested in individual differenc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interested in individual differences among organisms than similarit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fluenced directly or indirectly by William Jam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lliam James was strongly influenced by Darwin’s theory of evolu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James (1842- 191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orn American and was the brother of author Henry Jam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rote influential books on the science of psychology, educational psychology, psychology of religious experience and mysticism, and the philosophy of pragmat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taught the first experimental psychology course at Harvard in the 1875-1876 academic yea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James (1842- 191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rinciples of Psych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(1890) is 1200 pages in 2 volumes which took 12 years to complet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y: The Briefer Cours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was an 1892 abridgement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iticized Associationsim and Hegelianism as having no explanatory valu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sought to re-conceive of the human mind as inherently purposive and selecti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 Eric Amsel</cp:lastModifiedBy>
  <cp:lastPrinted>2001-05-25T15:02:50Z</cp:lastPrinted>
  <dcterms:modified xsi:type="dcterms:W3CDTF">2009-02-15T00:49:38Z</dcterms:modified>
  <cp:revision>448</cp:revision>
  <dc:subject/>
  <dc:title>Issues and Theories</dc:title>
</cp:coreProperties>
</file>