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ACD8-E5F5-4FF0-B761-949503B45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441A-334D-49FB-A697-74D20A4DF7F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9DF-2732-45D6-92CB-071333DF51E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295E-1FE3-4D67-90BB-AC390B41A01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6B1-AC3A-4A3E-AE8D-2D19056FFE4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B43-6754-4A03-A938-D460BF76FEC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854-FC35-4D3D-91F2-986B218452A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6DB2-BDD9-45A0-A83C-362FF56269D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86BF-6BCF-48E4-88A8-B34FFAB5FBC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B32-4DF4-473E-A501-A6354FCD3CF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0CD-F1E7-48FC-8D14-667969EF40D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4D9-277B-442A-A46E-795C4BBC905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715-93E6-4211-8756-FA87E9D310F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892-A136-4205-9F91-99F72F7ED1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079-CB6A-4F7B-92C1-A5F2CA7DE57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07C-967E-4F07-B90A-00C92CF1DDF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A75-9548-49C0-B25D-E0040B15DC1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03E-A637-4666-91DD-F414E861CA3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795-3982-461C-AEDD-53A6712421E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47B-ACB7-4371-805B-B180C813D52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2C6-4932-4EC8-AB81-21A07479AA4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07DF-1EDA-4F11-A8BA-FA79C0E2BE1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7F3-4C57-4E57-9DAE-4D0A7AE2588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41E-591B-4FB8-B239-A191A19B03D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E6F-8A5A-4DF1-BA31-A3A3F5E6B4E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BC3-D4CA-4035-96B6-C9D076E7E64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0AA-D846-4068-9B62-6BDD8512F67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E6E-6C07-40D3-9187-FB622C48FBB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0F11-2564-4540-B36B-1A4D470AB07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40F8-F39D-4918-9327-0E8ABF67FE9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3E11-FFF5-4871-ABB4-A3909ED2256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CAF-C69B-4BC6-BA2C-6B1B096196E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BA0-A7AF-4D97-8CBD-2D363851819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0A6-6FA7-4B18-B32B-6599007720C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43AF-53E6-41BA-9E72-28B17EF1E28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A65A-2B9D-4D2B-B293-007ACE2895C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5C7-AA03-42E2-B7A3-91B130BA64C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6697-5AF7-40DA-8E03-B823906CB11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5F1C5-2C71-4A00-BFE9-860EF0D2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4321-E32F-4AD6-B639-8AC2791D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4E3BD-3EC5-4AB7-A58D-1E1EB95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CD5E-E672-41E7-AC04-D0A4C14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DDB4-9D49-42DC-9964-25D3CD93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172D2-FD00-47E5-A09B-7879D8C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75738-1549-43FC-90DD-77A353D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DDC1-1350-4A2E-8924-EFD1A5B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6E950-0861-4738-8A87-4A1909C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1AAB-4C2C-4D37-AC83-28FC8822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40A58-E0D1-4F03-9145-C8274AA0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1D82-6DE2-4509-A0E1-DCF3D6B9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8BF-BB63-4260-99F3-BCA8508653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rman_idealis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0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Darwinian Influence and the Rise of Mental Testing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an Lamarck (1744 -1829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proponent of the idea that evolution occurred and proceeded in accordance with natural law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heory of inheritance of acquired characteristics stated that environmental changes during the lifetime of the organism resulted in structural changes in plants and animal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changes would be passed on to the offspring, which in turn enhanced their chance for surviva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692760" y="2895480"/>
            <a:ext cx="245124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bert Spencer (1820 –190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pencer applied his view of evolution to everything in the universe, including the human mind and societ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evolution, differentiation occurs and systems become increasingly complex and move toward perf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ined the phrase, “survival of the fittest, which was later used by Darwin as a key explanatory concept in evolu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ncer-Bain principle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cation of evolutionary theory to selection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the probability of a behavior occurring in the future is a function of whether it is followed by a pleasurable event or a painful ev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rnerstone of Behaviorism (Thorndike and Skinner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propensities for various behavioral responses could be passed to offspring (Lemarkia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rvival of the fit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ed to societies and entities within societies (business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entities evolve and those which are “more perfected”, survive and those, which do not, do not surviv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cial Darwin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atible with the capitalism and individualism in the US at th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natural forces were allowed to operate freely, societies and individuals would approximate perf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ngerously misconceived Darw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olution not perfected progr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The 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Darwin (1809 – 1892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b.12th was his 20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irthda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f 6 children of a wealthy society doctor and financ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 a student he was interested natural hist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1828, as Cambridge student he became a friend of botany professor and naturalist John Stevens Henslow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nslow nominated Darwin as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gentleman naturalist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d travel companion to Robert FitzRoy on the HMS 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eag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048440" y="2209680"/>
            <a:ext cx="209556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Voyage of the Beagl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voyage of the Beagl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uring the 5-year expedition, he was to collect artifacts supporting Biblical cre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ing the voyage he collected hundreds of specimens and made hundreds of observa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lso read the book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rinciples of Geology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ich made him start doubting the Biblical accou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6324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Voyage of the Beagl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voyage of the Beagl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th all of these observations, Darwin’s ideas of evolution were in their infancy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ading Malthus’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ssay on the Principles of Populatio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ided him with the mechanism/ principle to complete the formulation of the the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rinciple wa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Natural Sel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6324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Theory of Evolu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Natural Struggle for Surviv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01240" indent="-5972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offspring than can survive within a given environment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es variability results in individual differences in characteristics with some more conducive to the organism’s survival within 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articular environmental conditions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environmental pressure) than other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01240" indent="-5972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tness defined solely in terms of ability to survive and reprodu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t a progression toward perf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41120" indent="-597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volution just happens due to environmental pressur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Theory of Evolu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heory of Evolu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rwin’s writi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initial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n the Origin of Speci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referred to humans very litt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escent of Ma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kes case for humans being a product of evolu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xpressions of Emotions in Man and Animal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most directly related to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60480" indent="-5025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argues that human emotions are remnants of animal emotions that had once been necessary for survival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60480" indent="-5025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unched modern comparative psycholog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Impac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pac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heory was revolutiona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ll affects the thinking and research of social and biological scientists and philosophers today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the traditional view of human nature and our place in th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flict with the church due to Darwin’s estimates of the earth’s 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nuing debate with educators regarding the teaching of evolu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Perhaps the most important scientific theory in the 19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 Century is Darwin’s evolu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59: 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On the Origin of Species by Means of Natural Selection, or the Preservation of Favoured Races in the Struggle for Lif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68: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variation of animals and plants under domestic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71: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Descent of Man, and Selection in Relation to Sex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72: 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Expression of the Emotions in Man and Animal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We will consider the impact of evolution on psychology.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Impac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pac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all areas of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layed a significant role in the development of Functionalism (next lecture) and subsequently of Behaviorism (two weeks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volutionary Psychology has also used Darwin’s definitions to account for human social behaviors and cognitive process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Galton (1822 - 1911)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f-cousin of Darw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nglish, anthropologist, eugenicist, psychometrician, and statisticia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rst to apply statistical methods to study human differences and inheritance of intelligenc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unded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sychometric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the science of measuring mental faculties) an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ifferent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roduced use of questionnaires to collect data; Coined term eugenics and phrase "nature versus nurture;“ Developed correl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itability and Eugenic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tential for high intelligence was inheri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at the potential for high intelligence was inherited, but it must be nurtured by a proper environ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is contributed to the nature-nurture controvers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idence of inheritance of human abilities led to his advocating of eugenics, or selective breed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ought the government should support marriages of desirabl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veloped the “anthropometric laboratory”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in response to his desire to measure the individual differences among huma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llected data on more than 9,000 huma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sensory acuity was related to intelligence and could therefore be used as a means to measure intellig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ata analytic techniqu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lly examined loads of data using scatter plots to observe the correlation between variab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thematical formulation for the correlation coefficient later developed by Pear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also observed a regression toward the me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states that data points on a particular variable will tend to cluster around the mean for that characteristic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ibutions of Galton:  A list of firsts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udy of the nature-nurture ques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se of questionnaires in resear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se of word-association tes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nduction of twin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udy of image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velopment of correlational technique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 theory gave rise to testing of individual differences in mental abiliti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onic that a theory of the origin of the species as a whole has a legacy of individual differ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elligence testing is probably one of the things that Psychologist can point to as evidence of scientific progres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metrics remains an viable part of modern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metrics is the field of study concerned with the theory and technique of educational and psychological measurement, which includes the measurement of knowledge, abilities, attitudes, and personality trai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James McKeen Catt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Cattell (1860 – 194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ent of Wund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early Galtonian-type tests in the U.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tests used measure of basic processes of mind developed in Leipzi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lational analysis indicated little relation among the tests and little correlation between the tests and success in colle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ith these negative findings, the interest in mental testing fad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22543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 Alfred Bine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lfred Binet (1857 – 1911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psychologist who explored complex, higher-order processes that vary by ag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the Binet-Simon (with Theodore Simon) intelligence sca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was a valid means to distinguish between normal children and those with mental deficienci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net believed that intelligence was diverse set of abilities rather than one overarching abil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57400" cy="228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William Ster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Stern (1871 – 193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Stern introduced the term mental age and a new formula for the intelligence quoti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Q = MA/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lieved that mental orthopedics could prepare disadvantaged children for school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orthopedics consisted of exercises that improve a child’s will, attention, and discipli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se abilities were ones Binet thought were necessary for effective educ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162920" y="2590920"/>
            <a:ext cx="169524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late 18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nd 19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entury is full of ideas of change, progress, and develop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ability and permanence of thought and ideas of the middle ages gave way to dynamic views of change, progress, and develop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me of these ideas aare premised on the perfecting notions of transforma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ideas are inspired from the industrial revolution (which changed everything) and the Enlighten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ilosophical movement of the 17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nd 18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centuries emphasizing scientific rationality and human freedom (French and American revolution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Charles Spea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Spearman (1863 -194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factor analysi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complex statistical technique based on correlations between elements (questions) which identifies a set of related elements or factor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ased on factor analysis he proposed a two-factor theory of intellig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wo-factor theory consists of a specific factor and a general factor (G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927840" y="2590920"/>
            <a:ext cx="206388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Charles Spea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Spearman (1863 -194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conclusions about the nature of intelligence are important for three reason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emphasized the unitary nature of intelligence in contrast to Binet’s emphasis on divers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arman viewed intelligence has being largely inherited, which Binet rejected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arman’s conception of intelligence was embraced by the new testing movement in the U.S. rather than Binet’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927840" y="2590920"/>
            <a:ext cx="206388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F. Cyril Bu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yril Burt (1883 – 197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rt is known for his studies on the effect of heredity on intellig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“research findings” caused a scandal in the area of heritability of intellig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rt was accused of having fabricated and falsified his data on intelligence testing for which he was later acquitted in the court of scientific opin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reditary basis of IQ verified by twin studies and adoption stud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 Henry Goddard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nry Goddard (1866 -195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nslated the Binet-Simon scale into Englis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the relationship between family background and intellig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oddard and several leading scientists urged that those with mental deficiencies be sterilized and/or segregated from the rest of societ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ates actually passed sterilization laws which continued until 1970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is also led to the mental testing of immigrants, which in turn was very controversi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policy led to an increase in deport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945480" y="2590920"/>
            <a:ext cx="2122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 Lewis Te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ewis Terman (1877 – 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12400" indent="-603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ed the Binet-Simon into the Stanford-Binet te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7960" indent="-502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verage score for children of different ages to be 100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12400" indent="-603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ended that intelligence was largely inheri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7960" indent="-5025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greed with many of the ideas of Goddar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ducted a longitudinal study on gifted children that continued for more than 80 year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primary results were: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The gifted child becomes a gifted adul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 Robert Yerk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Yerkes (1876 -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computation of IQ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organized the testing program for the army in World War I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Army Alpha test for literate people and the Army Beta for those who were illiter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llowing WWI intelligence level was deteriora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Yerkes, Goddard, and Terman claimed problem due to immigration and “intellectually inferior” people were reproducing at a faster rate than normal or above-normal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 Robert Yerk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Yerkes (1876 -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computation of IQ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organized the testing program for the army in World War I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Army Alpha test for literate people and the Army Beta for those who were illiter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llowing WWI intelligence level was deteriora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Yerkes, Goddard, and Terman claimed problem due to immigration and “intellectually inferior” people were reproducing at a faster rate than normal or above-normal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Modern Views of IQ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mains some tension in the modern view of IQ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of the one hand, research supports IQ as a genetically determined (40% - 80%) basis of social mobi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rrnstein &amp; Murray’s (1994)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ell Curve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erted many of the claims of psychologists of a generation earli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the other hand, research recognizes a critical role played by  early experience and education in IQ and its develop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ch research was the basis of Head Start in the 1960s and continues to be considered one of the most successful social progra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uguste Comte (1798-1857)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philosopher and founder of sociology and positiv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sitivism:  only authentic knowledge is that based on actual sense exper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ciety undergoes three phases in its quest for the truth according to the universal Law of three stag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ological: God reigns supreme over human existenc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taphysical: A time steeped in logical rationalism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sitive: Individual rights are more important than the rule of any one perso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013520" y="2362320"/>
            <a:ext cx="213048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org Wilhelm Friedrich Hegel (1770 –183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, and one of the creators of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German ide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dialectic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integrated and developmental account of the relation of mind and natu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manifested itself in contradictions and oppositions that is ultimately integrated and united without eliminating either pole or reducing it to the oth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ster/slave dialect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051680" y="3200400"/>
            <a:ext cx="209232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Marx (1818 –1883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, credited as the founder of political Commu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x argued that capitalism, like previous socioeconomic systems, will produce internal tensions which will lead to its destru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alectical materi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le of chang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ust as capitalism replaced feudalism, communism will in its turn replace capitalism and lead to a stateless, classless socie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r Charles Lyell (1797 - 187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ottish lawyer and was the foremost geologist of his da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shed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lti-volum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les of Ge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from 1830 to 1833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ubtitle was "An attempt to explain the former changes of the Earth's surface by reference to causes now in operation"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Uniformitarianism, that the earth was shaped entirely by slow-moving forces still in operation today, acting over a very long period of tim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hallenged the geological reality of Noah’s Flood and other biblical event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20368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Robert Malthus (1766-183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nglish political economist and demographer who wrot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Essay on the Principles of Popula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populations size and food supply were kept in balance by events such as war, starvation, and diseas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umed that natural events could and do select who will survive and have children and who will not surv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98144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arly Greek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lato and Aristotle both had a form of evolutionary ideas, but neither one truly believed in evolu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ristian thought added the idea of the divine cre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the 18th and early 19th century, several prominent people were postulating a theory of evolution—including Darwin’s grandfath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at was missing from these early theories was a mechanism to account for the theor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09-02-15T01:37:11Z</dcterms:modified>
  <cp:revision>419</cp:revision>
  <dc:subject/>
  <dc:title>Issues and Theories</dc:title>
</cp:coreProperties>
</file>