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6"/>
          </p:nvPr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257480" y="720360"/>
            <a:ext cx="4789440" cy="359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7"/>
          </p:nvPr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8"/>
          </p:nvPr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54C6-9F82-45A2-90D4-63692F243F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225D-A76F-4A5F-B0DA-341F818F2A53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2855-D1D2-45B0-966B-FFBBC316F53D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A894-C34E-4530-908C-6D8A8D4F9083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51EA-CDED-4976-B000-89CBD7D77DF6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AF98-5534-4ACD-AFC2-82658485B631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6BFF-697A-4217-8E96-013760826E55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6809-E5FC-4CEE-B112-26E1C7A70555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F2C9-3F0D-4978-A554-ECBAF014D955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B2C9-274A-49D5-A04E-98751C14EF3B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3A20-223C-4F96-B194-2955871DDA5F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FD55-85F2-4EA1-B357-71B3D39EB11A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F947-1AB0-41FD-B7BD-4B3E7ABA5655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608D-F4B0-4028-A09B-BE8FCD2FF670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264D-68F9-4A4E-B891-EEBBA106D2D0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4DB1-9240-482B-AC96-1A0BE4A56184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5976-5368-437A-94A1-34694DAAA0F0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3850-3444-4BBF-AC0E-DC651F265DE3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A75E-13C3-41B7-8FA8-8FF6CAFE2785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725C-8E69-48D3-803C-3A3A202D77AC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1134-8C11-46DB-B654-D40FC8E56B14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7549-E509-4186-9FA5-1FFA72F8F30A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2E94-B14D-4D90-871A-29F03B97D2CE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2AFA-A6E4-461E-9AA0-69D4BE07FEBB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75BD-AAC4-4AE5-96EA-7C18939B79EC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864C-4CB8-45E4-BEB0-26FC46A61FA0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E8ED-1D63-4A18-86E1-C088E21108C0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CDB8-642B-41C6-85CE-868BD3A714A4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435D-E69B-472E-8C6C-4146995FFBFB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0B88-412F-4741-91D8-33AEE402E29C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003E-08BF-45A5-9E65-09A67C24124E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4E7C-7F83-4543-BAEC-F501293058FD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6BE9B-F37B-43F5-80DE-B3FA57F3A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693ED-BB2C-4E12-B25F-2E6917F4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E27C9-B0FE-420D-B904-CBD65E7C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C039D-2EDB-4A5D-8FA0-4EC23AAF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8D35E-D7BF-4240-89F0-23A3EDDD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8055E-C59A-42AC-B1DE-9CB0AFF2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CF9D6-FCB5-4D14-BB8C-AE6B90EB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ACDDB-1ED9-4BAC-81CB-B281D989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D69A9-F9BD-4423-93EB-A6AE4AAF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80BD8-872E-433F-A6EF-5E1A10AB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49E9C-E608-4F64-9A69-732843146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93879-D044-482E-A0B0-DFD52B33D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1066680" y="152280"/>
            <a:ext cx="6870960" cy="1270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8" descr="vert1"/>
          <p:cNvPicPr/>
          <p:nvPr/>
        </p:nvPicPr>
        <p:blipFill>
          <a:blip r:embed="rId3"/>
          <a:stretch/>
        </p:blipFill>
        <p:spPr>
          <a:xfrm>
            <a:off x="228600" y="990720"/>
            <a:ext cx="36360" cy="402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3" name="Group 56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4" name="Rectangle 2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5" name="Group 5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6" name="Line 3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Line 4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Line 5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Line 6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Line 7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Line 8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Line 9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Line 10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Line 11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Line 12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Line 13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Line 14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Line 15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Line 16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Line 17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Line 18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Line 19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Line 20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Line 21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Line 22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Line 23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Line 24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Line 25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Line 26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Line 27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Line 28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Line 29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Line 30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Line 31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Line 32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Line 33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34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Line 35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Line 36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Line 37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Line 38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Line 39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Line 40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Line 41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Line 42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Line 43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Line 44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Line 45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Line 46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Line 47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Line 48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Line 49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Line 50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Line 51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Line 52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Line 53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Line 55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Group 61"/>
            <p:cNvGrpSpPr/>
            <p:nvPr/>
          </p:nvGrpSpPr>
          <p:grpSpPr>
            <a:xfrm>
              <a:off x="2880" y="887400"/>
              <a:ext cx="6654600" cy="2851200"/>
              <a:chOff x="2880" y="887400"/>
              <a:chExt cx="6654600" cy="2851200"/>
            </a:xfrm>
          </p:grpSpPr>
          <p:sp>
            <p:nvSpPr>
              <p:cNvPr id="99" name="Line 57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0" name="Line 58"/>
              <p:cNvSpPr/>
              <p:nvPr/>
            </p:nvSpPr>
            <p:spPr>
              <a:xfrm flipH="1" flipV="1">
                <a:off x="2880" y="3052800"/>
                <a:ext cx="5097240" cy="144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1" name="Line 59"/>
              <p:cNvSpPr/>
              <p:nvPr/>
            </p:nvSpPr>
            <p:spPr>
              <a:xfrm flipH="1" flipV="1">
                <a:off x="607680" y="1487520"/>
                <a:ext cx="6049800" cy="144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2" name="Arc 60"/>
              <p:cNvSpPr/>
              <p:nvPr/>
            </p:nvSpPr>
            <p:spPr>
              <a:xfrm rot="16200000">
                <a:off x="675360" y="1369440"/>
                <a:ext cx="247680" cy="249120"/>
              </a:xfrm>
              <a:prstGeom prst="pie">
                <a:avLst/>
              </a:prstGeom>
              <a:noFill/>
              <a:ln cap="rnd" w="1260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Group 6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04" name="Line 62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5" name="Line 63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6" name="Arc 64"/>
              <p:cNvSpPr/>
              <p:nvPr/>
            </p:nvSpPr>
            <p:spPr>
              <a:xfrm rot="5400000">
                <a:off x="8092080" y="5317200"/>
                <a:ext cx="247320" cy="249480"/>
              </a:xfrm>
              <a:prstGeom prst="pie">
                <a:avLst/>
              </a:prstGeom>
              <a:noFill/>
              <a:ln cap="rnd" w="1260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935F-CD18-4409-BE05-F44AB4ABD7A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Lecture 11:</a:t>
            </a:r>
            <a:br>
              <a:rPr sz="3600"/>
            </a:b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 Functionalism, the US brand of Psychology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UNCTIONALISM AT HARVARD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William Jam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William James (1842- 1910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ragmatism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belief that if an idea works, it is vali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adical empiricism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ll consistently reported aspects of human experience are worthy of stud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pposed Wundt’s approach to psycholog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pecifically challenged Wundt’s experiential not cultural psycholog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7086600" y="2514600"/>
            <a:ext cx="1905120" cy="2724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UNCTIONALISM AT HARVARD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William Jam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entral Idea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tream of consciousnes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ersonal to the individua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ontinuous; cannot be divided up for analysi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lways chang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elective; some events are selected for further consideration while others are no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Functional; purpose is to aid the individual in adapting to the environment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7086600" y="2514600"/>
            <a:ext cx="1905120" cy="2724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UNCTIONALISM AT HARVARD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William Jam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804600" indent="-8046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entral Idea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00600" indent="-80460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tudy of the Self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96600" indent="-80424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ree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omponents of self (empirical self)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2049120" indent="-80424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Material self : Body, family, and all things owne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2049120" indent="-80424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ocial self: Self known by others; many social selv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2049120" indent="-80424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piritual self : State of consciousness, one’s own subjective realit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596600" indent="-80424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self as a knower is the awareness of one’s empirical self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96600" indent="-80424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was among the first to examine self-esteem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7086600" y="2514600"/>
            <a:ext cx="1905120" cy="2724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UNCTIONALISM AT HARVARD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William Jam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796320" indent="-79632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entral Idea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88360" indent="-7963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abits (instincts) are formed as an activity is repeated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80400" indent="-7959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had a neurophysiological explanation of habit formation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88360" indent="-7963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ory of emotio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80400" indent="-7959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vent (stimulus) causes a bodily reaction/behavior, which is then experienced as an emotion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636560" indent="-796320"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cience must assume determinism, including psychology, but for certain approaches, the assumption of free will might be fruitful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7086600" y="2514600"/>
            <a:ext cx="1905120" cy="2724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UNCTIONALISM AT HARVARD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William Jam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6629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peculation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n idea of an action precedes and causes that action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n most cases, ideas and actions flow immediately and automatically producing habitual or reflexive behavi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or voluntary behavior, ideas of various behavioral possibilities are retained from previous experienc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recollection and selection (by mental effort) of a behavior is a prerequisite to voluntary behavio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7086600" y="2514600"/>
            <a:ext cx="1905120" cy="2724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UNCTIONALISM AT HARVARD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William Jam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peculation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ragmatism is the cornerstone of functionalism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ehaviors, thoughts, or beliefs must be judged by their consequence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f it works for the individual than it is appropriate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ruth must be judged by its effectiveness in the situation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hat works is true for that circumstanc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7086600" y="2514600"/>
            <a:ext cx="1905120" cy="2724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UNCTIONALISM AT HARVARD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Hugo Münsterberg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Hugo Münsterberg (1863 – 1916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isagreed with James on many points regarding behavior and consciousnes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tated that behavior causes ideas rather than ideas cause behavior as James had stated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e was one of if not the first applied psychologist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studied clinical psychology and he wrote books on forensic psychology, and industrial psychology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6924600" y="2438280"/>
            <a:ext cx="2143080" cy="31719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UNCTIONALISM AT HARVARD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. Mary Whiton Calkins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Mary Whiton Calkins (1863 – 1930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ttended seminars with James and researched with Münsterberg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omen could not enroll in Harvard so she unofficially took the Ph.D. exam but could not receive her degree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Developed a paired-associate technique to study the influence of frequency, recency, and vividness on memor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Developed self psychology, which was her major contribution to psychology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7010280" y="2438280"/>
            <a:ext cx="2133720" cy="34354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UNCTIONALISM AT CLARK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G. Stanley Hal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G. Stanley Hall (1844 - 1924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nterests in childhood development and evolutionary theory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First president of APA and of Clark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earned his doctorate in psychology under William James at Harvard, after which he spent time at Wundt's lab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n 1882 (until 1888) he is appointed Prof. of Psychology and Pedagogics at Johns Hopkins where he organized the first psychology laborator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Founded the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American Journal of Psycholog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7018200" y="2666880"/>
            <a:ext cx="2125800" cy="2895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UNCTIONALISM AT CLARK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G. Stanley Hal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G. Stanley Hall (1844 - 1924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9360" indent="-6037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nfluenced by Darwin’ evolutionary  and Haeckel's recapitulation theor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6640" indent="-5281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Recapitulation theory states that the development of an individual through their lifetime mirrors the evolution of the speci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99360" indent="-6037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all’s developmental ideas were greatly influenced by this theory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6640" indent="-5281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is work in this area did much to stimulate educational psychology and start the child development movement in the U.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7018200" y="2666880"/>
            <a:ext cx="2125800" cy="2895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Introducti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Early psychology full of conceptual tension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undt’s laboratory in 1879 is an important date in the history of psycholog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erhaps as important is the 1890 publication of William James’ Principles of Psychology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t predates Titchener’s Structuralism in the US and is best conceived as a competitor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James’ book is often seen as the foundation of a new uniquely US approach psychological called 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functionalis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unctionalism and Structuralism seems to be the paradigmatic battle that Kuhn had talked about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UNCTIONALISM AT CLARK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G. Stanley Hal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G. Stanley Hall (1844 - 1924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70560" indent="-5227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all work on Adolescence is revolutionar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62600" indent="-5227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oins the phrase “Storm and Stress” to characterize adolescenc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810800" indent="-52272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He had several ideas about adolescence including ideas about sexual behavior, religious conversion, and sex-segregated schools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362600" indent="-5227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also believed that adolescence was a good time to study human instinctual makeup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62600" indent="-5227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all also focused on the study of the end of the lifespan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7018200" y="2666880"/>
            <a:ext cx="2125800" cy="2895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UNCTIONALISM AT CLARK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G. Stanley Hal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2674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G. Stanley Hal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e was responsible for inviting largely unknown Freud and Jung to visit and deliver lectures in early Sept,  1909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illiam James, James Cattell, William Stern, and E. B. Titchener were in the audienc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4202280" cy="3087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UNCTIONALISM AT CLARK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Francis Sumner and Kenneth Clark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65534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rancis Sumner (1895 -1954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G Stanley Hall’s last Ph.D. studen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First African American psychologist and taught at Howard Universit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umner supervised Kenneth Clark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Kenneth B. (1914 - 2005) and Mamie P. Clark (1917-1983)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Known for their 1940s studies using dolls to assess children's race attitude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work contributed to the Supreme Court ruling that racial segregation in public education was unconstitutional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7086600" y="1371600"/>
            <a:ext cx="1951200" cy="22860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5"/>
          <p:cNvSpPr/>
          <p:nvPr/>
        </p:nvSpPr>
        <p:spPr>
          <a:xfrm>
            <a:off x="7086600" y="35812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Francis Sumner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7162920" y="4324320"/>
            <a:ext cx="1752480" cy="209556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7"/>
          <p:cNvSpPr/>
          <p:nvPr/>
        </p:nvSpPr>
        <p:spPr>
          <a:xfrm>
            <a:off x="7162920" y="6381720"/>
            <a:ext cx="17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Kenneth Clark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UNCTIONALISM AT CHICAGO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John Dewey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65534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John Dewey (1859 – 1952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9360" indent="-6037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merican philosopher, psychologist, and educationa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5360" indent="-603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Dewey, along with Charles Sanders Peirce and William James, is recognized as one of the founders of the philosophical school of pragmatism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5360" indent="-603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is also one of the founders of functional psychology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5360" indent="-603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was a leading representative of the progressive movement in U.S. schooling during the first half of the 20th century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5360" indent="-603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orked inder G. Stanley Hall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7086600" y="2514600"/>
            <a:ext cx="190512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UNCTIONALISM AT CHICAGO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John Dewey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65534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John Dewey (1859 – 1952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is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</a:rPr>
              <a:t>The Reflex Arc Concept in Psychology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” begins functionalism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oposed that the three elements of the reflex (sensory processes, brain processes, motor response) must be viewed as a coordinated system directed toward a goal, usually related to the survival of the organism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nfluential in creating “progressive” education, which stated that education should be student-oriented and not subject-oriented and students should learn by doing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7086600" y="2514600"/>
            <a:ext cx="190512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UNCTIONALISM AT CHICAGO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John Dewey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65534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James Angell (1869 - 1949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resented the three major points of functionalism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Functional psychology is interested in mental operations, not conscious element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ental processes mediate between the needs of the organism and the environment. Mental functions help the organism surviv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ind and body cannot be separated, they act as a unit in an organism’s struggle for survival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7086600" y="2971800"/>
            <a:ext cx="1905120" cy="2374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UNCTIONALISM AT CHICAGO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John Dewey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65534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Harvey Carr (1873 - 1954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ecause learning is a major tool used in adjusting to the environment, it was a major concern of functionalism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arr proposed the adaptive act, which has three component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 motive that acts as a stimulus for behavior (such as hunger or thirst)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n environmental setting or the situation the organism is in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 response that satisfies the motiv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6858000" y="2590920"/>
            <a:ext cx="2147760" cy="3313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V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UNCTIONALISM AT COLUMBIA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 James Cattel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65534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James M. Cattell (1860 - 1944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n 1891 moved to Columbia University where he became Department Head of Psychology, Anthropology, and Philosoph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oposed that psychology should be applying its methods in all human activity because that is what humans do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rough his many editorships and ownerships of journals (including Psychological Review), he advanced the discipline of psychology and particularly functional psychology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7010280" y="2438280"/>
            <a:ext cx="2133720" cy="27464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V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UNCTIONALISM AT COLUMBIA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 Robert S. Woodworth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65534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obert S. Woodworth (1869-1962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nterested in what and why of people’s behavior, particularly motivation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called his brand of psychology dynamic psychology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formulated the symbols S-O-R to include the organism and particularly the organism’s motivation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is text, Experimental Psychology, remained the standard text in experimental psychology for two decad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6781680" y="2362320"/>
            <a:ext cx="2210040" cy="3235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UNCTIONALISM AT COLUMBIA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 E. L. Thorndike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65534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E. L. Thorndik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9360" indent="-60372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orndike studied animal behavior true to functionalism’s use of various method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5360" indent="-603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nimal research in psychology helped by Conwy Morgan’s (1894) can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848240" indent="-6033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imes New Roman"/>
              </a:rPr>
              <a:t>In no case may we interpret an action as the outcome of the exercise of a higher psychical faculty, if it can be interpreted as the outcome of the exercise of one which stands lower in the psychological scal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5360" indent="-603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argaret Floy Washburn (1908) published several books and articles on animal psycholog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7157880" y="2819520"/>
            <a:ext cx="183384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Psychology in the U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haskin’s (1975) History of US Psycholog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tage one: moral and mental philosophy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sychology included topics such as ethics, divinity, and philosoph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o learn psychology was to learn the accepted theology of the day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nfluence of Samuel Johnson and John Lock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tage two: intellectual philosoph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sychology became a separate discipline and US psychology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nfluenced by the Scottish common sense philosophers of Thomas Reid and William Hamilton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UNCTIONALISM AT COLUMBIA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 E. L. Thorndike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65534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E. L. Thorndik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Used the apparatus called a puzzle box to study trial-and-error learning using cat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Observed the sequence of learning resulting in cats learning to escape.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e made the following conclusions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Learning is incrementa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Learning occurs automatically without being mediated by thinking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ame principles of learning apply to all mammal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7157880" y="2819520"/>
            <a:ext cx="183384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UNCTIONALISM AT COLUMBIA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 E. L. Thorndike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65534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E. L. Thorndik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sychology’s first learning theor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34960" indent="-5778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ombines associationism and hedonism and consists of the laws of exercise and of effect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784520" indent="-412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Law of effect states  associations followed by a “satisfying state of affairs” are strengthened and by  “annoying state of affairs” it will be weakened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1784520" indent="-412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Law of exercise states that the more an association is practiced, the stronger it becom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434960" indent="-5778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orndike went on to abandon the law of exercise and discarded the second part of the law of effect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7157880" y="2819520"/>
            <a:ext cx="183384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Psychology in the U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haskin’s (1975) History of US Psycholog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tage three: the U.S. Renaissanc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sychology becomes an empirical science and by the late 1880’s there is an uniquely US take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981080" indent="-60948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Publishing of John Dewey’s textbook, the first issue of the </a:t>
            </a:r>
            <a:r>
              <a:rPr b="0" i="1" lang="en-US" sz="2000" spc="-1" strike="noStrike">
                <a:solidFill>
                  <a:srgbClr val="40458c"/>
                </a:solidFill>
                <a:latin typeface="Times New Roman"/>
              </a:rPr>
              <a:t>American Journal of Psycholog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1981080" indent="-60948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James’s </a:t>
            </a:r>
            <a:r>
              <a:rPr b="0" i="1" lang="en-US" sz="2000" spc="-1" strike="noStrike">
                <a:solidFill>
                  <a:srgbClr val="40458c"/>
                </a:solidFill>
                <a:latin typeface="Times New Roman"/>
              </a:rPr>
              <a:t>Principles of Psychology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 (1890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sychology began emphasizing individual differences, adaptation to the environment, and practicalit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tage four: functionalism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cience, emphasis on the individual, and evolutionary theory combined into the school of functionalism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Functionalism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An understanding of psychological processes by their casual relations to one another and to sensory inputs and behavioral output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Never a well-defined schoo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id not have one recognized leader or an agreed-on methodology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ommon themes, however, ran through the work of whose calling themselves functionalist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Opposed the elementarism of structuralism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ejected the reduction of psychological processes into basic element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Functionalism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cus was to understand the function of the mind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00600" indent="-8046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ocus was not upon a description of its attribut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200600" indent="-8046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function was to aid the organism in adapting to its environment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A practical scienc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00600" indent="-8046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esired to be a practical science and findings to the improvement of the human condi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esearch on many participant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00600" indent="-8046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articipants included animals, children, and abnormal humans and the use of any methodology that was useful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Functionalism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804600" indent="-8046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oncerned with “why” of mental processe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56680" indent="-7041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is led directly to an interest in motivation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804600" indent="-8046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Accepted both mental processes and behavior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56680" indent="-7041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oth accepted as legitimate for psycholog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Interested in individual difference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56680" indent="-7041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ore interested in individual differences among organisms than similariti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Influenced directly or indirectly by William Jame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56680" indent="-7041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illiam James was strongly influenced by Darwin’s theory of evolu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UNCTIONALISM AT HARVARD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William Jam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William James (1842- 1910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orn American and was the brother of author Henry Jame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e wrote influential books on the science of psychology, educational psychology, psychology of religious experience and mysticism, and the philosophy of pragmatism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e taught the first experimental psychology course at Harvard in the 1875-1876 academic year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7086600" y="2514600"/>
            <a:ext cx="1905120" cy="2724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UNCTIONALISM AT HARVARD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William Jam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804600" indent="-8046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William James (1842- 1910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00600" indent="-80460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is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</a:rPr>
              <a:t>Principles of Psychology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(1890) is 1200 pages in 2 volumes which took 12 years to complet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96600" indent="-80424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Psychology: The Briefer Course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, was an 1892 abridgement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200600" indent="-80460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riticized Associationsim and Hegelianism as having no explanatory valu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200600" indent="-80460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e sought to re-conceive of the human mind as inherently purposive and selectiv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7086600" y="2514600"/>
            <a:ext cx="1905120" cy="2724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16:44:57Z</dcterms:created>
  <dc:creator>Eric Amsel</dc:creator>
  <dc:description/>
  <dc:language>en-US</dc:language>
  <cp:lastModifiedBy> Eric Amsel</cp:lastModifiedBy>
  <cp:lastPrinted>2001-05-25T15:02:50Z</cp:lastPrinted>
  <dcterms:modified xsi:type="dcterms:W3CDTF">2009-02-15T00:49:38Z</dcterms:modified>
  <cp:revision>448</cp:revision>
  <dc:subject/>
  <dc:title>Issues and Theories</dc:title>
</cp:coreProperties>
</file>