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8944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24F8-7C8F-4A1B-8F41-5FCBCE817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9FD4-6623-4D13-BEA9-0184F00A86E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0819-D8B7-4516-BDEB-7F47184BFED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083-D53E-4D19-8040-668AACA3CE1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17B5-9FD7-43C2-92AC-70BBB8D6663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514A-45E1-4876-A769-FD918027EBC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C01A-9130-4409-BA6D-B49DD5E1803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50AB-20FB-40D2-BD81-621E28F09AF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9292-F937-44C1-8D4A-407E6B2CCE6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B215-66AD-4F00-9FAD-5B850165EA8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DB4F-B9BE-400F-91E4-202EFDBB117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CB9E-D808-4788-ADCF-3E3D0566F2F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032A-F63D-414D-B7FC-528EEC179A3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295E-45F3-4006-94E4-28ABB940B4E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12DB-2439-4F93-8D8B-F695C236114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A9F0-1A29-4693-AC73-4647484986D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14FB-FB4E-40B8-8999-7B5C7DC4DC4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ED9-470C-4F2C-9ED7-D93CF818AB3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D839-4E7B-47ED-BB6D-90790119171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245A-FB3E-46D2-870E-86901C6E80E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66CC-41AC-4C4D-957C-CF00FF078B6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8DBA-DA04-46A3-A5D7-D2B77FBBB63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E907-D255-47A6-96D4-803013201B7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CC17-1100-4B9F-8E16-9023E84D6AA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AC41-5417-4D1B-89B9-75BB60CC7C6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78A0-28B9-4E17-9C1A-CB9AE756E16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7E4B-6B1D-42BD-963E-6604E307CE5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C2ED-0BC0-4BCC-881A-57C28904C60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27F1-8B05-4807-B0C4-AEEE2839E6B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BE10-1AC6-4241-9B23-E9473AED639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E7B4-7CB6-476B-B95E-06C4A7CC17B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69A9-0827-4759-A7A6-4A92D83ABD2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E27D-96E1-4472-9320-C68F68C50F4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9ABB-3C35-4531-826A-77F7473A0DE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A68D-B7D6-4CF0-A753-1361DFDC6C0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B0C9-660F-49B7-9336-8693BBE8C10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6045-5CA6-4C1E-A548-705CAA52E7B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E5C-FA12-4912-BCCE-75F24C5AC3E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D9FE-80C5-40F6-A680-81508029D07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FF04-A21F-43E1-98F8-1497417AE8B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8753-A9BC-4FE6-BFF9-31D35F959D8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0A23-A3BC-47E8-9A25-9473FD4DB52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6911-D304-4AA2-96C1-E0FB84389E8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D0B4-33F0-444D-953F-9F7D5B60AF5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6A30-7CAE-4E7F-833D-224556941D1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FE939-77C6-4E12-8A82-150C91CE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A6DAA-0E2F-4E45-8AE0-B87DD806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74740-8D12-4173-A8D8-2E33849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9361E-EA48-4D82-A780-A476E522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7E7EC-18BF-4339-8462-75B6A884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FC801-CC02-4F90-BC4F-5726ADC3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282C1-6FDD-4C2A-BC74-CBD869B6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3D5FB-E3DF-4D74-97A2-8408F0C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4B20-79E6-4FEA-8121-51FD0C0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08D6A-63B5-471D-8BCD-CBF27907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5E7F4-2D80-478D-BC1D-B12CD83F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EBA24-265E-445E-800F-C6E13827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A475-4910-46DB-966F-9175C252A7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rancesco-Petrarc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co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co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0/Holbein-erasmu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0/Holbein-erasmu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brwesleyan.edu/depts/history/history%2520website/Hayden-Roy/Martin%2520Luther.jpeg&amp;imgrefurl=http://www.nebrwesleyan.edu/depts/history/phr.html&amp;usg=__YEIVUs21yjFY4PBkmzIyUUDy7os=&amp;h=700&amp;w=479&amp;sz=72&amp;hl=en&amp;start=3&amp;um=1&amp;tbnid=vnY0EEZ5FbbYqM:&amp;tbnh=140&amp;tbnw=96&amp;prev=/images%3Fq%3DMartin%2BLuthur%26hl%3Den%26rls%3Dcom.microsoft:en-us%26rlz%3D1I7GGLL_en%26sa%3DN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brwesleyan.edu/depts/history/history%2520website/Hayden-Roy/Martin%2520Luther.jpeg&amp;imgrefurl=http://www.nebrwesleyan.edu/depts/history/phr.html&amp;usg=__YEIVUs21yjFY4PBkmzIyUUDy7os=&amp;h=700&amp;w=479&amp;sz=72&amp;hl=en&amp;start=3&amp;um=1&amp;tbnid=vnY0EEZ5FbbYqM:&amp;tbnh=140&amp;tbnw=96&amp;prev=/images%3Fq%3DMartin%2BLuthur%26hl%3Den%26rls%3Dcom.microsoft:en-us%26rlz%3D1I7GGLL_en%26sa%3DN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tolemaeu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tolemaeus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Aristarchos_Samos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Nikolaus_Kopernikus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0/Giordano_Bruno_Campo_dei_Fiori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ohannes_Kepler_1610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2/Da_Vinci_Vitruve_Luc_Viatour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commons/7/73/God2-Sistine_Chapel.png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upload.wikimedia.org/wikipedia/commons/c/c4/PalaOddiRaffaello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rancesco-Petrarc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6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The Beginnings of Modern 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Science and Philosophy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Francesco Petra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58672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esco Petrarc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trarch  desired a more personal religion based on the Bible, personal faith, and feeling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aught that God wanted humans to use their capabilities to actualize potential, and thus make the world bette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kepticism toward all dogma paved the way for the development of modern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Picture 2" descr="http://upload.wikimedia.org/wikipedia/commons/thumb/8/8b/Francesco-Petrarca.jpg/150px-Francesco-Petrarc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09680"/>
            <a:ext cx="2514600" cy="38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iovanni Pico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78520" indent="-522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iovanni Pico (1463 - 149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is famed for events of 1486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t age of 23, he proposed to defend 900 theses on religion, philosophy, natural philosophy and magic against all comer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was basis for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Oration on the Dignity of Man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which has been called the "Manifesto of the Renaiss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is a key text of Renaissance human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2" name="Picture 2" descr="http://upload.wikimedia.org/wikipedia/commons/thumb/4/4e/Pico1.jpg/200px-Pico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362320"/>
            <a:ext cx="278136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8672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84280" indent="-5277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iovanni Pic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ico proposed that only humans have capacity for chan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an choose instinctual, sensual lives and become brutis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r exercise rationality and intelligence and become more angelic and Godlik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rgued that all philosophical views were reconcil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ltimately in agreement and all should be studied and assimilated into the Christian worldview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Picture 2" descr="http://upload.wikimedia.org/wikipedia/commons/thumb/4/4e/Pico1.jpg/200px-Pico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362320"/>
            <a:ext cx="2781360" cy="33526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Giovanni Pico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Desiderius Erasm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siderius Erasmus (1466 -153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posed fanatic belief in anyth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riticized the classics, claiming that anything created by humans was inherently imperfec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ttacked all forms of superstition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ired people to take lessons from simple life of Jesus instead of the pomp and circumstance of the Church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8" name="Picture 2" descr="File:Holbein-erasm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189160"/>
            <a:ext cx="2590560" cy="3668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Desiderius Erasm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5562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siderius Erasmu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s generally critical of excesses of all kinds, both within the Catholic Church and the protestant religio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 wrote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The Praise of Foll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attacked the church, philosophers, and nobil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criticisms may have led to Martin Luther’s actio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1" name="Picture 2" descr="File:Holbein-erasm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189160"/>
            <a:ext cx="2590560" cy="3668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Martin Luth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(1483-1546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sisted on an intensely personal religion (each person is answerable only to God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emphasized ritual and church hierarch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itiated the Reformation in 1517 by nailing ninety-five Theses to the door of the church in Wittenber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ad progressive ideas about sex and marriag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4" name="Picture 2" descr="http://tbn0.google.com/images?q=tbn:vnY0EEZ5FbbYqM:http://www.nebrwesleyan.edu/depts/history/history%2520website/Hayden-Roy/Martin%2520Luth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981080"/>
            <a:ext cx="236232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Martin Luth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71640" indent="-45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 free will as humans are servants to the will of Go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od is the only one who knows why evil exis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d Protestant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nied the authority of the Pop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ach person had the right to interpret the Bible for himself or herself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arly Protestantism was grim, austere, and unforgiv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insisted on accepting the existence of God on faith alon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understand God through reason was foolis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Picture 2" descr="http://tbn0.google.com/images?q=tbn:vnY0EEZ5FbbYqM:http://www.nebrwesleyan.edu/depts/history/history%2520website/Hayden-Roy/Martin%2520Luther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981080"/>
            <a:ext cx="236232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Michel de Montaign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chel de Montaigne (1533-1593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mous for his ability to merge serious intellectual speculation with casual anecdot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autobiography and his volum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ssa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contains some of the most widely influential essay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ntaigne had a direct influence on writers including Descartes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Emerson, Nietzsche, Rousseau, Asimov, and perhaps Shakespea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0" name="Picture 2" descr="Picture of Michel de Montaigne, author of Essays; sixteenth century French Literature"/>
          <p:cNvPicPr/>
          <p:nvPr/>
        </p:nvPicPr>
        <p:blipFill>
          <a:blip r:embed="rId1"/>
          <a:stretch/>
        </p:blipFill>
        <p:spPr>
          <a:xfrm>
            <a:off x="6553080" y="1447920"/>
            <a:ext cx="2438640" cy="390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. Michel de Montaign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84280" indent="-5277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chel de Montaign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lso proposed an extreme form of skeptic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man rationality caused most of human problem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34840" indent="-376920">
              <a:spcBef>
                <a:spcPts val="4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Animals lack rational powers, therefore are superior to humans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jected science as a means to attain reliable knowledge because scientific “truth” is in constant flux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34840" indent="-376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nsations are illusor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dn’t share optimism expressed by other Renaissance human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3" name="Picture 2" descr="Picture of Michel de Montaigne, author of Essays; sixteenth century French Literature"/>
          <p:cNvPicPr/>
          <p:nvPr/>
        </p:nvPicPr>
        <p:blipFill>
          <a:blip r:embed="rId1"/>
          <a:stretch/>
        </p:blipFill>
        <p:spPr>
          <a:xfrm>
            <a:off x="6553080" y="1447920"/>
            <a:ext cx="2438640" cy="390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Challenges to the Chu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 challenged church orthodoxy, as did the emergence of scienc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Upheavals in arts and humanities were mirrored in the science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naissance saw significant changes in the way the universe was viewed and the methods with which philosophers sought to explain natural phenomena.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[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most significant development was a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proces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for discovery, the scientific metho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enaissanc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om French meaning "rebir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t was a cultural movement that spanned roughly the 14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 to the 17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 centur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 beginning in Italy in the late Middle Ages and later spread to the rest of Europ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term is used loosely to refer to the historic era and the cultural movemen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ditionally, the Renaissance is viewed as a bridge between the Middle Ages and the Modern er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Challenges to the Chu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nce questioning of “truths” began, it escalated rapidl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urch scholars attempted to show that contradictions were only appar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ttempted to censor the challenges, but could not curb the tide of inquiry and skeptic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scientific method focused on empirical evidence and the importance of mathematic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new scientific method led to great contributions in the fields of astronomy, physics, biology, and anatom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Challenges to the Chu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cline in Church’s Authorit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rectly related to rise in spirit of inquiry and empirical observ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urch dogma replaced by that which it opposed the most: the direct observation of nature without theological consider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Reawakening of Objective Inquir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ral factors contributed to the reawakening of the spirit of objective inquiry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ceptance of reason and the examination of nature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as a means of knowing God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ork of the humanists recaptured the spirit of inquiry reflected in the classics, and in the human potential to act upon the world and change it for the bet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ther events contributed to the decline of Church authority and acceptance of objective study of natu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Reawakening of Objective Inquir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ral factors contributed to the reawakening of the spirit of objective inquiry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loration of Marco Polo from of central Asia and China (1271 - 1295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vention of moveable type by Gutenberg (1439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scovery of the New World by Columbus (1492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uther’s challenge to Catholicism (1517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gellan’s circumnavigation of the globe (1519 - 1522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tolem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udius Ptolemaeusm, known as Ptolemy (90 - 16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oman mathematician, astronomer, geographer and astrolo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a Geocentric system of the univers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arth is the center of all heavenly 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came part of Church dogma put man as center of the universe and cre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6" name="Picture 2" descr="http://upload.wikimedia.org/wikipedia/commons/thumb/3/36/Ptolemaeus.jpg/225px-Ptolemae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2209680"/>
            <a:ext cx="284508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tolem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udius Ptolemaeusm, known as Ptolemy (90 - 16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s a Roman mathematician, astronomer, geographer and astrolo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a Geocentric system of the univers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arth is the center of all heavenly 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came part of Church dogma put man as center of the universe and cre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Picture 2" descr="http://upload.wikimedia.org/wikipedia/commons/thumb/3/36/Ptolemaeus.jpg/225px-Ptolemae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2209680"/>
            <a:ext cx="284508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Aristarchus of Samo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ristarchus of Samos (310 BC – 230 BC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reek astronomer and mathematician, born on the island of Samos, in Greece. He was the first Gre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s the first man in general, to present an explicit argument for a heliocentric model of the solar syste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laced the Sun, not the Earth, at the center of the univers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2" name="Picture 2" descr="File:Aristarchos Samo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557360"/>
            <a:ext cx="2895480" cy="514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Nicolaus Copernic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icolaus Copernicus (1473 - 1543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the first astronomer to formulate a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scientifically-based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heliocentric cosmology that displaced the Earth from the center of the univer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On the Revolutions of the Celestial Spher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is regarded as the starting point of modern astronomy and the  beginning of the Scientific Revolu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Picture 2" descr="Portrait from Toruń, early 16th centu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9051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Giordano Bruno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iordano Bruno (1548 -160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alian philosopher and proponent of heliocentrism and than  infinitesimally large univer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sidered an early martyr for modern scientific ideas because he was burned at the stake as a heretic by the Inquisi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actual heresy was his religious not scientific belief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Picture 2" descr="File:Giordano Bruno Campo dei Fior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447920"/>
            <a:ext cx="288756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F. Johann Kepler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ann Kepler (1571 – 163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cepted heliocentric posi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explained the universe in a simple mathematical harmon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ved many of the mathematical details of the Copernican system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ticipated Newton’s concept of gravit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sisted that all mathematical deductions be verified by empirical observ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1" name="Picture 2" descr="A 1610 portrait of Johannes Kepler by an unknown artist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905120"/>
            <a:ext cx="271944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s a cultural movement, it encompassed: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based on classical sourc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development of linear perspective in pain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radual but widespread educational refor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nfluence of the cultural movement affected literature, philosophy, art, politics, science, religion, and other aspects of intellectual enqui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r us, the Renaissance indicates an interest in human beings, their activities, abilities, and capabiliti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 will explore Renaissance Art, Humanism, and Science and then spend some time with Rene Descar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G. Galileo Galilei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alileo Galilei (1564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164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alian physicist, astronomer, mathematician, &amp; philosoph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chievements: Improvements to the telescope and resulting astronomical observations, and support for Copernicus’ heliocentric cosmolog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ather of Modern Scie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lored kinematics: The motion of uniformly accelerated objects, taught in all physics class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Picture 2" descr="http://upload.wikimedia.org/wikipedia/commons/c/cc/Galileo.arp.300pix.jpg"/>
          <p:cNvPicPr/>
          <p:nvPr/>
        </p:nvPicPr>
        <p:blipFill>
          <a:blip r:embed="rId1"/>
          <a:stretch/>
        </p:blipFill>
        <p:spPr>
          <a:xfrm>
            <a:off x="6172200" y="2355840"/>
            <a:ext cx="283860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G. Galileo Galilei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alileo Galile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lained th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mathematical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reality that existed beyond the world of appearanc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rrected misconceptions about the world and heavenly bodi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sed scientific observations to exemplify physical laws and then followed by using mathematical deduction to describe the law, and thus, the univers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Picture 2" descr="http://upload.wikimedia.org/wikipedia/commons/c/cc/Galileo.arp.300pix.jpg"/>
          <p:cNvPicPr/>
          <p:nvPr/>
        </p:nvPicPr>
        <p:blipFill>
          <a:blip r:embed="rId1"/>
          <a:stretch/>
        </p:blipFill>
        <p:spPr>
          <a:xfrm>
            <a:off x="6172200" y="2355840"/>
            <a:ext cx="283860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G. Galileo Galilei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thematical studies allowed for distinction of objective and subjective reality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bjective realit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ists independent of an individual’s percep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cludes what later would be called primary qualities, including: Quantity, shape, size, position, and motion of objec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0" name="Picture 2" descr="http://upload.wikimedia.org/wikipedia/commons/c/cc/Galileo.arp.300pix.jpg"/>
          <p:cNvPicPr/>
          <p:nvPr/>
        </p:nvPicPr>
        <p:blipFill>
          <a:blip r:embed="rId1"/>
          <a:stretch/>
        </p:blipFill>
        <p:spPr>
          <a:xfrm>
            <a:off x="6172200" y="2355840"/>
            <a:ext cx="283860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H. Isaac Newt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saac Newton (1643 – 1727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nglish physicist, mathematician, astronomer, natural philosopher, alchemist, and theologia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idely considered one of the most influential men in human histo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9760" indent="-527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1687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rincipia Mathematica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is considered the most influential book in the history of sci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72640" indent="-527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ys the groundwork for classical mechanic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Picture 2" descr="File:Isaac Newton.jpeg"/>
          <p:cNvPicPr/>
          <p:nvPr/>
        </p:nvPicPr>
        <p:blipFill>
          <a:blip r:embed="rId1"/>
          <a:stretch/>
        </p:blipFill>
        <p:spPr>
          <a:xfrm>
            <a:off x="6248520" y="1930320"/>
            <a:ext cx="2819160" cy="400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H. Isaac Newt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4572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ce and Relig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wton wrote more on religion than he did on sci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1436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w the universe as a complex, lawful machine created by God  who set in motion, after which He ceased involvement (Deism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believed in a rationally immanent world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but saw evidence of desig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refused to take holy orders, and sacrament on his death b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6" name="Picture 2" descr="File:Isaac Newton.jpeg"/>
          <p:cNvPicPr/>
          <p:nvPr/>
        </p:nvPicPr>
        <p:blipFill>
          <a:blip r:embed="rId1"/>
          <a:stretch/>
        </p:blipFill>
        <p:spPr>
          <a:xfrm>
            <a:off x="6248520" y="1930320"/>
            <a:ext cx="2819160" cy="400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I.  Bac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is Bacon (1561 –162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based on induc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gued that science should only include facts of observ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intained that science should not include theories, hypotheses, mathematics, or deductive method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8800" indent="-4572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roposed methods of agreement, difference, and concomitant varia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dical empiricism was later called positiv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Picture 2" descr="File:Francis Bacon 2.jpg"/>
          <p:cNvPicPr/>
          <p:nvPr/>
        </p:nvPicPr>
        <p:blipFill>
          <a:blip r:embed="rId1"/>
          <a:stretch/>
        </p:blipFill>
        <p:spPr>
          <a:xfrm>
            <a:off x="6477120" y="1781280"/>
            <a:ext cx="248580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I.  Bac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aconian Scie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neralizations made from many observations, noting their similarities and differences, and used to describe event class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should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0200" indent="-44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vide useful information and improve the world for manki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0200" indent="-44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kinner and behavior analysis adopted the Baconian inductive method and the view that the main goal of science is to improve the human condi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Picture 2" descr="File:Francis Bacon 2.jpg"/>
          <p:cNvPicPr/>
          <p:nvPr/>
        </p:nvPicPr>
        <p:blipFill>
          <a:blip r:embed="rId1"/>
          <a:stretch/>
        </p:blipFill>
        <p:spPr>
          <a:xfrm>
            <a:off x="6477120" y="1781280"/>
            <a:ext cx="248580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I.  Bac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aconian Scie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r sources of error that could hinder scientific investigation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ols of the ca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82320" indent="-37692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Personal biases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ols of the trib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82320" indent="-37692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Human nature bias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ols of the marketplac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82320" indent="-37692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Too much influence of meaning assigned to words (verbal labels)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dols of the thea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82320" indent="-37692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Blind allegiance to any viewpoint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5" name="Picture 2" descr="File:Francis Bacon 2.jpg"/>
          <p:cNvPicPr/>
          <p:nvPr/>
        </p:nvPicPr>
        <p:blipFill>
          <a:blip r:embed="rId1"/>
          <a:stretch/>
        </p:blipFill>
        <p:spPr>
          <a:xfrm>
            <a:off x="6477120" y="1781280"/>
            <a:ext cx="248580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e Descartes (1596- 165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a French philosopher, mathematician and scientis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s the father of modern Philosophy.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editations on First Philosoph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is a standard text in philosophy departmen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cartes was also influential in ma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is accredited as the father of analytical geomet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8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dita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ught to devise a system of explanation that could not be question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ductive Meth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7280" indent="-591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termine that which was certain and then deduce other certaint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7280" indent="-591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ough self analysis, determined that some ideas are innate (natural components of the mind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7280" indent="-591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nate ideas were unity, infinity, perfection, axioms of geometry, and Go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1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Renaissance A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Art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naissance art evolved realistic linear perspectiv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rt of a wider trend towards realism which also involved studying light, shadow, and, famously human anatom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was renewed desire to depict the aesthetics of natu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en in works by DaVinci, Michelangelo, and Rapha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2" name="Group 7"/>
          <p:cNvGrpSpPr/>
          <p:nvPr/>
        </p:nvGrpSpPr>
        <p:grpSpPr>
          <a:xfrm>
            <a:off x="5334120" y="533520"/>
            <a:ext cx="3641760" cy="6181560"/>
            <a:chOff x="5334120" y="533520"/>
            <a:chExt cx="3641760" cy="6181560"/>
          </a:xfrm>
        </p:grpSpPr>
        <p:pic>
          <p:nvPicPr>
            <p:cNvPr id="163" name="Picture 4" descr="File:Da Vinci Vitruve Luc Viatour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239240" y="2514600"/>
              <a:ext cx="173664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" descr="File:God2-Sistine Chapel.pn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482800" y="4953240"/>
              <a:ext cx="3433320" cy="17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8" descr="File:PalaOddiRaffaello.jp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334120" y="533520"/>
              <a:ext cx="185436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hilosoph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y virtue of the validity of rational processes, knowledge gained through the senses could be accepted because God, being perfect, would not and could not deceive u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nsory information had to be analyzed rationally to determine its valid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s a rationalist, a nativist (innate ideas), and a phenomenologist (introspectively study the nature of intact, conscious experience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4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nd - Bod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cartes suggested that the body works like a machin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has the material properties and follows the laws of physic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mind was described as a nonmaterial ent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acks material processes and does not follow the laws of physic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cartes argued that only humans have mind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7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nd - Bod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plained animals and humans employed mechanical principl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d the nervous system was a set of hollow tubes connecting the sense receptors with cavities in the brain (the ventricles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ntained animal spirits which flow through the nerves resulting in sensation and movemen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y explaining both animal and human behavior in terms of mechanistic principles and reflexes, he made the study of animals legitimat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0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ind - Bod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humans, the mind provided consciousness, free will, and rationalit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nonphysical mind and the physical body can influence each other, thus he was a dualist and an interactionis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determined that the mind influenced the body at the pineal gland in the brai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ind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J.  Rene Descart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tributions to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mechanistic explanations of behavior and many bodily functio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uld be said to have led to stimulus-response explanations and behaviorism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focus on the brain as an important mediator of behavio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Description of the mind-body relationship provided others the opportunity to support or refute i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died the bodies of animals as a means to understand the functioning of human 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ed to physiological and comparative psycholog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paved the way for the scientific study of consciousness.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6" name="Picture 2" descr="File:Frans Hals - Portret van René Descartes.jpg"/>
          <p:cNvPicPr/>
          <p:nvPr/>
        </p:nvPicPr>
        <p:blipFill>
          <a:blip r:embed="rId1"/>
          <a:stretch/>
        </p:blipFill>
        <p:spPr>
          <a:xfrm>
            <a:off x="6397560" y="2133720"/>
            <a:ext cx="2613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umanism was not a philosophy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per se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, but rather a method of learn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manism  is the movement to recover, interpret, and assimilate the language, literature, learning/ and values of ancient Greece and Rom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bove all, humanists asserted the genius of man and the unique and extraordinary ability of the human min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naissance Humanism v. Medieval Scholastic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dieval scholastics focused on resolving contradictions between authors of ancient texts, but humanists would appraise them through a combination of reasoning and empirical evid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umanist scholars shaped the intellectual landscape throughout the early modern perio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ved from more God-centered interests to more human centered interes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olitical philosophers such as Niccolò Machiavelli and Thomas Moore revived the ideas of Greek and Roman thinkers, and applied them in critiques of contemporary governmen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ologians, notably Erasmus and Martin Luther, challenged the Aristotelian status quo, introducing radical new ideas of justification and faith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terms ideas relevant to psychology, humans assumed to have reliable sensory systems and reasoning power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 had a focus o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dividu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concern for human potential and achievement.  The individual has the power to make a positive effec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sonal religion was a desire for a less formal, ritualistic relig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hasis on religion experienced personally rather than imposed upon people by the churc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nse interest in the works of the early Greek and Roman poets, philosophers, and politician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sire to read and study originals, not interpret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rsilio Ficino founded a Platonic academy in Flor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aissance Humanism had a focus o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ti-Aristotelian sentiment was prevalent among humanist scholar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nted to stop the Church’s practice of strict adherence to Aristotelian science and philosophy as the prime authority with the Bibl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combination of Aristotle’s philosophy and Christian theology, had created a complex set of rules, regulations, and beliefs that required blind acceptance to be a Christia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seem to be a movement to reinvigorate science which was Aristotle’s goal as an empiricis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RENAISSANCE HUMANISM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Francesco Petrar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58672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84280" indent="-5277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esco Petrarch (1304 - 137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1920" indent="-452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ny historians argue that his writings mark the beginning of the Renaissa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trarch wanted a freeing of the human spirit from the medieval tradit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cipally attacked Scholastic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d the classics should be studied directly as works of humans and not interpreted or embellished by other huma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6" name="Picture 2" descr="http://upload.wikimedia.org/wikipedia/commons/thumb/8/8b/Francesco-Petrarca.jpg/150px-Francesco-Petrarc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09680"/>
            <a:ext cx="2514600" cy="38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user</cp:lastModifiedBy>
  <cp:lastPrinted>2001-05-25T15:02:50Z</cp:lastPrinted>
  <dcterms:modified xsi:type="dcterms:W3CDTF">2011-10-27T16:20:45Z</dcterms:modified>
  <cp:revision>988</cp:revision>
  <dc:subject/>
  <dc:title>Issues and Theories</dc:title>
</cp:coreProperties>
</file>