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927-F71A-42D2-83C2-C2E1396EA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2B5-A2EF-4DC2-A115-36CE34FAD37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CB22-40CE-4131-80FA-06EDFD91514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B21-0441-411C-AFAC-05AE3AEE6EC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6D08-AD97-42E0-BBD0-D327E6913BE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7E35-6B21-4D03-B412-EE36C26EBE4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4B4-AF5E-4398-96F1-E328B27E464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EB1A-A835-4A7C-BDD0-8BEC8E41121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67B5-F971-41E0-B4B4-FE6608FBB2A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E19-252B-4102-A6C3-E738B3A438B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A8B-28DF-4248-A37B-7B03F0D36DC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F19-692B-45E8-8A59-773358F0195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EB0-30E1-4E6F-B27C-6E5E16A19B2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E22-E482-4336-A288-3D82770A12B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0F12-A009-44BC-8BA5-C8D1ACC65AB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E609-0911-4AD0-BE5B-5E7F7CF62D8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17B4-55AB-487B-BA9E-45836A344CE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27A6-1560-4DA8-9311-F67D42D15BB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3690-EC94-4CC9-BAC6-44482AC6A53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A7FD-2798-425F-8478-82227FFB550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C112-A388-4524-A6E5-0039404AC83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C4B8-1447-45A5-9A0D-DEA0321C736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5BC5-B36F-4CD7-9C2A-E094A35582E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2D1-703A-4B51-B3E4-1FDC788CD13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7C0-21E6-434E-9F30-D5687A1C2B1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451-7828-4DA7-9BE6-ABF25450F22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51B6-1A6B-4D8E-B151-61098259814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0D4-F099-448B-B182-7330373AB24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AFF1-1241-49D0-B1DB-7B10C0CCEB4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D57-C7E8-45F6-9C2F-B4DEA447849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905-36B3-46ED-BCFA-B183A8DCFE2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A27-7E72-4472-AC1F-738B08C9A8D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717-3749-4BAA-9199-E7574CCF495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FEE-E0BA-4BA2-8991-DA076B033F2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0E0D-B206-4990-8DF5-E3B377129CA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554-C53E-49B4-B5FF-6E5E4C4C71B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766-BB42-406E-87FA-0D13698A6A0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BF3-117B-4AC6-96D6-2DFFAA60A3E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1D0C-E384-4CF1-94D4-CDD22FE3D76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F707-DE61-4D5E-995E-358AC2B851C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8A92-32CC-4C2B-8BB7-E761C925123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494-A964-43AF-B3DA-7E700D4A003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0C847-A3E7-403B-9A46-B5E7BA34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37784-F79E-4A94-BF8F-919173B7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EF99-0F63-4596-AF7E-CBB8A572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CE7CE-426D-4155-AC8D-A1F24EF3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035B-A577-4FE9-A539-731E538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1F73-0D67-4354-9B35-71889AE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7CEA2-F444-45F6-8C54-9DCD561A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105BF-2090-4CE8-890F-0E28937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16030-C3F5-452F-8737-DEA9AD7B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70D0F-D3DB-4CE9-8692-B002460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C9D91-1D5E-4CC9-B648-C94101AC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58239-6B02-4958-8159-C38D483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DE05-2C98-4365-A61E-34341C0A17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1200240"/>
            <a:ext cx="853920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Lecture 3: 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aradigms and Contemporary Issues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49160" y="4035600"/>
            <a:ext cx="756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ow the Discipline’s Future can Explain its Past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The Present in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road progressive account connecting psychology’s past to its present is prematur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gets written about psychology’s past depends on whether or not the diversity, tensions, and new currents are ever reconcil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greater diversity and tensions introduced by new currents may force unification or more disun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e will consider whether psychology is on a pathway towards unification or disunit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account of psychology’s history may depend on how the future resolv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IVERSITY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State of the APA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merican Psychological Association (APA) is the national organization of psycholog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nded in 1892 with a handful of charter member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oday there are 85,000 members who can be registered in 54 divisions representing diverse areas of interests and specialt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history and present state of the APA reveals much about the disciplin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hostility among the different schools of thought in APA, reflecting a spirit of eclectic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IVERSTY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Tens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diversity of psychology also creates tensions which includ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versus Application in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focus on science vs. practice may be naturally irreconcilable in psychology due to personality and conceptual iss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tory of Clinical Psychology in the AP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has been a long tension between applied and scientifically oriented psychologists in the AP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raining of Clinicia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APA standard of scientist-practitioner training (Ph.D.) is being challenged by Psy.D. degre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Science vs. Applica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goals of science vs. application are antagonisti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lied psychologists focus on practicing psychology in order to heal or help people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tists are focused on testing ideas in order to prove them right or wro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in medicine, medical doctors who treat people are also biomedical scientist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t medical doctors and biomedical scientists may each accept the disease or medical model which is not universally shared in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Science vs. Applica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ensions between practitioners and sciences are old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om its inception, there was always a tension those wanting psychology to be a pure science (Wundt, Titchener) and those wanting psychological applied to practical matters (such as Hall, Cattell, and Münsterberg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founding of the APA did not decrease this tens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itchener refused to participate in any of APA’s activit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created his own organization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The Experimentalis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emperament differences between practitioners and scientific psychologist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(1907) divided philosophers int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Tender-mind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(Principled, Intellectualistic, Idealistic, Optimistic, Religious, Free-will, Dogmatic) tempera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acterizes members of the humanities (Snow, 198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Tough-minded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(Fact-based, Sensationalistic, Materialistic,  Pessimistic,  Irreligious,  Fatalistic,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keptical) tempera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racterizes scientists (Snow, 198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cause of the differences, communication between the two groups is challeng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ther differences between practitioners and scientists in psychology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imble (1984) found that experimental psychologists tend to be tough-minded and humanistic psychologists and psychotherapists tend to be tender-mind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awes, Faust, &amp; Meehl (1989) identified different ways clinicians and scientists make judgments and decision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nsider how you would prefer to be evaluated for a grade in the cours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jective judgments of the profess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bjective evaluation of course performance (tests, etc.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awes et al., (1989) characterized the difference in terms of the methods each prefers to make judgments and decision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al judgment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re performed in one’s head often using “intuitive knowledge”, “clinical impressions”, or “subjective reactions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ctuarial or Statistical judgments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t solely on empirical relations between data and the condition or event. No intuitions, impressions or reactions; just using data to make judgm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fferences found between the metho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oldberg (1972) found that clinical judgments were correct 62% whereas actuarial judgment were correct 70% of the time when making distinctions between psychosis vs. neurosi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 training the clinicians in the actuarial rules did not improve their performa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nicians’ were unreliable in their patterns of judgm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li &amp; Filskov (1970) studied the diagnosis of brain dysfunction based on intellectual test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tatistical judgments was correct 83% of new cases but clinicians were correct 63% (experienced) and 58% (inexperienced) of the new cases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y are clinical judgments worse than actuarial one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tuarial procedures, unlike clinical ones, always lead to the same conclusion for a given data se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actors as fatigue, recent experience, or seemingly minor changes in the ordering of information or in the conceptualization of the case or task can produce fluctuations in judgme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tuarial methods ensure that variables contribute to conclusions based on their actual predictive power and relation to the criterion of interes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tuarial decision rules eliminate the non-predictive variables, and weight predictive ones in accordance with their independent contribution to accurate conclus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sues and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ntemporary psychology is ambiguo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is diverse, with old tensions and new current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iversity: Psychology is broad tent of theories and approach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in many WSU departments other than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ld Tensions: The old tensions between scientific psychologists and those who are nonscientific or applied remai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y of Clinical Psychology very revealing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w Currents: New movements extend ideas but increase diversity and tension in the fiel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29840" y="1566360"/>
            <a:ext cx="8691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y clinical are worse than actuarial judg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ians often obtain little or no information about the accuracy of judgm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linicians often can not find out whether they are “right” and outcomes are easily distorted (Rosenhan, 197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this note, clinical judgments produce "self-fulfilling prophecies."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diction of an outcome often leads to decisions that influence or bias that outcome (32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ians are exposed to skewed samples making it difficult to determine relations among variabl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-occurrence of certain features (EEG abnormalities) in a skewed sample (only juvenile delinquents) does not make the feature a predictive of that sam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Practitioners vs.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29840" y="1566360"/>
            <a:ext cx="8691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452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nicians are over-confident about their clinical judg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1920" indent="-452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 shows that clinical judgments are made with more confident than their accuracy warrants (Dawes, 1998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aust et al., (1988) found that most clinicians were quite confident in their diagnosis although not one was correc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65920" indent="-452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 anti-actuarial claim is that group statistics don’t apply to single individuals or event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1920" indent="-452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though individuals and events may exhibit unique features, they typically share common features with other persons or events that permit predictive pow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y this logical, one would be willing to play Russian roulette with a gun having a single or multiple bulle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18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 America, mental illness was seen as an acute illness, curable if therapy was earl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60948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first mental asylum in the US was open in 1750s in Philadelph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ctice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al therap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hich involved individually tailored activiti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y mid 1950s, asylums (now state hospitals) were disbanded as they had became warehouses of failed patient manageme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60948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search to promote therapy and diagnosis in asylums began in the late 1880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 testing in asylums and out becomes popularized by J. M. Cattell &amp; R. Jastro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09480" indent="-60948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C marks the beginning of clinical psychology.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al Psychology 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ined in 1907 by Witner who also edited journal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y Clinic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spcBef>
                <a:spcPts val="55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 testing, specifically intelligence testing, by psychologists becomes widespread during WWI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reud and Jung visited Clark University in 1909 and gave lectures about Psychoanalysis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spcBef>
                <a:spcPts val="55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Ds believed that psychotherapy should be practiced exclusively by doctors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ocial movements brought attention to mental health issues (National Committee for Mental Hygiene)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al Psychology became a part of the American Psychology Association (APA) in 1919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578880" indent="-57888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A Founded in 1892 as a society to promote the science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0040" indent="-6757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linicians were not welcomed and later withdrew for a period of time, creating their own associ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0040" indent="-675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is not until 1944 that APA fully embraced clinical psychology, becoming responsible for clinicians’ credentialing and training require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393560" indent="-5792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reconcile with clinicians, APA changed its stated purpose to include psychology as a profession and a means of promoting human welfa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PA addressed its new responsibility for credentialing and training clinical psychologis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avid Shakow chaired an APA committee to create the curriculu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ommittee completed a report in 1947 which contained a set of undergraduate and graduate curriculum recommendations for clinical psycholog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1947 statement made clear that clinical psychology is “both a science and an art calling for scientific rigor tempered by personal and social sensitivity.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university Psych Depts. were reluctant of have APA control their curric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rvard, Columbia, and others still have Clinical Programs in their School of Education (Ed.D vs. Ph.D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 1949 meeting was held in Boulder Colorado to implement the new curriculum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akow and 73 others representing universities and other disciplines hammered out a set of specific proposals for the training and practice of clinical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resulting view of psychological practice was the Boulder (or Scientist-Practitioner) Mod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1528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agreed upon Boulder Model was designed to insure that clinical psychologists…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se scientific methodology in their practi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rk with clients using scientifically valid methods, tools, and techniqu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orm their clients of scientifically-based findings and approaches to their problems;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duct practice-based researc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re remains a split between psychologists oriented to clinical vs. scientific aspects of the discipline in the APA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42920" y="3174840"/>
            <a:ext cx="3927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A continued to evolve into an organization in which the applied members began to outnumber the research-oriented psychologis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905280" y="3216240"/>
            <a:ext cx="523872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History of Clinical Psycholog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 the past, it was the clinicians in APA who were unhappy, now it is the scientists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the 1960s, a group of scientific psychologists left the APA and formed their own organiz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sychonomic Socie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1989 another group of psychological scientists organized the APS (American Psychological Socie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PS is now called the Association for Psychological Sci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tension between practitioners and scientists is no better today as it was 120 years ago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Connecting Psychology Past to its Pres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contemporary picture looks nothing like it should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deally, contemporary psychology should be th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gressive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result of discipline’s histor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gressive means a philosophically rational process of conceptual chan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4" marL="1924200" indent="-6098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wer paradigms resolve anomalies of older on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general progressive account of the history of psychology has not been accep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3" marL="1467000" indent="-609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re are progressive accounts of local changes, which ironically may come from applied psychology (mental testing, diagnostic techniques, treatment outcomes) whose scientific status has been question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nicians have pushed back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ians have some not-so-kind thoughts about the value of the scientific training in the Boulder Mod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clinicians argue that same person should not be trained in applied &amp; pure wo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is no valid reason for clinicians to train in pure sc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y do little science once becoming clinicia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alent and interest in applied work is incompatible with talent and interest in scientific wor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cientist-practitioner model does not produce many scientist-practitioner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cientist-practitioner model may be the problem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is no evidence that handful of research courses in graduate school are sufficient to develop competent scient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inical- and science-oriented professors in Boulder Model schools do not value clinically oriented research (the topic of interest to clinical student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cientists think that the research lacks sufficient controls 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linicians think that controls that are exerted makes the research invali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t many scientist-practitioners in the profess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nicians do not dismiss science!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veryone agrees that clinical psychology need a solid background in the basic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ch background is trained in undergraduate and graduate psychology courses (Methods and Statistic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ever, the question is whether clinicians should conduct their own research as required by the schools employing the Boulder Mode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y distinguish between those who want to find generalities about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people (scientists) and those who want to help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person (humanist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me conclude that political forces (not sound reasons) was the cause of adding a research requirement to the Boulder Mode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 alternative to the Boulder model was first instituted at the University of Illinois in 1968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stead of a science-practitioner model, the alternative was a scholar-practitioner mod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1680" indent="-45720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model proposed training psychologists without the research require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ents of the  new model were ratified at a meeting in Vail Colorado in 1973,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71640" indent="-45720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Vail Model promoted a professional program like other discipli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ral features differentiate the Vail from Boulder model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ining is more strongly focused on clinical practice that either of the other two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programs usually grant a Psy.D. degree rather than a Ph.D. or Ed.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missions criteria may place more of an emphasis on personal qualities and clinically-related work experi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programs are housed in a greater variety of institutional settings than are research scientist or scientist-practitioner program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TENSION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The Ph.D. vs. Psy.D Degree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students interested in psychology is left to decide between two types of program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ifferent programs designate the scientist role (Ph.D.) from the practitioner role (Psy.D.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ceptance rate for students are higher in Psy.D. (40%) than Ph.D. (13%) program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.D. offers less financial assistance than Ph.D. programs and students graduate with more deb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ents in Ph.D. programs graduate later than students in Psy.D. progra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D graduates do not perform as well as PhD graduates on the Examination for Professional Practice in Psychology (EPPP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 Sources of New Idea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w ideas come into psychology a variety of places which include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echnological innov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technologies provide measurement accuracy and even metaphoric applic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 funding priorit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ew research open new investigations and theori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w intellectual traditio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can be from outside or inside psych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re has been some of each in the last couple of years in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Technological Innova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echnological changes include computer technologies and biomedical equipment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percomputing alternative to the serial compu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llel Distributive Processing models of cognition and reasoning became popular in the 1990s, which provide analogues of neural networks (Dual Process Theory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rain scanning and gene sequencing technologies provided new ways of examining biological basis of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RI and FMRI allow real time brain scanning of various activities to better understand mind body rel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ene sequencing allows for better understanding heritabi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 Funding Chang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w funding focus on Positive Psychology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sitive Psychology is the scientific study of the strengths and virtues that enable individuals and communities to thriv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earch on happiness and other positive emotions, resilience, living the good and meaningful lif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began in1998 when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Martin Seligman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, the father of the modern positive psychology movement,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ose it as the theme for his term as APA president and found financial support to promote researc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tension of the Humanistic and Phenomenological perspective in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W CURRENTS IN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 Intellectual Curr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stmodernism is a movement from the Social Sciences and Humaniti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stmodernism, or social constructionism, holds that “reality” is created by individuals and groups within various personal, historical and cultural contex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uth” is always relative to cultural, group, and personal perspectiv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ocio-cultural contextual view in psychology is largely based on  postmodern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Connecting Psychology Past to its Pres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account holds that there is a progressive sequence between three forces in psycholog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analysis: (First Force)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890 -1930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e all succumb to the will of an all powerful unconscious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haviorism: (Second Force)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30s -1960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s are like all other animals in being pawns of the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ism: (Third Force) 1960s -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s are naturally good and naturally strive to be the bes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TURES OF PSYCHOLOGY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 Issu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ow the diversity, tensions, and current trends of contemporary psychology are addressed will be a basis to define the pas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e the one hand, with greater diversity and tension, there is more of a opportunity to unify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enomenon-based inquiry will allow for the unity of multiple perspectives (Sternberg &amp; Grigorenko, 200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iopsychosocial models have address complex interactions between multiple incompatible variab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ical theories adopt different design stances so collectively they view human beings as multipurpos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29680" cy="10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TURES OF PSYCHOLOGY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 Issu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the future may hold greater disunit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me disunity trends accelerating: Separated psychology departmen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st would agree that psychology is still a fragmented collection of different facts, theories, assumptions, methodologies, and goal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James assessment in 1885 holds true today. This is not a science, only a hope for a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now, not all psychologists adopt a deterministic view of human beings, necessary for a unity-in-science view of the disciplin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Connecting Psychology Past to its Pres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other account holds a progressive relation between three paradigm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ism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879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orn as a science of consciousness using introspection (Wundt, Titchene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haviorism: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the science of mental life in favor of a science of behavior (Watson, Pavlov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gntivism: 195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cience of behavior for a computational (information-processing) science of mind (Lashley, Chomsky, Simon, Mille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eahey (1992) was skeptical that either sequence reflects a conceptual revolution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Behaviorist ascension in the early 1920s was not a fight against (or replacement of) another paradig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ultiple paradigms existed and flourished early in the 2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Centur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entalism (conscious min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unctionalism  (purposive action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analysis  (unconscious influenc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methodological not ontological debat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ven the changes in the 1960s may not reflect a paradigm shif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 Leahey, cognitism’s ascension represented mentalism’s marriage with behavioral issu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gntivism did not replaced behaviorism but represents continued basic work of mediated S – R mode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lso, old mentalism on such issues of sensation, perception, and attention was augmented with new work on language, reasoning, and decision-mak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istic psychology did not replace behaviorism but offered other treatment options than behavior modific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och (1982) was skeptical of the validity of any progressive model to account of psychology’s histor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1211400" y="3211560"/>
            <a:ext cx="6891120" cy="3335400"/>
            <a:chOff x="1211400" y="3211560"/>
            <a:chExt cx="6891120" cy="3335400"/>
          </a:xfrm>
        </p:grpSpPr>
        <p:pic>
          <p:nvPicPr>
            <p:cNvPr id="172" name="Picture 3" descr=""/>
            <p:cNvPicPr/>
            <p:nvPr/>
          </p:nvPicPr>
          <p:blipFill>
            <a:blip r:embed="rId1"/>
            <a:stretch/>
          </p:blipFill>
          <p:spPr>
            <a:xfrm>
              <a:off x="1222200" y="3211560"/>
              <a:ext cx="688032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5"/>
            <p:cNvSpPr/>
            <p:nvPr/>
          </p:nvSpPr>
          <p:spPr>
            <a:xfrm>
              <a:off x="1211400" y="3249360"/>
              <a:ext cx="23245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Problems with Conceptual Revolutio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e argued that any ordering of the history of psychology was “morally bankrupt.”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25480" y="2897280"/>
            <a:ext cx="7778880" cy="3222360"/>
            <a:chOff x="825480" y="2897280"/>
            <a:chExt cx="7778880" cy="3222360"/>
          </a:xfrm>
        </p:grpSpPr>
        <p:pic>
          <p:nvPicPr>
            <p:cNvPr id="177" name="Picture 2" descr=""/>
            <p:cNvPicPr/>
            <p:nvPr/>
          </p:nvPicPr>
          <p:blipFill>
            <a:blip r:embed="rId1"/>
            <a:stretch/>
          </p:blipFill>
          <p:spPr>
            <a:xfrm>
              <a:off x="836280" y="2915640"/>
              <a:ext cx="7759440" cy="32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6"/>
            <p:cNvSpPr/>
            <p:nvPr/>
          </p:nvSpPr>
          <p:spPr>
            <a:xfrm>
              <a:off x="825480" y="2897280"/>
              <a:ext cx="6611040" cy="40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7061760" y="5706720"/>
              <a:ext cx="1542600" cy="41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kHoblit</dc:creator>
  <dc:description/>
  <dc:language>en-US</dc:language>
  <cp:lastModifiedBy> Eric Amsel</cp:lastModifiedBy>
  <cp:lastPrinted>2001-05-25T15:02:50Z</cp:lastPrinted>
  <dcterms:modified xsi:type="dcterms:W3CDTF">2009-01-19T13:55:21Z</dcterms:modified>
  <cp:revision>507</cp:revision>
  <dc:subject/>
  <dc:title>Stanovich Chap. 1</dc:title>
</cp:coreProperties>
</file>